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BB3A-8F9B-4433-B6A3-3BF30E049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D856-5D3F-439C-8CEA-BF1E8ECC7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F836-F1DF-4520-BCB0-AE7B6B5CA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9DB3-0FFF-453E-B648-78F247709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253A7-C9E1-47EA-8F26-F3E5C7E90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33099-4DFA-4C2A-9C83-797A69BB3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E316F-2931-492A-8E55-5338C9BEC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6A9C5-072A-4449-AC7F-26051EDAB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572B1-C4F2-4B16-A7A4-7732B717F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FCC2F-E901-42B7-BE2D-CF9CBF66C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45D21-A308-4A80-9819-0A471C9FF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35F1-3AD3-4418-9DF2-10A1482C4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4889D-BBBF-45D2-BA89-67B26B92A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3E328-CCD4-4F19-8420-2645C48A2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D0D29-0443-4BE7-946B-5DCE67369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E00E5-4F30-4562-986D-08094433A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2F8FE-908A-4251-8BF6-DA72F4D52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1BC1-D5FE-4C6D-B265-F51E06B63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CD03-C92A-4F4F-BB67-D02F0EFF3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0F88-4E39-4009-BFF2-07732B627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98C1-EA61-44F9-88B9-889276A70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38C1-2C75-4F23-BF0A-462EA7E40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A2E9-9FB3-4C42-94A2-3C6D6AD9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01AE-580D-4C81-BC66-9704AF17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F7F6E-8F39-4125-AE40-51BD50049B0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AA697-8261-4292-A654-9343B6F7901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nl.wikipedia.org/wiki/Bestand:Bacillus_subtilis_Gram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siskennis bacteriolog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ondvorm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sporen van ziekteverwekken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teriologisch prepara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Gram positieve en negatieve bacterië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38080" y="3116160"/>
            <a:ext cx="3775320" cy="2216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756320" y="3036960"/>
            <a:ext cx="37749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rondvorm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2285640"/>
            <a:ext cx="426708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Coccus of ko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Dip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rept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afy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il of staa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2438280"/>
            <a:ext cx="40766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63280" y="863280"/>
            <a:ext cx="772164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psporen van ziekteverwekkende bacteriën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Bacteri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Microscopisc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Kweekproe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DNA-onderzoe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Resistentietes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Immun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Na vaccinatie ontstaat bij de grote meerderheid van de gevaccineerden anti-HBsAg, dit zijn antistoffen gericht tegen het hepatitis B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762440" y="2362320"/>
            <a:ext cx="37670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272400" y="9864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cteriologisch preparaat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icroscop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teriaal aanbrengen op objectgl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 aan de luch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xe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acteriën dod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echting materia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eleiwitten kapot, beter kleuropna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leu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oordel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micro (9K)"/>
          <p:cNvPicPr/>
          <p:nvPr/>
        </p:nvPicPr>
        <p:blipFill>
          <a:blip r:embed="rId1"/>
          <a:stretch/>
        </p:blipFill>
        <p:spPr>
          <a:xfrm>
            <a:off x="5105520" y="1943280"/>
            <a:ext cx="3276360" cy="2457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micro5 (8K)"/>
          <p:cNvPicPr/>
          <p:nvPr/>
        </p:nvPicPr>
        <p:blipFill>
          <a:blip r:embed="rId2"/>
          <a:stretch/>
        </p:blipFill>
        <p:spPr>
          <a:xfrm rot="9581400">
            <a:off x="2811600" y="3409560"/>
            <a:ext cx="2133360" cy="2144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micro3 (10K)"/>
          <p:cNvPicPr/>
          <p:nvPr/>
        </p:nvPicPr>
        <p:blipFill>
          <a:blip r:embed="rId3"/>
          <a:stretch/>
        </p:blipFill>
        <p:spPr>
          <a:xfrm>
            <a:off x="762120" y="137160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948920" y="834120"/>
            <a:ext cx="36651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voedingsbodem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methyleenblauw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 vor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van 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okke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9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98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98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98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Gram-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vorm van de bacterie en…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eigenschappen van de wand van de bacter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8760" y="250920"/>
            <a:ext cx="89852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met bacteriën behandelen met kristalviolet en jodi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Oplossen kristalviolet-jodium-verbinding door ethano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Nabehandeling met fuchsine of saffranine (rode kleurstof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bekijken onder de microscoo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9900cc"/>
                </a:solidFill>
                <a:latin typeface="Arial"/>
              </a:rPr>
              <a:t>paars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Gram-positief (verbinding niet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f60000"/>
                </a:solidFill>
                <a:latin typeface="Arial"/>
              </a:rPr>
              <a:t>rood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sz="2400" spc="-1" strike="noStrike">
                <a:solidFill>
                  <a:srgbClr val="003366"/>
                </a:solidFill>
                <a:latin typeface="Arial"/>
              </a:rPr>
              <a:t> Gram-negatief (verbinding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66"/>
                </a:solidFill>
                <a:latin typeface="Arial"/>
              </a:rPr>
              <a:t>Tevens onderscheid tussen staven en kokk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523880"/>
            <a:ext cx="731520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f60000"/>
                </a:solidFill>
                <a:latin typeface="Arial"/>
              </a:rPr>
              <a:t>Gram-nega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meningokokken (meningitis: hersenvlies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gonokokken (gonorro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E.coli 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yfus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9900cc"/>
                </a:solidFill>
                <a:latin typeface="Arial"/>
              </a:rPr>
              <a:t>Gram-posi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afylokokken (MRS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reptokokken (keel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pneumokokken (long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uberkelbacteriën (tuberculos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eroorzakers urineweginfectie meestal Gram-negatie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09:04:52Z</dcterms:created>
  <dc:creator>Haverkort</dc:creator>
  <dc:description/>
  <dc:language>en-US</dc:language>
  <cp:lastModifiedBy>Haverkort</cp:lastModifiedBy>
  <dcterms:modified xsi:type="dcterms:W3CDTF">2010-09-19T10:56:20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