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B1ACC-7472-42F2-B73B-CB80D9179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96644-BCD8-48D4-86B0-EBF1E2542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70738-BEAB-4E18-ACA3-5EA4183E3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1A194-47E6-4E6B-AA75-A572FB7C6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ACE5F-E3C4-4124-8363-51083F985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68DEB-6E6D-4FD3-AC3E-A1FD23710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9053F-0D6C-461F-AD4B-1566724C2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DE141-BA74-4F23-A8C2-81CD46603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18540-1EBA-4754-A7D4-70F879A74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CC1C3-A608-459B-A57B-1267409F2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38B9B-5E34-4A53-9E9A-E7CB3336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80CBF-C776-4292-B3FC-60ECFEC80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1B3EB-1610-44A4-BCC4-CA8268D3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BF29B-85D5-441D-840B-E900BA85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69923-D830-4687-9FF4-73132F808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B3267-2C86-4F1E-80B4-0D2B6EE25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8C66D-BF23-4227-BE27-4DC155C82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99382-60C0-4CA7-960E-7752F9917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A5658-23CA-4E93-B2D5-4C2D7F084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51F06-F96F-41CA-8A89-31954146E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FE380-D22E-4106-87AD-F189165EE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34069-6AB5-49A8-AD08-48DE01D6C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8136D-7280-4D12-8732-CE2DD4FFC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90991-E735-4F06-98A6-14D35D978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1A359-6307-43D6-A742-214DAC0E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4DCCA-FFC3-44DA-85A5-774BE01F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7912A-9B48-4DB6-915E-7C060CF6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5656B-A982-495E-A7A4-AC51BC5D8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8F454-2FC3-4ABF-A8B6-A0894E224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6C52E-AAE7-46F9-A1A2-FA8CE8AE8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F4488-1007-4B40-8131-15D918D3C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0CBE0-CD84-40CB-ACAF-AA0C9FD67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910CB-8299-4450-A922-70A1F9389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BD495-8814-43EF-9975-D7E2DB16F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2B180-E1AC-4A22-9976-F75222EDA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9F0C9-F36B-4907-ABEA-BF47047B1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1615B-3E58-4D37-B498-BE1A0A8A6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866A2-B085-4F8C-8AAD-13DE8166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B849A-6112-4A70-A0E6-318A2E77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76B29-DEB5-417C-84CD-B2007586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1A72E-E7B9-4985-BAD7-FA5E363E9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5820D-F068-4E4C-B852-6C4DF5628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B464A-2387-4282-B4BA-E9449239C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C032E-57B4-4A88-82FF-39A75338F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81BB4-3731-49AE-9453-0CC002723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C27EE-23C4-4DD1-A988-CF2BB135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9DA18-65C8-4090-9127-47DB540C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DE0D1-C934-4D12-968C-188B3CBB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76101-87E4-4DF2-BF7F-39233DA08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20169-2945-48EA-90EE-27B7DC563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030B0-966D-4148-A325-78AA06DF5C1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00E67-4746-4A42-AF8C-85B279B1580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57200" y="685800"/>
            <a:ext cx="73915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zwak zu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H te laag: veel eiwit, koorts, jicht, CA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H te hoog: urineweginfectie, hyperventila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Indicator verandert van kleur (mengindicato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Gebruik verse urine i.v.m. kans op foutief verhoogde 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ff"/>
                </a:solidFill>
                <a:latin typeface="Garamond"/>
              </a:rPr>
              <a:t>Semi-kwantitatief chemisch urineonderzoek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58760" y="250920"/>
            <a:ext cx="898524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Dip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nel inzicht in kiemgetal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iemgetal: aantal bacteriën per ml ur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 diagnose cysitis (blaas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beide zijden voedingsbodem met suikers, eiwitten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één kant groeien alleen Gram-negatieve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andere kant Gram-positieve én Gram-negatieve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Gram positieve en negatieve bacterie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57200" y="2814480"/>
            <a:ext cx="4038480" cy="2448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648320" y="2725560"/>
            <a:ext cx="4038480" cy="26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58760" y="250920"/>
            <a:ext cx="898524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beelden </a:t>
            </a:r>
            <a:r>
              <a:rPr b="0" lang="nl-NL" sz="2400" spc="-1" strike="noStrike">
                <a:solidFill>
                  <a:srgbClr val="ff0000"/>
                </a:solidFill>
                <a:latin typeface="Arial"/>
              </a:rPr>
              <a:t>Gram-negatiev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gonokokken (gonorro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E.coli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yfus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beelden Gram-positieve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stafylokokken (MRS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streptokokken (keel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neumokokken (long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uberkelbacteriën (tuberculo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oorzakers urineweginfectie meestal Gram-negatie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58760" y="250920"/>
            <a:ext cx="898524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Dip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bruik gewassen mid-stream ochtendurine (max. 2 uur oud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us voor urineren blaasuitgang wa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erste deel van de plas niet opva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 16-24 uur bij 37°C incuberen resultaat aflez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Gram-negatieve bacteriën/ml urineweginfe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minder da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/ml geen urineweginfe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usse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e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/ml test herha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09480" y="380880"/>
            <a:ext cx="769644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ierdrempel glucos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±10 mmol/l, indien hoger: glucosu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walitatieve bepaling door teststrook (redoxreactie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lucose + 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 + G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gluconzuur +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indicator + P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2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 + 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kleuromsl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914400" y="457200"/>
            <a:ext cx="7696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iwit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eiwitvri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Eiwit in urine: proteïnurie of albuminu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van belang voor diagnostiek van nierziek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Kwalitatieve bepaling door teststrook of troebelingsrea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eststrook: aanwezig eiwit (zure urine)verkleurt de zuur-base indicator, geel -&gt; (licht) gro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roebelingsreactie: koken in zuur milieu geeft troebeling (kookproef  van Ba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914400" y="609480"/>
            <a:ext cx="7238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Nitri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j urineweginfecties door E.coli, Klebsiella e.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st alleen voo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itrietvormen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verige bacteriën aantonen d.m.v. dipslide en/of sedi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j voorkeur verse ochtendurine gebrui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romatisch amine + nitrie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roze-rod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14400" y="914400"/>
            <a:ext cx="6934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Leukocy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ontstekingen van urinew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eucocytenesterase splitst stof teststrookje, kleuromslag beige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lauw-violett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ststrook alleen gevoelig voor granulocy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5800" y="914400"/>
            <a:ext cx="7924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rythrocyten e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bloedingen en ontstekingen in urinew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 H2O2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2 H2O + O2 o.i.v. pod activiteit h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cator + O2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lauwe/groene 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voeligheid voor vrij Hb hoger dan voor intacte ery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914400" y="533520"/>
            <a:ext cx="784872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Keton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geen ketonen aanwezi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ketonen met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itroprusside-natrium + ketonen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paars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leen reactie met aceton en acetylazijnzu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voeligheid voor acetylazijnzuur 10x hoger dan voor acet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80880" y="533520"/>
            <a:ext cx="82296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iliru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Afbraakproduct va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niet aan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: afsluiting galtoevoer (stenen), leverziekten (hepatit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Urine donker bewaren i.v.m. afbraak bilirubine o.i.v. UV-lic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schudproef: na schudden geel schu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lirubine + diazoniumzou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roze/paars in zuur mili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838080" y="914400"/>
            <a:ext cx="7086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Urobilinoge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Afbraakproduct va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spoortje aan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erse urine gebruiken i.v.m. omzetting in urobiline o.i.v. O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ernstige hemolyse of leverfunctiestoorni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robilinogeen geeft in zuur milieu een rod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9T19:31:38Z</dcterms:created>
  <dc:creator>Haverkort</dc:creator>
  <dc:description/>
  <dc:language>en-US</dc:language>
  <cp:lastModifiedBy>Haverkort</cp:lastModifiedBy>
  <dcterms:modified xsi:type="dcterms:W3CDTF">2010-06-07T14:04:1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