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3468-242A-4046-BF78-F2158DFC5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5D56-6E8F-4901-9592-23752F9CE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C275-FB86-4C95-A5E5-D5833CBEE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81C1-89DC-4603-8486-6EEBB8653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F1D96-FE30-4EC5-8207-071A65CC1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F613E-993E-405B-8355-5F512BB9E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E7079-15AE-49A1-A1C5-4D75EAC09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F3F5B-F614-4BB3-B3D3-186067E6B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447EF-67ED-463B-9441-9A1D1D871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B040B-7EC4-4395-929A-398867954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DE731-D57E-42E9-B484-AD5185FE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62EA-7583-4612-A036-D3EFF958C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6185D-DBE9-43CB-AC62-8A54250A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F7540-2389-49ED-9898-CB0BDBC1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5CBBA-F240-4BE7-B58B-E3DE4FD08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5BBB2-DEDC-4F97-9BC6-81E5EEAD9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5F0EF-90D0-4958-9784-7525FB3CA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C558-3AE6-4F97-86F4-05967979C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7023-0921-4151-9A6B-48E5CCFF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E90E-0094-4006-A2CB-BB5FB7DA5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8C39-90C6-4440-9329-AE2FBFC27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F42D-6F69-4DF3-802A-7805AFAE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CEB0-E53F-4768-983C-9FD9EBA4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D3B8-5F44-4A62-AB05-1BA211C0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D55EF-18F2-4FC1-8704-5921BAC8BAE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87F90-4E98-4C38-8469-83BDB05616A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l.wikipedia.org/wiki/Bestand:Bacillus_subtilis_Gram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siskennis bacteriolog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ondvorm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sporen van ziekteverwekken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teriologisch prepara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ram positieve en negatieve bacterië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38080" y="3116160"/>
            <a:ext cx="3775320" cy="2216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756320" y="3036960"/>
            <a:ext cx="37749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ondvor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426708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Coccus of ko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Dip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rept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afy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il of staa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2438280"/>
            <a:ext cx="40766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63280" y="863280"/>
            <a:ext cx="772164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psporen van ziekteverwekkende bacteriën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Bacteri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Microscopisc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Kweekproe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DNA-onderzoe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Resistentiete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Immun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Na vaccinatie ontstaat bij de grote meerderheid van de gevaccineerden anti-HBsAg, dit zijn antistoffen gericht tegen het hepatitis B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762440" y="2362320"/>
            <a:ext cx="37670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272400" y="986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cteriologisch preparaa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icroscop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teriaal aanbrengen op objectgl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 aan de luch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xe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cteriën dod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echting materia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eleiwitten kapot, beter kleuropna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leu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oordel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micro (9K)"/>
          <p:cNvPicPr/>
          <p:nvPr/>
        </p:nvPicPr>
        <p:blipFill>
          <a:blip r:embed="rId1"/>
          <a:stretch/>
        </p:blipFill>
        <p:spPr>
          <a:xfrm>
            <a:off x="5105520" y="1943280"/>
            <a:ext cx="3276360" cy="2457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micro5 (8K)"/>
          <p:cNvPicPr/>
          <p:nvPr/>
        </p:nvPicPr>
        <p:blipFill>
          <a:blip r:embed="rId2"/>
          <a:stretch/>
        </p:blipFill>
        <p:spPr>
          <a:xfrm rot="9581400">
            <a:off x="2811600" y="3409560"/>
            <a:ext cx="2133360" cy="2144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micro3 (10K)"/>
          <p:cNvPicPr/>
          <p:nvPr/>
        </p:nvPicPr>
        <p:blipFill>
          <a:blip r:embed="rId3"/>
          <a:stretch/>
        </p:blipFill>
        <p:spPr>
          <a:xfrm>
            <a:off x="762120" y="1371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948920" y="834120"/>
            <a:ext cx="3665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oedingsbodem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methyleenblauw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 vor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van 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okke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Gram-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vorm van de bacterie en…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eigenschappen van de wand van de bacter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003366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66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523880"/>
            <a:ext cx="731520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f60000"/>
                </a:solidFill>
                <a:latin typeface="Arial"/>
              </a:rPr>
              <a:t>Gram-nega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gonokokken (gonorro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E.coli 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yfus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9900cc"/>
                </a:solidFill>
                <a:latin typeface="Arial"/>
              </a:rPr>
              <a:t>Gram-posi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afylokokken (MRS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reptokokken (keel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pneumokokken (long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uberkelbacteriën (tuberculos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eroorzakers urineweginfectie meestal Gram-negatie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09:04:52Z</dcterms:created>
  <dc:creator>Haverkort</dc:creator>
  <dc:description/>
  <dc:language>en-US</dc:language>
  <cp:lastModifiedBy>Haverkort</cp:lastModifiedBy>
  <dcterms:modified xsi:type="dcterms:W3CDTF">2010-09-19T10:56:2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