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22C9-193A-4D91-82C6-8FD262942E7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25AB-F684-4CF6-9814-C257A2E10A6D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10A9-C9CF-4C3E-8C2E-0220089EB04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E031-2825-41F4-893D-5CDBD487F43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14C7-A48D-4E10-AC24-2A5D855556AF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76C7-7137-4966-853B-5D8BA1C831A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61C5-57D9-4C6B-A078-835D78320D9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78A0-E5F8-4EBE-9758-DDB08E1BF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9E53-3230-4099-B469-93F99FA9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9C52-AB0D-4DE4-8F6B-262510706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F975-7F4D-45EC-8E08-926708E98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B2F8-3BEF-4CC8-8A1A-5D3909327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36961-7A27-4F5B-802F-EBE166BF8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D63C-2EF1-4B6C-8D86-6574F55A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F36C6-44FE-4B5D-AC4F-F246393A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5086-BF43-465F-AFEE-EAC09F9A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289BF-B9E7-4289-BA1D-A561ED27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5F240-A437-4594-ADAF-C43CE28C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9AD2-A0FD-435A-A84A-7BECF528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FEAA-D080-41AB-A720-3FED0C3A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9B79-82D8-4333-A49E-79915EF4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4B37-E96F-4632-B47A-586EDC8F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D2A8-F7DF-4E29-AC29-FF6BD93E5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F1844-5B29-4A25-8237-9992F8135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DCB6-CDC2-40D1-B36D-496263A9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80F4-AC4E-4487-BFA5-A29121D7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53C2-6890-4492-9DC2-0C44DD0F0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F0B5-F941-489D-9597-E2AB17CB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650D-5454-4978-8E11-9FD884D2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B3FF-9DB8-4A50-B5B8-1FB4AF35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4904-52FF-4FCC-9A01-6D203088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7921-09C5-4928-BF2E-8C69FD18F703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E076-1C2F-483B-BC45-5BBA8EB20B0D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bbd71"/>
                </a:solidFill>
                <a:latin typeface="Arial"/>
              </a:rPr>
              <a:t>Ur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Geproduceerd in ni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evat onbruikbare stoffen, veelal eindproducten stofwisse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orbeelden: natrium, kalium, ureum, kreatinine, chloor, fosfa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Laboratoriumonderzoek geeft informatie ove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ventuele stofwisselingsstoorniss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ing van organ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bbd71"/>
                </a:solidFill>
                <a:latin typeface="Arial"/>
              </a:rPr>
              <a:t>ur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330800" cy="47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iurese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uitscheiding van ur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ligurie: uitscheiding ↓ (opname ↓, afgifte ↑, oedee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Polyurie: uitscheiding ↑ (opname ↑, D.M., nieraandoening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nurie: tijdelijk geen uitscheiding (prostaatvergroting, sten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1634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1634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3" descr="Pl_doorsnedenier"/>
          <p:cNvPicPr/>
          <p:nvPr/>
        </p:nvPicPr>
        <p:blipFill>
          <a:blip r:embed="rId1"/>
          <a:stretch/>
        </p:blipFill>
        <p:spPr>
          <a:xfrm>
            <a:off x="4932360" y="1989000"/>
            <a:ext cx="38894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222480" y="250920"/>
            <a:ext cx="842076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schillende soorten urineonderzoek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Fysisch (volume, kleur, helderheid, ge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hemisch (stoffen aan te tonen met chemische reacti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litatief: aanwezig of niet (neg, 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1+, 2+, 3+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emi-kwantitatief: indruk hoeveelheid (niet exac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ntitatief: exacte hoeveelheid (mmol/l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µ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ol/24u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icroscopisch (urinesedimen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58760" y="351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dbbd71"/>
                </a:solidFill>
                <a:latin typeface="Arial"/>
              </a:rPr>
              <a:t>Urineonderzoek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eestal voorkeur verse ochtendurine, soms 24-uursur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Verse uri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leur en pH niet verand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inder troebelingen door bacteriegroei en zoutneersla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ventueel aanwezige aceton niet vervluchtig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Ochtenduri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Voordeel: vrij sterk geconcentre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Nadeel: bij lichte diabetes kan glucose gemist word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85760" y="250920"/>
            <a:ext cx="72928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4-uursurin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zameld over precies 24 u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chtendurine eerste dag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nie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meene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chtendurine tweede dag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wel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meene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All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tussentijds geproduceerde urine verzam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58760" y="476280"/>
            <a:ext cx="89726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Fysisch 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: 1-2 liter per da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SPEC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leur: helder geel, voornamelijk door urochro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lderheid: verse urine is helder. Na afkoeling soms troebe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ur: bouillonachtig. Soms afwijkend door voeding of medicati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58760" y="2509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Tahoma"/>
              </a:rPr>
              <a:t>Semi-kwantitatief chemisch urineonderzoe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-&gt; volgt bij urinestickreac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3:23:04Z</dcterms:created>
  <dc:creator>Harry Kuipers</dc:creator>
  <dc:description/>
  <dc:language>en-US</dc:language>
  <cp:lastModifiedBy>Haverkort</cp:lastModifiedBy>
  <dcterms:modified xsi:type="dcterms:W3CDTF">2015-10-07T18:10:47Z</dcterms:modified>
  <cp:revision>29</cp:revision>
  <dc:subject/>
  <dc:title>Dia 1</dc:title>
</cp:coreProperties>
</file>