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91AC-7F00-41AB-A7F4-5759EC08A21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merican Bashkir Curly Type: indiaans paard Herkomst:Verenigde Staten en Canada Bijzonderheden: geschikt voor mensen die allergisch zijn voor paardenhaar Eigenschappen: Stokmaat:140 – 165 cm Kleuren: 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0613-0ADA-4734-A3FD-168EC919E5A4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C7D-0056-4CFE-975A-8761191D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108-A0E3-433F-B61B-F0E2909C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6AC-E4D3-4AFB-BD64-766DC310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4C2-1CE3-4351-91B5-25203631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CA23-38C5-4215-9000-CDD71F02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B29D-0251-4979-B367-9E60372B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D4FD-8F00-4F14-89A6-3E8E11DB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7627-5B6F-4295-B82E-3B0FA00B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E732-206F-41B0-B305-8597E333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FA73-902B-4754-98FB-D8C4842F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E5DC-A7C5-4FB3-BC4C-7ECDB5D0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633-325C-4617-8764-C0F4A59B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BD43-8237-403B-84AE-EDC4BDDB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ABEB-9881-49C1-A7F5-E0EB4839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DA1F-DD8E-48CF-873A-025480C6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21F0-F631-4EF0-B353-F42B1EB7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E03A-B406-4648-8A8C-30DED59D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9A0-5D61-47DD-8D1C-19637AC5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AD5-C2F9-4F13-AB20-313D1B56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8C0-8FFD-4774-8262-E9277588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2CC-8E24-43A7-B58F-FD9F840E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137-147B-4F72-B138-424DBE3E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D15-0579-4613-BF85-7D888F1F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BDB-8948-4944-AE4E-1FB0241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4840-D307-4648-AC4F-5EFF08D680C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0C31-9671-4514-91FD-C1390C84F77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0000"/>
                </a:solidFill>
                <a:latin typeface="Times New Roman"/>
              </a:rPr>
              <a:t>Paardenrass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Tijdelijke aanduiding voor inhoud 3" descr="groninger.jpg"/>
          <p:cNvPicPr/>
          <p:nvPr/>
        </p:nvPicPr>
        <p:blipFill>
          <a:blip r:embed="rId1"/>
          <a:stretch/>
        </p:blipFill>
        <p:spPr>
          <a:xfrm>
            <a:off x="2916360" y="2133720"/>
            <a:ext cx="5956200" cy="39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roningerPaard_01.jpg"/>
          <p:cNvPicPr/>
          <p:nvPr/>
        </p:nvPicPr>
        <p:blipFill>
          <a:blip r:embed="rId2"/>
          <a:stretch/>
        </p:blipFill>
        <p:spPr>
          <a:xfrm>
            <a:off x="684360" y="549360"/>
            <a:ext cx="360036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Oude type ‘Groninger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rd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ef en krachtig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br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roningerPaard_01.jpg"/>
          <p:cNvPicPr/>
          <p:nvPr/>
        </p:nvPicPr>
        <p:blipFill>
          <a:blip r:embed="rId1"/>
          <a:stretch/>
        </p:blipFill>
        <p:spPr>
          <a:xfrm>
            <a:off x="5076720" y="3573360"/>
            <a:ext cx="360072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9" descr="00000339"/>
          <p:cNvPicPr/>
          <p:nvPr/>
        </p:nvPicPr>
        <p:blipFill>
          <a:blip r:embed="rId1"/>
          <a:stretch/>
        </p:blipFill>
        <p:spPr>
          <a:xfrm>
            <a:off x="1547640" y="981000"/>
            <a:ext cx="5937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ude type ‘ Gelders paard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front, lang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voskleur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0000339"/>
          <p:cNvPicPr/>
          <p:nvPr/>
        </p:nvPicPr>
        <p:blipFill>
          <a:blip r:embed="rId1"/>
          <a:stretch/>
        </p:blipFill>
        <p:spPr>
          <a:xfrm>
            <a:off x="4500720" y="2852640"/>
            <a:ext cx="4230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Tijdelijke aanduiding voor inhoud 3" descr="kwpn.jpg"/>
          <p:cNvPicPr/>
          <p:nvPr/>
        </p:nvPicPr>
        <p:blipFill>
          <a:blip r:embed="rId1"/>
          <a:stretch/>
        </p:blipFill>
        <p:spPr>
          <a:xfrm>
            <a:off x="1258920" y="981000"/>
            <a:ext cx="67183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WP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mbo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5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ant, veel front, verschi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rt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ms"/>
          <p:cNvPicPr/>
          <p:nvPr/>
        </p:nvPicPr>
        <p:blipFill>
          <a:blip r:embed="rId1"/>
          <a:stretch/>
        </p:blipFill>
        <p:spPr>
          <a:xfrm>
            <a:off x="4859280" y="3789360"/>
            <a:ext cx="374508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1246320" y="1171440"/>
            <a:ext cx="6278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ig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0-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sieve kracht, een trotse houding en een vast rit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4572000" y="3933720"/>
            <a:ext cx="3402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Tijdelijke aanduiding voor inhoud 3" descr="hackeny.jpg"/>
          <p:cNvPicPr/>
          <p:nvPr/>
        </p:nvPicPr>
        <p:blipFill>
          <a:blip r:embed="rId1"/>
          <a:stretch/>
        </p:blipFill>
        <p:spPr>
          <a:xfrm>
            <a:off x="1403280" y="1413000"/>
            <a:ext cx="6253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ck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pony tot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klustig, klein sierlijk hoofd, hoge staart en opgerichte h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voor de w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f/samengestelde me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UPD-H-LittleDiana"/>
          <p:cNvPicPr/>
          <p:nvPr/>
        </p:nvPicPr>
        <p:blipFill>
          <a:blip r:embed="rId1"/>
          <a:stretch/>
        </p:blipFill>
        <p:spPr>
          <a:xfrm>
            <a:off x="5508720" y="260280"/>
            <a:ext cx="343368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539640" y="404640"/>
            <a:ext cx="342900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arabier2.jpg"/>
          <p:cNvPicPr/>
          <p:nvPr/>
        </p:nvPicPr>
        <p:blipFill>
          <a:blip r:embed="rId2"/>
          <a:stretch/>
        </p:blipFill>
        <p:spPr>
          <a:xfrm>
            <a:off x="4140360" y="2852640"/>
            <a:ext cx="47908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Tijdelijke aanduiding voor inhoud 3" descr="Friesepaard.jpg"/>
          <p:cNvPicPr/>
          <p:nvPr/>
        </p:nvPicPr>
        <p:blipFill>
          <a:blip r:embed="rId1"/>
          <a:stretch/>
        </p:blipFill>
        <p:spPr>
          <a:xfrm>
            <a:off x="1187280" y="836640"/>
            <a:ext cx="683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riese 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5-1.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ige raszuivere paard in Nederland, zw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oorsprong landbouwpaar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rlijk ogend paard,veel behang en een fiere hou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uur en aangespann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4" descr="fries.jpg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Tijdelijke aanduiding voor inhoud 3" descr="Nederlands-trekpaard_434x326.jpg"/>
          <p:cNvPicPr/>
          <p:nvPr/>
        </p:nvPicPr>
        <p:blipFill>
          <a:blip r:embed="rId1"/>
          <a:stretch/>
        </p:blipFill>
        <p:spPr>
          <a:xfrm>
            <a:off x="1547640" y="836640"/>
            <a:ext cx="61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lgisch Trek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g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 pa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 en erg ste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bouw, fokkerij, 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Espoir B 760 geb. 4 maart 1916"/>
          <p:cNvPicPr/>
          <p:nvPr/>
        </p:nvPicPr>
        <p:blipFill>
          <a:blip r:embed="rId1"/>
          <a:stretch/>
        </p:blipFill>
        <p:spPr>
          <a:xfrm>
            <a:off x="5867280" y="1125360"/>
            <a:ext cx="2751120" cy="22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Tijdelijke aanduiding voor inhoud 3" descr="shire.jpg"/>
          <p:cNvPicPr/>
          <p:nvPr/>
        </p:nvPicPr>
        <p:blipFill>
          <a:blip r:embed="rId1"/>
          <a:stretch/>
        </p:blipFill>
        <p:spPr>
          <a:xfrm>
            <a:off x="1476360" y="836640"/>
            <a:ext cx="62643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iddeld 1.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 hoofd, openstaande neusg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, witte benen en 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kpaard, shows voor de wagen en onder het za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wp60cb9492_0f.jpg"/>
          <p:cNvPicPr/>
          <p:nvPr/>
        </p:nvPicPr>
        <p:blipFill>
          <a:blip r:embed="rId1"/>
          <a:stretch/>
        </p:blipFill>
        <p:spPr>
          <a:xfrm>
            <a:off x="5724360" y="549360"/>
            <a:ext cx="2830680" cy="195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Tijdelijke aanduiding voor inhoud 5" descr="shetlander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308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etla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kelijk Schot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86 cm- 1.07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er 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stevig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kste paardenras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Afbeelding 4" descr="shetlander2"/>
          <p:cNvPicPr/>
          <p:nvPr/>
        </p:nvPicPr>
        <p:blipFill>
          <a:blip r:embed="rId1"/>
          <a:stretch/>
        </p:blipFill>
        <p:spPr>
          <a:xfrm>
            <a:off x="6300720" y="2637000"/>
            <a:ext cx="244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Tijdelijke aanduiding voor inhoud 3" descr="welsh.jpg"/>
          <p:cNvPicPr/>
          <p:nvPr/>
        </p:nvPicPr>
        <p:blipFill>
          <a:blip r:embed="rId1"/>
          <a:stretch/>
        </p:blipFill>
        <p:spPr>
          <a:xfrm>
            <a:off x="611280" y="549360"/>
            <a:ext cx="3641760" cy="303840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4" descr="welsh.jpg"/>
          <p:cNvPicPr/>
          <p:nvPr/>
        </p:nvPicPr>
        <p:blipFill>
          <a:blip r:embed="rId2"/>
          <a:stretch/>
        </p:blipFill>
        <p:spPr>
          <a:xfrm>
            <a:off x="4356000" y="2708280"/>
            <a:ext cx="4530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16 max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verschillende fokricht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e ogen, kort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4" descr="welsh.jpg"/>
          <p:cNvPicPr/>
          <p:nvPr/>
        </p:nvPicPr>
        <p:blipFill>
          <a:blip r:embed="rId1"/>
          <a:stretch/>
        </p:blipFill>
        <p:spPr>
          <a:xfrm>
            <a:off x="5724360" y="549360"/>
            <a:ext cx="305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rabi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abisch Schierei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g. 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pierd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n hoofd,sprekende o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e n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urig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gant rij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npa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Tijdelijke aanduiding voor inhoud 3" descr="fjord.jpg"/>
          <p:cNvPicPr/>
          <p:nvPr/>
        </p:nvPicPr>
        <p:blipFill>
          <a:blip r:embed="rId1"/>
          <a:stretch/>
        </p:blipFill>
        <p:spPr>
          <a:xfrm>
            <a:off x="4788000" y="3284640"/>
            <a:ext cx="3989160" cy="265896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4" descr="fjord.jpg"/>
          <p:cNvPicPr/>
          <p:nvPr/>
        </p:nvPicPr>
        <p:blipFill>
          <a:blip r:embed="rId2"/>
          <a:stretch/>
        </p:blipFill>
        <p:spPr>
          <a:xfrm>
            <a:off x="684360" y="620640"/>
            <a:ext cx="4295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jo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g Noor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5-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lstreep, recht opstaand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oedelijke pony, fijn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en sterk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creat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fbeelding 4" descr="fjord.jpg"/>
          <p:cNvPicPr/>
          <p:nvPr/>
        </p:nvPicPr>
        <p:blipFill>
          <a:blip r:embed="rId1"/>
          <a:stretch/>
        </p:blipFill>
        <p:spPr>
          <a:xfrm>
            <a:off x="5292720" y="404640"/>
            <a:ext cx="3354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2700360" y="620640"/>
            <a:ext cx="352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flin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komst Oostenr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enra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e witt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6732720" y="260280"/>
            <a:ext cx="187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Tijdelijke aanduiding voor inhoud 3" descr="quarter.jpg"/>
          <p:cNvPicPr/>
          <p:nvPr/>
        </p:nvPicPr>
        <p:blipFill>
          <a:blip r:embed="rId1"/>
          <a:stretch/>
        </p:blipFill>
        <p:spPr>
          <a:xfrm>
            <a:off x="826920" y="620640"/>
            <a:ext cx="3600720" cy="283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stops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402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arter Ho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drij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5-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re bespiering achter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 breed hoof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tops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40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Tijdelijke aanduiding voor inhoud 3" descr="tinker.jpg"/>
          <p:cNvPicPr/>
          <p:nvPr/>
        </p:nvPicPr>
        <p:blipFill>
          <a:blip r:embed="rId1"/>
          <a:stretch/>
        </p:blipFill>
        <p:spPr>
          <a:xfrm>
            <a:off x="1547640" y="76500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rland,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1.7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b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n Tinkers,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many C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 en sierlijk hoofd, kleine o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behang, dikke v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:\Foto's\946152204_5_e2Vn.jpg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Tijdelijke aanduiding voor inhoud 3" descr="paard.jpg"/>
          <p:cNvPicPr/>
          <p:nvPr/>
        </p:nvPicPr>
        <p:blipFill>
          <a:blip r:embed="rId1"/>
          <a:stretch/>
        </p:blipFill>
        <p:spPr>
          <a:xfrm>
            <a:off x="900000" y="1484280"/>
            <a:ext cx="7404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zewalsk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in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ngol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tste overgebleven wilde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22-1.44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rechtopstaande manen, beige br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 te tem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ft in kuddeverband (harem of hengstengroep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przewalski1.JPG (295558 bytes)"/>
          <p:cNvPicPr/>
          <p:nvPr/>
        </p:nvPicPr>
        <p:blipFill>
          <a:blip r:embed="rId1"/>
          <a:stretch/>
        </p:blipFill>
        <p:spPr>
          <a:xfrm>
            <a:off x="5940360" y="404640"/>
            <a:ext cx="272592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1476360" y="981000"/>
            <a:ext cx="61023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Tijdelijke aanduiding voor inhoud 10" descr="lipizzaner.jpg"/>
          <p:cNvPicPr/>
          <p:nvPr/>
        </p:nvPicPr>
        <p:blipFill>
          <a:blip r:embed="rId1"/>
          <a:stretch/>
        </p:blipFill>
        <p:spPr>
          <a:xfrm>
            <a:off x="1332000" y="981000"/>
            <a:ext cx="652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ppiza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ca in Sloveni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8-1.62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ge halsaanzet, korte en stevige b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schimmel/w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chikt voor hoge rijkunst, koets-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ijdelijke aanduiding voor inhoud 3" descr="lipizaner.jpg"/>
          <p:cNvPicPr/>
          <p:nvPr/>
        </p:nvPicPr>
        <p:blipFill>
          <a:blip r:embed="rId1"/>
          <a:stretch/>
        </p:blipFill>
        <p:spPr>
          <a:xfrm>
            <a:off x="7020000" y="333360"/>
            <a:ext cx="1673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Falab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gentin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ximaal 87 cm, miniatuur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porties van een paard, edel hoo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olgza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how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5219640" y="3357720"/>
            <a:ext cx="3457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Tijdelijke aanduiding voor inhoud 3" descr="engels-volbloed-3.large.jpg"/>
          <p:cNvPicPr/>
          <p:nvPr/>
        </p:nvPicPr>
        <p:blipFill>
          <a:blip r:embed="rId1"/>
          <a:stretch/>
        </p:blipFill>
        <p:spPr>
          <a:xfrm>
            <a:off x="2050920" y="1773360"/>
            <a:ext cx="49482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Engels Volblo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rkomst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55/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nelste paard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ierlijk, gespi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elig, werkl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jpaard/ren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maren"/>
          <p:cNvPicPr/>
          <p:nvPr/>
        </p:nvPicPr>
        <p:blipFill>
          <a:blip r:embed="rId1"/>
          <a:stretch/>
        </p:blipFill>
        <p:spPr>
          <a:xfrm>
            <a:off x="5292720" y="3068640"/>
            <a:ext cx="3564000" cy="281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1547640" y="12682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Dra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t 1.60-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chtvoetig, snelhei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houdings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4716360" y="105264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8:32:41Z</dcterms:created>
  <dc:creator>Robert</dc:creator>
  <dc:description/>
  <dc:language>en-US</dc:language>
  <cp:lastModifiedBy>Nikki Pots</cp:lastModifiedBy>
  <dcterms:modified xsi:type="dcterms:W3CDTF">2018-01-29T11:59:36Z</dcterms:modified>
  <cp:revision>35</cp:revision>
  <dc:subject/>
  <dc:title>Paarden</dc:title>
</cp:coreProperties>
</file>