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AF76-B48D-4861-8EC5-03601578701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merican Bashkir Curly Type: indiaans paard Herkomst:Verenigde Staten en Canada Bijzonderheden: geschikt voor mensen die allergisch zijn voor paardenhaar Eigenschappen: Stokmaat:140 – 165 cm Kleuren: a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B380-7F31-4B9F-90A1-C5C2517C817E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1D2-5044-4D53-9B6D-F2D1398D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9C4B-E67C-4A98-BF12-B682CF49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6BC-CEF7-4305-9365-0EFE4A28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991-9F4C-4D80-B9F8-788279BA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73F0-59ED-4B39-A3C0-D69C8120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FA49-6908-4DCC-888B-A9985A90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1428-0B18-47C3-B105-79EB5658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F843-8BB1-40D8-8C20-477FD16B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C9DE-FA9C-4F32-BED4-FB719C71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4721-AA2B-407E-AE33-8E14E986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F8CD-59B3-4E35-80C1-FAF14037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4069-A3B0-4C1D-B756-D5A38419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2ABA-7B18-4591-ACF9-BFAE7546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83FE-742D-4B1A-9CAB-77264482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191D-72C0-4F7C-A707-21E37950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4B34-1F83-437E-9D54-CA4ED2F7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A88C-F705-4D31-A11C-BA0C2E20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B55-B511-4317-A8ED-9DBE2A17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867-3095-4E66-A5E7-7F6D6E1D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FC2-8ECE-4F6B-9CC6-657AAB76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47A-B6EE-4DA5-A5D6-C1018F05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78B-743B-4E2D-A52B-0D367E91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84E-4408-4818-A22C-5CE1A3F9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7F0-B583-4F4D-B85C-1D6884F7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4866-7AC5-4154-9EA1-60A7CFE51C98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C70F-F455-4CBF-9914-F91C4D12C86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0000"/>
                </a:solidFill>
                <a:latin typeface="Times New Roman"/>
              </a:rPr>
              <a:t>Paardenrass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Tijdelijke aanduiding voor inhoud 3" descr="groninger.jpg"/>
          <p:cNvPicPr/>
          <p:nvPr/>
        </p:nvPicPr>
        <p:blipFill>
          <a:blip r:embed="rId1"/>
          <a:stretch/>
        </p:blipFill>
        <p:spPr>
          <a:xfrm>
            <a:off x="2916360" y="2133720"/>
            <a:ext cx="5956200" cy="39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GroningerPaard_01.jpg"/>
          <p:cNvPicPr/>
          <p:nvPr/>
        </p:nvPicPr>
        <p:blipFill>
          <a:blip r:embed="rId2"/>
          <a:stretch/>
        </p:blipFill>
        <p:spPr>
          <a:xfrm>
            <a:off x="684360" y="549360"/>
            <a:ext cx="360036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Oude type ‘Groninger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rd-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ief en krachtig 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br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GroningerPaard_01.jpg"/>
          <p:cNvPicPr/>
          <p:nvPr/>
        </p:nvPicPr>
        <p:blipFill>
          <a:blip r:embed="rId1"/>
          <a:stretch/>
        </p:blipFill>
        <p:spPr>
          <a:xfrm>
            <a:off x="5076720" y="3573360"/>
            <a:ext cx="360072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9" descr="00000339"/>
          <p:cNvPicPr/>
          <p:nvPr/>
        </p:nvPicPr>
        <p:blipFill>
          <a:blip r:embed="rId1"/>
          <a:stretch/>
        </p:blipFill>
        <p:spPr>
          <a:xfrm>
            <a:off x="1547640" y="981000"/>
            <a:ext cx="59374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ude type ‘ Gelders paard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front, lang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voskleur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00000339"/>
          <p:cNvPicPr/>
          <p:nvPr/>
        </p:nvPicPr>
        <p:blipFill>
          <a:blip r:embed="rId1"/>
          <a:stretch/>
        </p:blipFill>
        <p:spPr>
          <a:xfrm>
            <a:off x="4500720" y="2852640"/>
            <a:ext cx="42303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Tijdelijke aanduiding voor inhoud 3" descr="kwpn.jpg"/>
          <p:cNvPicPr/>
          <p:nvPr/>
        </p:nvPicPr>
        <p:blipFill>
          <a:blip r:embed="rId1"/>
          <a:stretch/>
        </p:blipFill>
        <p:spPr>
          <a:xfrm>
            <a:off x="1258920" y="981000"/>
            <a:ext cx="67183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KWP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mbo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58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ant, veel front, verschi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rt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ms"/>
          <p:cNvPicPr/>
          <p:nvPr/>
        </p:nvPicPr>
        <p:blipFill>
          <a:blip r:embed="rId1"/>
          <a:stretch/>
        </p:blipFill>
        <p:spPr>
          <a:xfrm>
            <a:off x="4859280" y="3789360"/>
            <a:ext cx="3745080" cy="249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1246320" y="1171440"/>
            <a:ext cx="62784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ig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0-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osieve kracht, een trotse houding en een vast rit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gesp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4572000" y="3933720"/>
            <a:ext cx="3402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Tijdelijke aanduiding voor inhoud 3" descr="hackeny.jpg"/>
          <p:cNvPicPr/>
          <p:nvPr/>
        </p:nvPicPr>
        <p:blipFill>
          <a:blip r:embed="rId1"/>
          <a:stretch/>
        </p:blipFill>
        <p:spPr>
          <a:xfrm>
            <a:off x="1403280" y="1413000"/>
            <a:ext cx="625320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ck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pony tot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rklustig, klein sierlijk hoofd, hoge staart en opgerichte h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voor de w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f/samengestelde me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UPD-H-LittleDiana"/>
          <p:cNvPicPr/>
          <p:nvPr/>
        </p:nvPicPr>
        <p:blipFill>
          <a:blip r:embed="rId1"/>
          <a:stretch/>
        </p:blipFill>
        <p:spPr>
          <a:xfrm>
            <a:off x="5508720" y="260280"/>
            <a:ext cx="3433680" cy="24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539640" y="404640"/>
            <a:ext cx="3429000" cy="452628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arabier2.jpg"/>
          <p:cNvPicPr/>
          <p:nvPr/>
        </p:nvPicPr>
        <p:blipFill>
          <a:blip r:embed="rId2"/>
          <a:stretch/>
        </p:blipFill>
        <p:spPr>
          <a:xfrm>
            <a:off x="4140360" y="2852640"/>
            <a:ext cx="47908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Tijdelijke aanduiding voor inhoud 3" descr="Friesepaard.jpg"/>
          <p:cNvPicPr/>
          <p:nvPr/>
        </p:nvPicPr>
        <p:blipFill>
          <a:blip r:embed="rId1"/>
          <a:stretch/>
        </p:blipFill>
        <p:spPr>
          <a:xfrm>
            <a:off x="1187280" y="836640"/>
            <a:ext cx="6832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riese 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55-1.7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ige raszuivere paard in Nederland, zw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oorsprong landbouwpaar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erlijk ogend paard,veel behang en een fiere houd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essuur en aangespann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4" descr="fries.jpg"/>
          <p:cNvPicPr/>
          <p:nvPr/>
        </p:nvPicPr>
        <p:blipFill>
          <a:blip r:embed="rId1"/>
          <a:stretch/>
        </p:blipFill>
        <p:spPr>
          <a:xfrm>
            <a:off x="6084720" y="333360"/>
            <a:ext cx="28800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Tijdelijke aanduiding voor inhoud 3" descr="Nederlands-trekpaard_434x326.jpg"/>
          <p:cNvPicPr/>
          <p:nvPr/>
        </p:nvPicPr>
        <p:blipFill>
          <a:blip r:embed="rId1"/>
          <a:stretch/>
        </p:blipFill>
        <p:spPr>
          <a:xfrm>
            <a:off x="1547640" y="836640"/>
            <a:ext cx="6183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Belgisch Trek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g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 pa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 en erg ste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bouw, fokkerij, sh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Espoir B 760 geb. 4 maart 1916"/>
          <p:cNvPicPr/>
          <p:nvPr/>
        </p:nvPicPr>
        <p:blipFill>
          <a:blip r:embed="rId1"/>
          <a:stretch/>
        </p:blipFill>
        <p:spPr>
          <a:xfrm>
            <a:off x="5867280" y="1125360"/>
            <a:ext cx="2751120" cy="22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Tijdelijke aanduiding voor inhoud 3" descr="shire.jpg"/>
          <p:cNvPicPr/>
          <p:nvPr/>
        </p:nvPicPr>
        <p:blipFill>
          <a:blip r:embed="rId1"/>
          <a:stretch/>
        </p:blipFill>
        <p:spPr>
          <a:xfrm>
            <a:off x="1476360" y="836640"/>
            <a:ext cx="626436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i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iddeld 1.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 hoofd, openstaande neusg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, witte benen en 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kpaard, shows voor de wagen en onder het za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wp60cb9492_0f.jpg"/>
          <p:cNvPicPr/>
          <p:nvPr/>
        </p:nvPicPr>
        <p:blipFill>
          <a:blip r:embed="rId1"/>
          <a:stretch/>
        </p:blipFill>
        <p:spPr>
          <a:xfrm>
            <a:off x="5724360" y="549360"/>
            <a:ext cx="2830680" cy="1950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Tijdelijke aanduiding voor inhoud 5" descr="shetlander.jpg"/>
          <p:cNvPicPr/>
          <p:nvPr/>
        </p:nvPicPr>
        <p:blipFill>
          <a:blip r:embed="rId1"/>
          <a:stretch/>
        </p:blipFill>
        <p:spPr>
          <a:xfrm>
            <a:off x="1258920" y="1052640"/>
            <a:ext cx="663084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etlan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kelijk Schot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86 cm- 1.07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ber 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stevig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rkste paardenras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Afbeelding 4" descr="shetlander2"/>
          <p:cNvPicPr/>
          <p:nvPr/>
        </p:nvPicPr>
        <p:blipFill>
          <a:blip r:embed="rId1"/>
          <a:stretch/>
        </p:blipFill>
        <p:spPr>
          <a:xfrm>
            <a:off x="6300720" y="2637000"/>
            <a:ext cx="2448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2" name="Tijdelijke aanduiding voor inhoud 3" descr="welsh.jpg"/>
          <p:cNvPicPr/>
          <p:nvPr/>
        </p:nvPicPr>
        <p:blipFill>
          <a:blip r:embed="rId1"/>
          <a:stretch/>
        </p:blipFill>
        <p:spPr>
          <a:xfrm>
            <a:off x="611280" y="549360"/>
            <a:ext cx="3641760" cy="3038400"/>
          </a:xfrm>
          <a:prstGeom prst="rect">
            <a:avLst/>
          </a:prstGeom>
          <a:ln w="0">
            <a:noFill/>
          </a:ln>
        </p:spPr>
      </p:pic>
      <p:pic>
        <p:nvPicPr>
          <p:cNvPr id="163" name="Afbeelding 4" descr="welsh.jpg"/>
          <p:cNvPicPr/>
          <p:nvPr/>
        </p:nvPicPr>
        <p:blipFill>
          <a:blip r:embed="rId2"/>
          <a:stretch/>
        </p:blipFill>
        <p:spPr>
          <a:xfrm>
            <a:off x="4356000" y="2708280"/>
            <a:ext cx="45309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els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16 max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 verschillende fokricht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lligente ogen, kort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4" descr="welsh.jpg"/>
          <p:cNvPicPr/>
          <p:nvPr/>
        </p:nvPicPr>
        <p:blipFill>
          <a:blip r:embed="rId1"/>
          <a:stretch/>
        </p:blipFill>
        <p:spPr>
          <a:xfrm>
            <a:off x="5724360" y="549360"/>
            <a:ext cx="3054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rabi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abisch Schierei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g. 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pierd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n hoofd,sprekende og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e n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urig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gant rij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npaar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Tijdelijke aanduiding voor inhoud 3" descr="fjord.jpg"/>
          <p:cNvPicPr/>
          <p:nvPr/>
        </p:nvPicPr>
        <p:blipFill>
          <a:blip r:embed="rId1"/>
          <a:stretch/>
        </p:blipFill>
        <p:spPr>
          <a:xfrm>
            <a:off x="4788000" y="3284640"/>
            <a:ext cx="3989160" cy="2658960"/>
          </a:xfrm>
          <a:prstGeom prst="rect">
            <a:avLst/>
          </a:prstGeom>
          <a:ln w="0">
            <a:noFill/>
          </a:ln>
        </p:spPr>
      </p:pic>
      <p:pic>
        <p:nvPicPr>
          <p:cNvPr id="169" name="Afbeelding 4" descr="fjord.jpg"/>
          <p:cNvPicPr/>
          <p:nvPr/>
        </p:nvPicPr>
        <p:blipFill>
          <a:blip r:embed="rId2"/>
          <a:stretch/>
        </p:blipFill>
        <p:spPr>
          <a:xfrm>
            <a:off x="684360" y="620640"/>
            <a:ext cx="42955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jo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g Noorw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5-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lstreep, recht opstaand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oedelijke pony, fijn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en sterk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creati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Afbeelding 4" descr="fjord.jpg"/>
          <p:cNvPicPr/>
          <p:nvPr/>
        </p:nvPicPr>
        <p:blipFill>
          <a:blip r:embed="rId1"/>
          <a:stretch/>
        </p:blipFill>
        <p:spPr>
          <a:xfrm>
            <a:off x="5292720" y="404640"/>
            <a:ext cx="3354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2700360" y="620640"/>
            <a:ext cx="35272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fling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komst Oostenr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enras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e witt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6732720" y="260280"/>
            <a:ext cx="1879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Tijdelijke aanduiding voor inhoud 3" descr="quarter.jpg"/>
          <p:cNvPicPr/>
          <p:nvPr/>
        </p:nvPicPr>
        <p:blipFill>
          <a:blip r:embed="rId1"/>
          <a:stretch/>
        </p:blipFill>
        <p:spPr>
          <a:xfrm>
            <a:off x="826920" y="620640"/>
            <a:ext cx="3600720" cy="2832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stops"/>
          <p:cNvPicPr/>
          <p:nvPr/>
        </p:nvPicPr>
        <p:blipFill>
          <a:blip r:embed="rId2"/>
          <a:stretch/>
        </p:blipFill>
        <p:spPr>
          <a:xfrm>
            <a:off x="5292720" y="1844640"/>
            <a:ext cx="2857680" cy="402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arter Hor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drij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5-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re bespiering achter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 breed hoof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stops"/>
          <p:cNvPicPr/>
          <p:nvPr/>
        </p:nvPicPr>
        <p:blipFill>
          <a:blip r:embed="rId1"/>
          <a:stretch/>
        </p:blipFill>
        <p:spPr>
          <a:xfrm>
            <a:off x="6084720" y="1773360"/>
            <a:ext cx="2857680" cy="402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Tijdelijke aanduiding voor inhoud 3" descr="tinker.jpg"/>
          <p:cNvPicPr/>
          <p:nvPr/>
        </p:nvPicPr>
        <p:blipFill>
          <a:blip r:embed="rId1"/>
          <a:stretch/>
        </p:blipFill>
        <p:spPr>
          <a:xfrm>
            <a:off x="1547640" y="765000"/>
            <a:ext cx="60487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n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rland,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1.7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b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typen Tinkers,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many C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n en sierlijk hoofd, kleine o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behang, dikke v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:\Foto's\946152204_5_e2Vn.jpg"/>
          <p:cNvPicPr/>
          <p:nvPr/>
        </p:nvPicPr>
        <p:blipFill>
          <a:blip r:embed="rId1"/>
          <a:stretch/>
        </p:blipFill>
        <p:spPr>
          <a:xfrm>
            <a:off x="6084720" y="476280"/>
            <a:ext cx="25196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0" name="Tijdelijke aanduiding voor inhoud 3" descr="paard.jpg"/>
          <p:cNvPicPr/>
          <p:nvPr/>
        </p:nvPicPr>
        <p:blipFill>
          <a:blip r:embed="rId1"/>
          <a:stretch/>
        </p:blipFill>
        <p:spPr>
          <a:xfrm>
            <a:off x="900000" y="1484280"/>
            <a:ext cx="7404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zewalsk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in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ngol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tste overgebleven wilde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22-1.44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rechtopstaande manen, beige br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 te tem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ft in kuddeverband (harem of hengstengroep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przewalski1.JPG (295558 bytes)"/>
          <p:cNvPicPr/>
          <p:nvPr/>
        </p:nvPicPr>
        <p:blipFill>
          <a:blip r:embed="rId1"/>
          <a:stretch/>
        </p:blipFill>
        <p:spPr>
          <a:xfrm>
            <a:off x="5940360" y="404640"/>
            <a:ext cx="272592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1476360" y="981000"/>
            <a:ext cx="61023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Tijdelijke aanduiding voor inhoud 10" descr="lipizzaner.jpg"/>
          <p:cNvPicPr/>
          <p:nvPr/>
        </p:nvPicPr>
        <p:blipFill>
          <a:blip r:embed="rId1"/>
          <a:stretch/>
        </p:blipFill>
        <p:spPr>
          <a:xfrm>
            <a:off x="1332000" y="981000"/>
            <a:ext cx="652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Lippiza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pica in Sloveni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8-1.62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ge halsaanzet, korte en stevige b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schimmel/w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chikt voor hoge rijkunst, koets-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Tijdelijke aanduiding voor inhoud 3" descr="lipizaner.jpg"/>
          <p:cNvPicPr/>
          <p:nvPr/>
        </p:nvPicPr>
        <p:blipFill>
          <a:blip r:embed="rId1"/>
          <a:stretch/>
        </p:blipFill>
        <p:spPr>
          <a:xfrm>
            <a:off x="7020000" y="333360"/>
            <a:ext cx="16732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Falabe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gentin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ximaal 87 cm, miniatuur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porties van een paard, edel hoof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olgza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how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5219640" y="3357720"/>
            <a:ext cx="3457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Tijdelijke aanduiding voor inhoud 3" descr="engels-volbloed-3.large.jpg"/>
          <p:cNvPicPr/>
          <p:nvPr/>
        </p:nvPicPr>
        <p:blipFill>
          <a:blip r:embed="rId1"/>
          <a:stretch/>
        </p:blipFill>
        <p:spPr>
          <a:xfrm>
            <a:off x="2050920" y="1773360"/>
            <a:ext cx="494820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Engels Volblo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rkomst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55/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nelste paard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ierlijk, gespie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elig, werkl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jpaard/ren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umaren"/>
          <p:cNvPicPr/>
          <p:nvPr/>
        </p:nvPicPr>
        <p:blipFill>
          <a:blip r:embed="rId1"/>
          <a:stretch/>
        </p:blipFill>
        <p:spPr>
          <a:xfrm>
            <a:off x="5292720" y="3068640"/>
            <a:ext cx="3564000" cy="2816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1547640" y="1268280"/>
            <a:ext cx="60390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Drav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t 1.60-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chtvoetig, snelhei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houdings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4716360" y="105264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8:32:41Z</dcterms:created>
  <dc:creator>Robert</dc:creator>
  <dc:description/>
  <dc:language>en-US</dc:language>
  <cp:lastModifiedBy>Nikki Pots</cp:lastModifiedBy>
  <dcterms:modified xsi:type="dcterms:W3CDTF">2018-01-29T11:59:36Z</dcterms:modified>
  <cp:revision>35</cp:revision>
  <dc:subject/>
  <dc:title>Paarden</dc:title>
</cp:coreProperties>
</file>