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814D7-5C57-47FD-B047-938870862BC6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Calibri"/>
              </a:rPr>
              <a:t>American Bashkir Curly Type: indiaans paard Herkomst:Verenigde Staten en Canada Bijzonderheden: geschikt voor mensen die allergisch zijn voor paardenhaar Eigenschappen: Stokmaat:140 – 165 cm Kleuren: al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F6FF8-2A4C-4C83-ADF0-B46A850D9A94}" type="slidenum">
              <a:rPr b="0" lang="nl-N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E4BE4-4196-460D-B21E-2208E9007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9F03C-D273-45D0-98C8-472BBFA00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1A68C-4719-4BF4-90A2-337A2783E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F2799-A5C8-4C4D-B6F9-38B1CDC7C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8CF13-6464-4595-81DE-E8FC8F142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AF89E-138D-4C35-A168-F89A29409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E1957-3BFA-4FF5-BEE1-3956CF44B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BA2E5-B18F-448D-AFE9-8FC297A7B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A68FD-A5AA-44C0-886C-F85829EF1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38FD0-497F-4AA6-A0F7-1AEE1CE33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D6A9C-3081-4E08-BF96-263566EF4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E9188-4F28-460B-ACBA-4670F18A5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52ADC-5260-4974-84AB-2BCBA31BB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BC1B4-8542-4AFD-8F4B-D2FCF0C84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C40B9-859F-4988-94CB-D4F3DF9E9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15996-5DC7-4595-BFB5-0DA90C126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F7AE8-DF9B-4141-A466-57B6F988D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803A7-DCE0-47D1-BC41-F1CAEA5AA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0097D-BF79-4E88-8C75-14D43F612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FC347-CF41-4E27-8284-8A68BC416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2F3E3-C3D6-40BD-BD2F-3A39C12DD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D45D6-DE60-44C8-8B1B-7C9CC1D83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D375E-0912-496F-A914-8B7AB9BD2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A79DF-1EDB-4258-BD36-C4F1CF58E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9DF1C-396E-4B4E-B9F1-FA38E20A8BE1}" type="slidenum">
              <a:rPr b="0" lang="nl-NL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BDF6D-2685-42F5-8B3F-31603F776255}" type="slidenum">
              <a:rPr b="0" lang="nl-NL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00000"/>
                </a:solidFill>
                <a:latin typeface="Times New Roman"/>
              </a:rPr>
              <a:t>Paardenrassen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16" name="Tijdelijke aanduiding voor inhoud 3" descr="groninger.jpg"/>
          <p:cNvPicPr/>
          <p:nvPr/>
        </p:nvPicPr>
        <p:blipFill>
          <a:blip r:embed="rId1"/>
          <a:stretch/>
        </p:blipFill>
        <p:spPr>
          <a:xfrm>
            <a:off x="2916360" y="2133720"/>
            <a:ext cx="5956200" cy="39654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5" descr="GroningerPaard_01.jpg"/>
          <p:cNvPicPr/>
          <p:nvPr/>
        </p:nvPicPr>
        <p:blipFill>
          <a:blip r:embed="rId2"/>
          <a:stretch/>
        </p:blipFill>
        <p:spPr>
          <a:xfrm>
            <a:off x="684360" y="549360"/>
            <a:ext cx="3600360" cy="2367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0000"/>
                </a:solidFill>
                <a:latin typeface="Times New Roman"/>
              </a:rPr>
              <a:t>Oude type ‘Groninger ’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ord-Neder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6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ssief en krachtig pa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ak bru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uigpa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5" descr="GroningerPaard_01.jpg"/>
          <p:cNvPicPr/>
          <p:nvPr/>
        </p:nvPicPr>
        <p:blipFill>
          <a:blip r:embed="rId1"/>
          <a:stretch/>
        </p:blipFill>
        <p:spPr>
          <a:xfrm>
            <a:off x="5076720" y="3573360"/>
            <a:ext cx="3600720" cy="2367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22" name="Picture 9" descr="00000339"/>
          <p:cNvPicPr/>
          <p:nvPr/>
        </p:nvPicPr>
        <p:blipFill>
          <a:blip r:embed="rId1"/>
          <a:stretch/>
        </p:blipFill>
        <p:spPr>
          <a:xfrm>
            <a:off x="1547640" y="981000"/>
            <a:ext cx="5937480" cy="453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Oude type ‘ Gelders paard ’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ederla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uigpaar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.65 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eel front, lange ru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aak voskleuri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9" descr="00000339"/>
          <p:cNvPicPr/>
          <p:nvPr/>
        </p:nvPicPr>
        <p:blipFill>
          <a:blip r:embed="rId1"/>
          <a:stretch/>
        </p:blipFill>
        <p:spPr>
          <a:xfrm>
            <a:off x="4500720" y="2852640"/>
            <a:ext cx="4230360" cy="32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27" name="Tijdelijke aanduiding voor inhoud 3" descr="kwpn.jpg"/>
          <p:cNvPicPr/>
          <p:nvPr/>
        </p:nvPicPr>
        <p:blipFill>
          <a:blip r:embed="rId1"/>
          <a:stretch/>
        </p:blipFill>
        <p:spPr>
          <a:xfrm>
            <a:off x="1258920" y="981000"/>
            <a:ext cx="6718320" cy="467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KWPN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ederla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amboe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in 1.58 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legant, veel front, verschill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portpaar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5" descr="cms"/>
          <p:cNvPicPr/>
          <p:nvPr/>
        </p:nvPicPr>
        <p:blipFill>
          <a:blip r:embed="rId1"/>
          <a:stretch/>
        </p:blipFill>
        <p:spPr>
          <a:xfrm>
            <a:off x="4859280" y="3789360"/>
            <a:ext cx="3745080" cy="24955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32" name="Tijdelijke aanduiding voor inhoud 3" descr="tuiger.jpg"/>
          <p:cNvPicPr/>
          <p:nvPr/>
        </p:nvPicPr>
        <p:blipFill>
          <a:blip r:embed="rId1"/>
          <a:stretch/>
        </p:blipFill>
        <p:spPr>
          <a:xfrm>
            <a:off x="1246320" y="1171440"/>
            <a:ext cx="6278400" cy="398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Tuigpaard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ederla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.60-1.80 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plosieve kracht, een trotse houding en een vast ritm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angespann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Tijdelijke aanduiding voor inhoud 3" descr="tuiger.jpg"/>
          <p:cNvPicPr/>
          <p:nvPr/>
        </p:nvPicPr>
        <p:blipFill>
          <a:blip r:embed="rId1"/>
          <a:stretch/>
        </p:blipFill>
        <p:spPr>
          <a:xfrm>
            <a:off x="4572000" y="3933720"/>
            <a:ext cx="3402000" cy="21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37" name="Tijdelijke aanduiding voor inhoud 3" descr="hackeny.jpg"/>
          <p:cNvPicPr/>
          <p:nvPr/>
        </p:nvPicPr>
        <p:blipFill>
          <a:blip r:embed="rId1"/>
          <a:stretch/>
        </p:blipFill>
        <p:spPr>
          <a:xfrm>
            <a:off x="1403280" y="1413000"/>
            <a:ext cx="6253200" cy="38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Hackney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ngela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an pony tot paar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erklustig, klein sierlijk hoofd, hoge staart en opgerichte h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ooral voor de wag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creatief/samengestelde menspor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5" descr="UPD-H-LittleDiana"/>
          <p:cNvPicPr/>
          <p:nvPr/>
        </p:nvPicPr>
        <p:blipFill>
          <a:blip r:embed="rId1"/>
          <a:stretch/>
        </p:blipFill>
        <p:spPr>
          <a:xfrm>
            <a:off x="5508720" y="260280"/>
            <a:ext cx="3433680" cy="24829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95" name="Tijdelijke aanduiding voor inhoud 3" descr="arabier.jpg"/>
          <p:cNvPicPr/>
          <p:nvPr/>
        </p:nvPicPr>
        <p:blipFill>
          <a:blip r:embed="rId1"/>
          <a:stretch/>
        </p:blipFill>
        <p:spPr>
          <a:xfrm>
            <a:off x="539640" y="404640"/>
            <a:ext cx="3429000" cy="4526280"/>
          </a:xfrm>
          <a:prstGeom prst="rect">
            <a:avLst/>
          </a:prstGeom>
          <a:ln w="0">
            <a:noFill/>
          </a:ln>
        </p:spPr>
      </p:pic>
      <p:pic>
        <p:nvPicPr>
          <p:cNvPr id="96" name="Afbeelding 4" descr="arabier2.jpg"/>
          <p:cNvPicPr/>
          <p:nvPr/>
        </p:nvPicPr>
        <p:blipFill>
          <a:blip r:embed="rId2"/>
          <a:stretch/>
        </p:blipFill>
        <p:spPr>
          <a:xfrm>
            <a:off x="4140360" y="2852640"/>
            <a:ext cx="4790880" cy="31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42" name="Tijdelijke aanduiding voor inhoud 3" descr="Friesepaard.jpg"/>
          <p:cNvPicPr/>
          <p:nvPr/>
        </p:nvPicPr>
        <p:blipFill>
          <a:blip r:embed="rId1"/>
          <a:stretch/>
        </p:blipFill>
        <p:spPr>
          <a:xfrm>
            <a:off x="1187280" y="836640"/>
            <a:ext cx="68328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Friese paard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8229600" cy="43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ederla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.55-1.7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armblo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nige raszuivere paard in Nederland, zwar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an oorsprong landbouwpaard,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erlijk ogend paard,veel behang en een fiere houding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ressuur en aangespannen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Afbeelding 4" descr="fries.jpg"/>
          <p:cNvPicPr/>
          <p:nvPr/>
        </p:nvPicPr>
        <p:blipFill>
          <a:blip r:embed="rId1"/>
          <a:stretch/>
        </p:blipFill>
        <p:spPr>
          <a:xfrm>
            <a:off x="6084720" y="333360"/>
            <a:ext cx="2880000" cy="192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47" name="Tijdelijke aanduiding voor inhoud 3" descr="Nederlands-trekpaard_434x326.jpg"/>
          <p:cNvPicPr/>
          <p:nvPr/>
        </p:nvPicPr>
        <p:blipFill>
          <a:blip r:embed="rId1"/>
          <a:stretch/>
        </p:blipFill>
        <p:spPr>
          <a:xfrm>
            <a:off x="1547640" y="836640"/>
            <a:ext cx="6183360" cy="46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Belgisch Trekpaard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elgië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in. 1.60 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oudblo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Zwaar gebouwd paar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eel uithoudingsvermogen, goed karakter en erg sterk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andbouw, fokkerij, sh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5" descr="Espoir B 760 geb. 4 maart 1916"/>
          <p:cNvPicPr/>
          <p:nvPr/>
        </p:nvPicPr>
        <p:blipFill>
          <a:blip r:embed="rId1"/>
          <a:stretch/>
        </p:blipFill>
        <p:spPr>
          <a:xfrm>
            <a:off x="5867280" y="1125360"/>
            <a:ext cx="2751120" cy="223236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52" name="Tijdelijke aanduiding voor inhoud 3" descr="shire.jpg"/>
          <p:cNvPicPr/>
          <p:nvPr/>
        </p:nvPicPr>
        <p:blipFill>
          <a:blip r:embed="rId1"/>
          <a:stretch/>
        </p:blipFill>
        <p:spPr>
          <a:xfrm>
            <a:off x="1476360" y="836640"/>
            <a:ext cx="6264360" cy="50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Shir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ngela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emiddeld 1.8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oudblo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ang hoofd, openstaande neusgat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Zwaar gebouwd, witte benen en bl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ekpaard, shows voor de wagen en onder het zad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5" descr="wp60cb9492_0f.jpg"/>
          <p:cNvPicPr/>
          <p:nvPr/>
        </p:nvPicPr>
        <p:blipFill>
          <a:blip r:embed="rId1"/>
          <a:stretch/>
        </p:blipFill>
        <p:spPr>
          <a:xfrm>
            <a:off x="5724360" y="549360"/>
            <a:ext cx="2830680" cy="19508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57" name="Tijdelijke aanduiding voor inhoud 5" descr="shetlander.jpg"/>
          <p:cNvPicPr/>
          <p:nvPr/>
        </p:nvPicPr>
        <p:blipFill>
          <a:blip r:embed="rId1"/>
          <a:stretch/>
        </p:blipFill>
        <p:spPr>
          <a:xfrm>
            <a:off x="1258920" y="1052640"/>
            <a:ext cx="6630840" cy="44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Shetlander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orspronkelijk Schotla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in 86 cm- 1.07 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oudblo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ber r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orte benen, stevig gebouw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erkste paardenras ter werel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eelzijdige pon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Afbeelding 4" descr="shetlander2"/>
          <p:cNvPicPr/>
          <p:nvPr/>
        </p:nvPicPr>
        <p:blipFill>
          <a:blip r:embed="rId1"/>
          <a:stretch/>
        </p:blipFill>
        <p:spPr>
          <a:xfrm>
            <a:off x="6300720" y="2637000"/>
            <a:ext cx="2448000" cy="32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62" name="Tijdelijke aanduiding voor inhoud 3" descr="welsh.jpg"/>
          <p:cNvPicPr/>
          <p:nvPr/>
        </p:nvPicPr>
        <p:blipFill>
          <a:blip r:embed="rId1"/>
          <a:stretch/>
        </p:blipFill>
        <p:spPr>
          <a:xfrm>
            <a:off x="611280" y="549360"/>
            <a:ext cx="3641760" cy="3038400"/>
          </a:xfrm>
          <a:prstGeom prst="rect">
            <a:avLst/>
          </a:prstGeom>
          <a:ln w="0">
            <a:noFill/>
          </a:ln>
        </p:spPr>
      </p:pic>
      <p:pic>
        <p:nvPicPr>
          <p:cNvPr id="163" name="Afbeelding 4" descr="welsh.jpg"/>
          <p:cNvPicPr/>
          <p:nvPr/>
        </p:nvPicPr>
        <p:blipFill>
          <a:blip r:embed="rId2"/>
          <a:stretch/>
        </p:blipFill>
        <p:spPr>
          <a:xfrm>
            <a:off x="4356000" y="2708280"/>
            <a:ext cx="4530960" cy="33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Welsh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al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in 1.16 max 1.55 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6 verschillende fokrichting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telligente ogen, korte ru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eel uithoudingsvermogen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eelzijdige pony’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Afbeelding 4" descr="welsh.jpg"/>
          <p:cNvPicPr/>
          <p:nvPr/>
        </p:nvPicPr>
        <p:blipFill>
          <a:blip r:embed="rId1"/>
          <a:stretch/>
        </p:blipFill>
        <p:spPr>
          <a:xfrm>
            <a:off x="5724360" y="549360"/>
            <a:ext cx="3054600" cy="22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Times New Roman"/>
              </a:rPr>
              <a:t>Arabier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Arabisch Schiereila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Ong. 1.50 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Gespierd paar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Klein hoofd,sprekende ogen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Fijne neu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Intelligent, vurig karak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Elegant rijpaar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Renpaard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Tijdelijke aanduiding voor inhoud 3" descr="arabier.jpg"/>
          <p:cNvPicPr/>
          <p:nvPr/>
        </p:nvPicPr>
        <p:blipFill>
          <a:blip r:embed="rId1"/>
          <a:stretch/>
        </p:blipFill>
        <p:spPr>
          <a:xfrm>
            <a:off x="6012000" y="2349360"/>
            <a:ext cx="2592360" cy="34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68" name="Tijdelijke aanduiding voor inhoud 3" descr="fjord.jpg"/>
          <p:cNvPicPr/>
          <p:nvPr/>
        </p:nvPicPr>
        <p:blipFill>
          <a:blip r:embed="rId1"/>
          <a:stretch/>
        </p:blipFill>
        <p:spPr>
          <a:xfrm>
            <a:off x="4788000" y="3284640"/>
            <a:ext cx="3989160" cy="2658960"/>
          </a:xfrm>
          <a:prstGeom prst="rect">
            <a:avLst/>
          </a:prstGeom>
          <a:ln w="0">
            <a:noFill/>
          </a:ln>
        </p:spPr>
      </p:pic>
      <p:pic>
        <p:nvPicPr>
          <p:cNvPr id="169" name="Afbeelding 4" descr="fjord.jpg"/>
          <p:cNvPicPr/>
          <p:nvPr/>
        </p:nvPicPr>
        <p:blipFill>
          <a:blip r:embed="rId2"/>
          <a:stretch/>
        </p:blipFill>
        <p:spPr>
          <a:xfrm>
            <a:off x="684360" y="620640"/>
            <a:ext cx="4295520" cy="28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Fjord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orsprong Noorweg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.35-1.50 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oudblo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alstreep, recht opstaande manen,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emoedelijke pony, fijn karak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eelzijdige en sterke pon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eelzijdig 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recreati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ar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Afbeelding 4" descr="fjord.jpg"/>
          <p:cNvPicPr/>
          <p:nvPr/>
        </p:nvPicPr>
        <p:blipFill>
          <a:blip r:embed="rId1"/>
          <a:stretch/>
        </p:blipFill>
        <p:spPr>
          <a:xfrm>
            <a:off x="5292720" y="404640"/>
            <a:ext cx="3354480" cy="22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74" name="Tijdelijke aanduiding voor inhoud 3" descr="haflinger.jpg"/>
          <p:cNvPicPr/>
          <p:nvPr/>
        </p:nvPicPr>
        <p:blipFill>
          <a:blip r:embed="rId1"/>
          <a:stretch/>
        </p:blipFill>
        <p:spPr>
          <a:xfrm>
            <a:off x="2700360" y="620640"/>
            <a:ext cx="3527280" cy="52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Haflinger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erkomst Oostenrij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in. 1.35- 1.55 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oudblo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ardenrass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ange witte manen,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eel uithoudingsvermogen, goed karak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eelzijdi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Tijdelijke aanduiding voor inhoud 3" descr="haflinger.jpg"/>
          <p:cNvPicPr/>
          <p:nvPr/>
        </p:nvPicPr>
        <p:blipFill>
          <a:blip r:embed="rId1"/>
          <a:stretch/>
        </p:blipFill>
        <p:spPr>
          <a:xfrm>
            <a:off x="6732720" y="260280"/>
            <a:ext cx="187956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79" name="Tijdelijke aanduiding voor inhoud 3" descr="quarter.jpg"/>
          <p:cNvPicPr/>
          <p:nvPr/>
        </p:nvPicPr>
        <p:blipFill>
          <a:blip r:embed="rId1"/>
          <a:stretch/>
        </p:blipFill>
        <p:spPr>
          <a:xfrm>
            <a:off x="826920" y="620640"/>
            <a:ext cx="3600720" cy="283212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4" descr="stops"/>
          <p:cNvPicPr/>
          <p:nvPr/>
        </p:nvPicPr>
        <p:blipFill>
          <a:blip r:embed="rId2"/>
          <a:stretch/>
        </p:blipFill>
        <p:spPr>
          <a:xfrm>
            <a:off x="5292720" y="1844640"/>
            <a:ext cx="2857680" cy="40291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Quarter Hors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erenigde Stat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eedrijv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.45-1.60 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Zware bespiering achterha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ort breed hoofd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eelzijdig paar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4" descr="stops"/>
          <p:cNvPicPr/>
          <p:nvPr/>
        </p:nvPicPr>
        <p:blipFill>
          <a:blip r:embed="rId1"/>
          <a:stretch/>
        </p:blipFill>
        <p:spPr>
          <a:xfrm>
            <a:off x="6084720" y="1773360"/>
            <a:ext cx="2857680" cy="40291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85" name="Tijdelijke aanduiding voor inhoud 3" descr="tinker.jpg"/>
          <p:cNvPicPr/>
          <p:nvPr/>
        </p:nvPicPr>
        <p:blipFill>
          <a:blip r:embed="rId1"/>
          <a:stretch/>
        </p:blipFill>
        <p:spPr>
          <a:xfrm>
            <a:off x="1547640" y="765000"/>
            <a:ext cx="6048720" cy="483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Tinker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erland, Engela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in. 1.35-1.70 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oudblo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aak bo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4 typen Tinkers, 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Romany Co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lein en sierlijk hoofd, kleine or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eel behang, dikke vach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creatiepaar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4" descr="F:\Foto's\946152204_5_e2Vn.jpg"/>
          <p:cNvPicPr/>
          <p:nvPr/>
        </p:nvPicPr>
        <p:blipFill>
          <a:blip r:embed="rId1"/>
          <a:stretch/>
        </p:blipFill>
        <p:spPr>
          <a:xfrm>
            <a:off x="6084720" y="476280"/>
            <a:ext cx="2519640" cy="28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90" name="Tijdelijke aanduiding voor inhoud 3" descr="paard.jpg"/>
          <p:cNvPicPr/>
          <p:nvPr/>
        </p:nvPicPr>
        <p:blipFill>
          <a:blip r:embed="rId1"/>
          <a:stretch/>
        </p:blipFill>
        <p:spPr>
          <a:xfrm>
            <a:off x="900000" y="1484280"/>
            <a:ext cx="7404120" cy="36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Przewalski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ooral in 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Mongolië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aatste overgebleven wilde paar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.22-1.44 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orte benen, rechtopstaande manen, beige brui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iet te temmen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eeft in kuddeverband (harem of hengstengroepe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5" descr="przewalski1.JPG (295558 bytes)"/>
          <p:cNvPicPr/>
          <p:nvPr/>
        </p:nvPicPr>
        <p:blipFill>
          <a:blip r:embed="rId1"/>
          <a:stretch/>
        </p:blipFill>
        <p:spPr>
          <a:xfrm>
            <a:off x="5940360" y="404640"/>
            <a:ext cx="2725920" cy="17701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01" name="Tijdelijke aanduiding voor inhoud 3" descr="falabella.jpg"/>
          <p:cNvPicPr/>
          <p:nvPr/>
        </p:nvPicPr>
        <p:blipFill>
          <a:blip r:embed="rId1"/>
          <a:stretch/>
        </p:blipFill>
        <p:spPr>
          <a:xfrm>
            <a:off x="1476360" y="981000"/>
            <a:ext cx="610236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95" name="Tijdelijke aanduiding voor inhoud 10" descr="lipizzaner.jpg"/>
          <p:cNvPicPr/>
          <p:nvPr/>
        </p:nvPicPr>
        <p:blipFill>
          <a:blip r:embed="rId1"/>
          <a:stretch/>
        </p:blipFill>
        <p:spPr>
          <a:xfrm>
            <a:off x="1332000" y="981000"/>
            <a:ext cx="6524640" cy="44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Lippizaner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ipica in Sloveni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ë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.48-1.62 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ge halsaanzet, korte en stevige ben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ooral schimmel/wi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eschikt voor hoge rijkunst, koets-paar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Tijdelijke aanduiding voor inhoud 3" descr="lipizaner.jpg"/>
          <p:cNvPicPr/>
          <p:nvPr/>
        </p:nvPicPr>
        <p:blipFill>
          <a:blip r:embed="rId1"/>
          <a:stretch/>
        </p:blipFill>
        <p:spPr>
          <a:xfrm>
            <a:off x="7020000" y="333360"/>
            <a:ext cx="1673280" cy="24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0000"/>
                </a:solidFill>
                <a:latin typeface="Garamond"/>
              </a:rPr>
              <a:t>                      </a:t>
            </a:r>
            <a:r>
              <a:rPr b="0" lang="nl-NL" sz="4200" spc="-1" strike="noStrike">
                <a:solidFill>
                  <a:srgbClr val="000000"/>
                </a:solidFill>
                <a:latin typeface="Garamond"/>
              </a:rPr>
              <a:t>Falabell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Argentinië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Maximaal 87 cm, miniatuurpaardj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Proporties van een paard, edel hoof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Intelligent, volgzaa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Warmblo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Showpaardj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Tijdelijke aanduiding voor inhoud 3" descr="falabella.jpg"/>
          <p:cNvPicPr/>
          <p:nvPr/>
        </p:nvPicPr>
        <p:blipFill>
          <a:blip r:embed="rId1"/>
          <a:stretch/>
        </p:blipFill>
        <p:spPr>
          <a:xfrm>
            <a:off x="5219640" y="3357720"/>
            <a:ext cx="3457800" cy="27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06" name="Tijdelijke aanduiding voor inhoud 3" descr="engels-volbloed-3.large.jpg"/>
          <p:cNvPicPr/>
          <p:nvPr/>
        </p:nvPicPr>
        <p:blipFill>
          <a:blip r:embed="rId1"/>
          <a:stretch/>
        </p:blipFill>
        <p:spPr>
          <a:xfrm>
            <a:off x="2050920" y="1773360"/>
            <a:ext cx="4948200" cy="36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0000"/>
                </a:solidFill>
                <a:latin typeface="Times New Roman"/>
              </a:rPr>
              <a:t>Engels Volbloed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Herkomst Engela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1.55/1.80 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Snelste paard ter werel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Sierlijk, gespier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Gevoelig, werklus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Rijpaard/renpaar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5" descr="pumaren"/>
          <p:cNvPicPr/>
          <p:nvPr/>
        </p:nvPicPr>
        <p:blipFill>
          <a:blip r:embed="rId1"/>
          <a:stretch/>
        </p:blipFill>
        <p:spPr>
          <a:xfrm>
            <a:off x="5292720" y="3068640"/>
            <a:ext cx="3564000" cy="28162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11" name="Tijdelijke aanduiding voor inhoud 3" descr="draver.jpg"/>
          <p:cNvPicPr/>
          <p:nvPr/>
        </p:nvPicPr>
        <p:blipFill>
          <a:blip r:embed="rId1"/>
          <a:stretch/>
        </p:blipFill>
        <p:spPr>
          <a:xfrm>
            <a:off x="1547640" y="1268280"/>
            <a:ext cx="6039000" cy="453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0000"/>
                </a:solidFill>
                <a:latin typeface="Times New Roman"/>
              </a:rPr>
              <a:t>Draver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Fijn gebouw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Tot 1.60-1.65 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Lichtvoetig, snelheid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Uithoudingsvermog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Endura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Tijdelijke aanduiding voor inhoud 3" descr="draver.jpg"/>
          <p:cNvPicPr/>
          <p:nvPr/>
        </p:nvPicPr>
        <p:blipFill>
          <a:blip r:embed="rId1"/>
          <a:stretch/>
        </p:blipFill>
        <p:spPr>
          <a:xfrm>
            <a:off x="4716360" y="1052640"/>
            <a:ext cx="4032360" cy="30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4T18:32:41Z</dcterms:created>
  <dc:creator>Robert</dc:creator>
  <dc:description/>
  <dc:language>en-US</dc:language>
  <cp:lastModifiedBy>Nikki Pots</cp:lastModifiedBy>
  <dcterms:modified xsi:type="dcterms:W3CDTF">2018-01-29T11:59:36Z</dcterms:modified>
  <cp:revision>35</cp:revision>
  <dc:subject/>
  <dc:title>Paarden</dc:title>
</cp:coreProperties>
</file>