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2246-9FA9-40C4-B5DF-858D1C04A5E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merican Bashkir Curly Type: indiaans paard Herkomst:Verenigde Staten en Canada Bijzonderheden: geschikt voor mensen die allergisch zijn voor paardenhaar Eigenschappen: Stokmaat:140 – 165 cm Kleuren: al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7F16-8F4A-4709-9DDA-0B3CC6D8B382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AA0-04B8-49DB-A42E-69280550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D03D-D750-45F3-9F9A-0D944026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FB8-0EEE-4A90-8354-2B2C8862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3971-B3DA-4C17-8100-146BE11B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8A75-4208-45FD-A47E-703BADC4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134E-A565-4949-B621-77B00585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3653-CB1B-4810-A3F6-85FE02BA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3E59-938D-4972-966A-BBD9B3B3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28F1-567A-435A-8532-6CE8AF13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8D89-0A91-421C-873D-DABC70FF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F0EE-9BB1-45CA-B0CF-91E6B357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620-0107-44C3-BFA6-D2E1D32C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591B-1977-47B6-9ED6-27F34361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3A96-3E22-4D86-A1FB-6C64EEA1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DD69-6CBA-4D19-8046-10522108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04A4-8811-45E9-85E1-AF031610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AE4F-CCA8-4AA1-B843-1130C5CD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9711-2F47-4F8C-9324-049BA87B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203D-9083-47F7-8579-6DBE83BA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C57-EDB3-4C93-B342-0E4CFE5A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F6C1-75CF-4F20-9CAC-6A07263D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5F7B-5D01-42DE-8CFA-6EF4169D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D21-27ED-4324-A58B-EAC5158E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D8E3-475A-4113-8C96-3019B424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A769-1CF7-43B8-B715-D49A146259CB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BAF2-4DBA-486D-9C96-1EAA0F36CA42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0000"/>
                </a:solidFill>
                <a:latin typeface="Times New Roman"/>
              </a:rPr>
              <a:t>Paardenrass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Tijdelijke aanduiding voor inhoud 3" descr="groninger.jpg"/>
          <p:cNvPicPr/>
          <p:nvPr/>
        </p:nvPicPr>
        <p:blipFill>
          <a:blip r:embed="rId1"/>
          <a:stretch/>
        </p:blipFill>
        <p:spPr>
          <a:xfrm>
            <a:off x="2916360" y="2133720"/>
            <a:ext cx="5956200" cy="396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GroningerPaard_01.jpg"/>
          <p:cNvPicPr/>
          <p:nvPr/>
        </p:nvPicPr>
        <p:blipFill>
          <a:blip r:embed="rId2"/>
          <a:stretch/>
        </p:blipFill>
        <p:spPr>
          <a:xfrm>
            <a:off x="684360" y="549360"/>
            <a:ext cx="360036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Oude type ‘Groninger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rd-Ned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ief en krachtig 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br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GroningerPaard_01.jpg"/>
          <p:cNvPicPr/>
          <p:nvPr/>
        </p:nvPicPr>
        <p:blipFill>
          <a:blip r:embed="rId1"/>
          <a:stretch/>
        </p:blipFill>
        <p:spPr>
          <a:xfrm>
            <a:off x="5076720" y="3573360"/>
            <a:ext cx="360072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9" descr="00000339"/>
          <p:cNvPicPr/>
          <p:nvPr/>
        </p:nvPicPr>
        <p:blipFill>
          <a:blip r:embed="rId1"/>
          <a:stretch/>
        </p:blipFill>
        <p:spPr>
          <a:xfrm>
            <a:off x="1547640" y="981000"/>
            <a:ext cx="59374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ude type ‘ Gelders paard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front, lang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voskleur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00000339"/>
          <p:cNvPicPr/>
          <p:nvPr/>
        </p:nvPicPr>
        <p:blipFill>
          <a:blip r:embed="rId1"/>
          <a:stretch/>
        </p:blipFill>
        <p:spPr>
          <a:xfrm>
            <a:off x="4500720" y="2852640"/>
            <a:ext cx="42303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Tijdelijke aanduiding voor inhoud 3" descr="kwpn.jpg"/>
          <p:cNvPicPr/>
          <p:nvPr/>
        </p:nvPicPr>
        <p:blipFill>
          <a:blip r:embed="rId1"/>
          <a:stretch/>
        </p:blipFill>
        <p:spPr>
          <a:xfrm>
            <a:off x="1258920" y="981000"/>
            <a:ext cx="671832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KWP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mbo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58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gant, veel front, verschi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rt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cms"/>
          <p:cNvPicPr/>
          <p:nvPr/>
        </p:nvPicPr>
        <p:blipFill>
          <a:blip r:embed="rId1"/>
          <a:stretch/>
        </p:blipFill>
        <p:spPr>
          <a:xfrm>
            <a:off x="4859280" y="3789360"/>
            <a:ext cx="3745080" cy="249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1246320" y="1171440"/>
            <a:ext cx="62784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uig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0-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osieve kracht, een trotse houding en een vast rit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gesp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4572000" y="3933720"/>
            <a:ext cx="34020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7" name="Tijdelijke aanduiding voor inhoud 3" descr="hackeny.jpg"/>
          <p:cNvPicPr/>
          <p:nvPr/>
        </p:nvPicPr>
        <p:blipFill>
          <a:blip r:embed="rId1"/>
          <a:stretch/>
        </p:blipFill>
        <p:spPr>
          <a:xfrm>
            <a:off x="1403280" y="1413000"/>
            <a:ext cx="625320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ck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pony tot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rklustig, klein sierlijk hoofd, hoge staart en opgerichte h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voor de w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f/samengestelde me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UPD-H-LittleDiana"/>
          <p:cNvPicPr/>
          <p:nvPr/>
        </p:nvPicPr>
        <p:blipFill>
          <a:blip r:embed="rId1"/>
          <a:stretch/>
        </p:blipFill>
        <p:spPr>
          <a:xfrm>
            <a:off x="5508720" y="260280"/>
            <a:ext cx="3433680" cy="24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539640" y="404640"/>
            <a:ext cx="3429000" cy="452628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arabier2.jpg"/>
          <p:cNvPicPr/>
          <p:nvPr/>
        </p:nvPicPr>
        <p:blipFill>
          <a:blip r:embed="rId2"/>
          <a:stretch/>
        </p:blipFill>
        <p:spPr>
          <a:xfrm>
            <a:off x="4140360" y="2852640"/>
            <a:ext cx="47908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Tijdelijke aanduiding voor inhoud 3" descr="Friesepaard.jpg"/>
          <p:cNvPicPr/>
          <p:nvPr/>
        </p:nvPicPr>
        <p:blipFill>
          <a:blip r:embed="rId1"/>
          <a:stretch/>
        </p:blipFill>
        <p:spPr>
          <a:xfrm>
            <a:off x="1187280" y="836640"/>
            <a:ext cx="6832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riese 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55-1.7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ige raszuivere paard in Nederland, zw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oorsprong landbouwpaard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erlijk ogend paard,veel behang en een fiere houd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essuur en aangespann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Afbeelding 4" descr="fries.jpg"/>
          <p:cNvPicPr/>
          <p:nvPr/>
        </p:nvPicPr>
        <p:blipFill>
          <a:blip r:embed="rId1"/>
          <a:stretch/>
        </p:blipFill>
        <p:spPr>
          <a:xfrm>
            <a:off x="6084720" y="333360"/>
            <a:ext cx="28800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Tijdelijke aanduiding voor inhoud 3" descr="Nederlands-trekpaard_434x326.jpg"/>
          <p:cNvPicPr/>
          <p:nvPr/>
        </p:nvPicPr>
        <p:blipFill>
          <a:blip r:embed="rId1"/>
          <a:stretch/>
        </p:blipFill>
        <p:spPr>
          <a:xfrm>
            <a:off x="1547640" y="836640"/>
            <a:ext cx="61833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Belgisch Trek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g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 pa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 en erg ste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dbouw, fokkerij, sh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Espoir B 760 geb. 4 maart 1916"/>
          <p:cNvPicPr/>
          <p:nvPr/>
        </p:nvPicPr>
        <p:blipFill>
          <a:blip r:embed="rId1"/>
          <a:stretch/>
        </p:blipFill>
        <p:spPr>
          <a:xfrm>
            <a:off x="5867280" y="1125360"/>
            <a:ext cx="2751120" cy="223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Tijdelijke aanduiding voor inhoud 3" descr="shire.jpg"/>
          <p:cNvPicPr/>
          <p:nvPr/>
        </p:nvPicPr>
        <p:blipFill>
          <a:blip r:embed="rId1"/>
          <a:stretch/>
        </p:blipFill>
        <p:spPr>
          <a:xfrm>
            <a:off x="1476360" y="836640"/>
            <a:ext cx="626436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i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iddeld 1.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 hoofd, openstaande neusg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, witte benen en 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kpaard, shows voor de wagen en onder het za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wp60cb9492_0f.jpg"/>
          <p:cNvPicPr/>
          <p:nvPr/>
        </p:nvPicPr>
        <p:blipFill>
          <a:blip r:embed="rId1"/>
          <a:stretch/>
        </p:blipFill>
        <p:spPr>
          <a:xfrm>
            <a:off x="5724360" y="549360"/>
            <a:ext cx="2830680" cy="1950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Tijdelijke aanduiding voor inhoud 5" descr="shetlander.jpg"/>
          <p:cNvPicPr/>
          <p:nvPr/>
        </p:nvPicPr>
        <p:blipFill>
          <a:blip r:embed="rId1"/>
          <a:stretch/>
        </p:blipFill>
        <p:spPr>
          <a:xfrm>
            <a:off x="1258920" y="1052640"/>
            <a:ext cx="663084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etlan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kelijk Schot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86 cm- 1.07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ber 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stevig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rkste paardenras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Afbeelding 4" descr="shetlander2"/>
          <p:cNvPicPr/>
          <p:nvPr/>
        </p:nvPicPr>
        <p:blipFill>
          <a:blip r:embed="rId1"/>
          <a:stretch/>
        </p:blipFill>
        <p:spPr>
          <a:xfrm>
            <a:off x="6300720" y="2637000"/>
            <a:ext cx="24480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2" name="Tijdelijke aanduiding voor inhoud 3" descr="welsh.jpg"/>
          <p:cNvPicPr/>
          <p:nvPr/>
        </p:nvPicPr>
        <p:blipFill>
          <a:blip r:embed="rId1"/>
          <a:stretch/>
        </p:blipFill>
        <p:spPr>
          <a:xfrm>
            <a:off x="611280" y="549360"/>
            <a:ext cx="3641760" cy="3038400"/>
          </a:xfrm>
          <a:prstGeom prst="rect">
            <a:avLst/>
          </a:prstGeom>
          <a:ln w="0">
            <a:noFill/>
          </a:ln>
        </p:spPr>
      </p:pic>
      <p:pic>
        <p:nvPicPr>
          <p:cNvPr id="163" name="Afbeelding 4" descr="welsh.jpg"/>
          <p:cNvPicPr/>
          <p:nvPr/>
        </p:nvPicPr>
        <p:blipFill>
          <a:blip r:embed="rId2"/>
          <a:stretch/>
        </p:blipFill>
        <p:spPr>
          <a:xfrm>
            <a:off x="4356000" y="2708280"/>
            <a:ext cx="45309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els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16 max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 verschillende fokricht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lligente ogen, kort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4" descr="welsh.jpg"/>
          <p:cNvPicPr/>
          <p:nvPr/>
        </p:nvPicPr>
        <p:blipFill>
          <a:blip r:embed="rId1"/>
          <a:stretch/>
        </p:blipFill>
        <p:spPr>
          <a:xfrm>
            <a:off x="5724360" y="549360"/>
            <a:ext cx="3054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rabi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abisch Schierei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g. 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pierd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n hoofd,sprekende oge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e n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urig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gant rij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npaar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6012000" y="2349360"/>
            <a:ext cx="25923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8" name="Tijdelijke aanduiding voor inhoud 3" descr="fjord.jpg"/>
          <p:cNvPicPr/>
          <p:nvPr/>
        </p:nvPicPr>
        <p:blipFill>
          <a:blip r:embed="rId1"/>
          <a:stretch/>
        </p:blipFill>
        <p:spPr>
          <a:xfrm>
            <a:off x="4788000" y="3284640"/>
            <a:ext cx="3989160" cy="2658960"/>
          </a:xfrm>
          <a:prstGeom prst="rect">
            <a:avLst/>
          </a:prstGeom>
          <a:ln w="0">
            <a:noFill/>
          </a:ln>
        </p:spPr>
      </p:pic>
      <p:pic>
        <p:nvPicPr>
          <p:cNvPr id="169" name="Afbeelding 4" descr="fjord.jpg"/>
          <p:cNvPicPr/>
          <p:nvPr/>
        </p:nvPicPr>
        <p:blipFill>
          <a:blip r:embed="rId2"/>
          <a:stretch/>
        </p:blipFill>
        <p:spPr>
          <a:xfrm>
            <a:off x="684360" y="620640"/>
            <a:ext cx="42955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jo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g Noorw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5-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lstreep, recht opstaand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oedelijke pony, fijn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en sterk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creati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Afbeelding 4" descr="fjord.jpg"/>
          <p:cNvPicPr/>
          <p:nvPr/>
        </p:nvPicPr>
        <p:blipFill>
          <a:blip r:embed="rId1"/>
          <a:stretch/>
        </p:blipFill>
        <p:spPr>
          <a:xfrm>
            <a:off x="5292720" y="404640"/>
            <a:ext cx="3354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2700360" y="620640"/>
            <a:ext cx="35272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fling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komst Oostenr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enras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e witt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6732720" y="260280"/>
            <a:ext cx="18795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Tijdelijke aanduiding voor inhoud 3" descr="quarter.jpg"/>
          <p:cNvPicPr/>
          <p:nvPr/>
        </p:nvPicPr>
        <p:blipFill>
          <a:blip r:embed="rId1"/>
          <a:stretch/>
        </p:blipFill>
        <p:spPr>
          <a:xfrm>
            <a:off x="826920" y="620640"/>
            <a:ext cx="3600720" cy="2832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stops"/>
          <p:cNvPicPr/>
          <p:nvPr/>
        </p:nvPicPr>
        <p:blipFill>
          <a:blip r:embed="rId2"/>
          <a:stretch/>
        </p:blipFill>
        <p:spPr>
          <a:xfrm>
            <a:off x="5292720" y="1844640"/>
            <a:ext cx="2857680" cy="4029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arter Hor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enigde St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drij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5-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re bespiering achter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 breed hoof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stops"/>
          <p:cNvPicPr/>
          <p:nvPr/>
        </p:nvPicPr>
        <p:blipFill>
          <a:blip r:embed="rId1"/>
          <a:stretch/>
        </p:blipFill>
        <p:spPr>
          <a:xfrm>
            <a:off x="6084720" y="1773360"/>
            <a:ext cx="2857680" cy="402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Tijdelijke aanduiding voor inhoud 3" descr="tinker.jpg"/>
          <p:cNvPicPr/>
          <p:nvPr/>
        </p:nvPicPr>
        <p:blipFill>
          <a:blip r:embed="rId1"/>
          <a:stretch/>
        </p:blipFill>
        <p:spPr>
          <a:xfrm>
            <a:off x="1547640" y="765000"/>
            <a:ext cx="60487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n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rland,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1.7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b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typen Tinkers,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many C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n en sierlijk hoofd, kleine o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behang, dikke v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:\Foto's\946152204_5_e2Vn.jpg"/>
          <p:cNvPicPr/>
          <p:nvPr/>
        </p:nvPicPr>
        <p:blipFill>
          <a:blip r:embed="rId1"/>
          <a:stretch/>
        </p:blipFill>
        <p:spPr>
          <a:xfrm>
            <a:off x="6084720" y="476280"/>
            <a:ext cx="25196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0" name="Tijdelijke aanduiding voor inhoud 3" descr="paard.jpg"/>
          <p:cNvPicPr/>
          <p:nvPr/>
        </p:nvPicPr>
        <p:blipFill>
          <a:blip r:embed="rId1"/>
          <a:stretch/>
        </p:blipFill>
        <p:spPr>
          <a:xfrm>
            <a:off x="900000" y="1484280"/>
            <a:ext cx="7404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zewalski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in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ngol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tste overgebleven wilde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22-1.44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rechtopstaande manen, beige br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 te temm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ft in kuddeverband (harem of hengstengroep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przewalski1.JPG (295558 bytes)"/>
          <p:cNvPicPr/>
          <p:nvPr/>
        </p:nvPicPr>
        <p:blipFill>
          <a:blip r:embed="rId1"/>
          <a:stretch/>
        </p:blipFill>
        <p:spPr>
          <a:xfrm>
            <a:off x="5940360" y="404640"/>
            <a:ext cx="2725920" cy="177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1476360" y="981000"/>
            <a:ext cx="610236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5" name="Tijdelijke aanduiding voor inhoud 10" descr="lipizzaner.jpg"/>
          <p:cNvPicPr/>
          <p:nvPr/>
        </p:nvPicPr>
        <p:blipFill>
          <a:blip r:embed="rId1"/>
          <a:stretch/>
        </p:blipFill>
        <p:spPr>
          <a:xfrm>
            <a:off x="1332000" y="981000"/>
            <a:ext cx="652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Lippizan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pica in Sloveni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8-1.62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ge halsaanzet, korte en stevige b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schimmel/w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chikt voor hoge rijkunst, koets-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Tijdelijke aanduiding voor inhoud 3" descr="lipizaner.jpg"/>
          <p:cNvPicPr/>
          <p:nvPr/>
        </p:nvPicPr>
        <p:blipFill>
          <a:blip r:embed="rId1"/>
          <a:stretch/>
        </p:blipFill>
        <p:spPr>
          <a:xfrm>
            <a:off x="7020000" y="333360"/>
            <a:ext cx="16732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                      </a:t>
            </a: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Falabe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gentin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ximaal 87 cm, miniatuur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porties van een paard, edel hoof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olgza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how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5219640" y="3357720"/>
            <a:ext cx="34578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Tijdelijke aanduiding voor inhoud 3" descr="engels-volbloed-3.large.jpg"/>
          <p:cNvPicPr/>
          <p:nvPr/>
        </p:nvPicPr>
        <p:blipFill>
          <a:blip r:embed="rId1"/>
          <a:stretch/>
        </p:blipFill>
        <p:spPr>
          <a:xfrm>
            <a:off x="2050920" y="1773360"/>
            <a:ext cx="494820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Engels Volblo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rkomst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55/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nelste paard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ierlijk, gespie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voelig, werklu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jpaard/ren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umaren"/>
          <p:cNvPicPr/>
          <p:nvPr/>
        </p:nvPicPr>
        <p:blipFill>
          <a:blip r:embed="rId1"/>
          <a:stretch/>
        </p:blipFill>
        <p:spPr>
          <a:xfrm>
            <a:off x="5292720" y="3068640"/>
            <a:ext cx="3564000" cy="2816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1547640" y="1268280"/>
            <a:ext cx="60390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Drav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t 1.60-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chtvoetig, snelheid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houdings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4716360" y="1052640"/>
            <a:ext cx="40323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8:32:41Z</dcterms:created>
  <dc:creator>Robert</dc:creator>
  <dc:description/>
  <dc:language>en-US</dc:language>
  <cp:lastModifiedBy>Nikki Pots</cp:lastModifiedBy>
  <dcterms:modified xsi:type="dcterms:W3CDTF">2018-01-29T11:59:36Z</dcterms:modified>
  <cp:revision>35</cp:revision>
  <dc:subject/>
  <dc:title>Paarden</dc:title>
</cp:coreProperties>
</file>