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6D1-2D6D-4F67-BC74-3AD74076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FCB-FEB2-4DD3-A798-9DAD8536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B86-8EB9-4740-A1D8-CC90BD8C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08B-8EE0-4C6A-B728-96AF9BA5C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0EA0-FDC0-445B-B746-2264D0BA1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BDFB-160C-4438-B104-E2EB501A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5051-C908-42AA-9F10-D039BD62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0C36-7214-40D6-AB1C-D97A35EB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387E-CEDD-4C93-8D47-4DBAB24B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7AE3-CA2B-4880-95DA-990BEBA5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AA22-C487-4C26-BFD9-08C2D833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D99-C087-464A-B165-0EBFD8DC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CFA2-ADAF-47E5-AE0E-A55F7C29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33EB-2AEC-41C3-B39C-CBCF33BA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448C-0418-4248-884A-5B53C521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AF78-794A-4EE7-9C07-F7E91941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0ACD-E406-44AB-8DD2-C306FEDA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9AE-7530-413A-B1F7-422A193B0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ECC-D88E-40B6-9879-D1F7E421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8A90-E62C-4966-95B3-E7E68782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03A-EA89-4301-9F3B-2A813E6A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111-D1DF-46D4-A743-22617A64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3A4-503E-4CB9-AE01-41790721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69C-5BDC-4F5B-B020-49033AF5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2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3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4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28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29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17F2-1616-4100-A5BB-0719A517A19D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42E8-1966-4F9D-B26B-FEEA208667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22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3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24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5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6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7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28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29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0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1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2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3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4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35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36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37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38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39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0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1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2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3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4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45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46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47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48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49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50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1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2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53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54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55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6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57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58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59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0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1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2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63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64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5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66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67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68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69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0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1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2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73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74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D03C-9C05-486C-8C23-40C8F350F65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3131-4F6E-440C-B5C4-46283F018E9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next.com/fic/000/004/667/46673.pdf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l4n5EnVzEI&amp;feature=related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A272-5564-490F-B03F-6463D4B997F1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19B6-7B91-4889-A5CB-290FB3F229C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V en NV: kapitaa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atschappelijk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mogen volgens de statuten maximaal worden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plaats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er uitgegev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stort kapi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eveel aandelen zijn betaa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943600" y="2286000"/>
            <a:ext cx="2286000" cy="36576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tschappel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6095880" y="3733920"/>
            <a:ext cx="198144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plaat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248520" y="4648320"/>
            <a:ext cx="1676160" cy="9903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it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8E12-A797-49A4-809C-C58F7B9B3196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C12C-CDED-48C6-8EBA-D63056A3858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minale waarde van het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at op het aandeel en in de statu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minale waard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antal volgestorte aandelen = aandelenkapitaal = E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boven nominale waard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gio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itgifte onder nominale waarde = verb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Verlaging nominale waarde toegesta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de uitgifte: weinig praktisch n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datum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B58E-B366-4D23-9B9D-3C2754E9F3F9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ijdelijke aanduiding voor voettekst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Ondernemingsvor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ijdelijke aanduiding voor dianumm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4904-4CA9-4DEE-BC66-5F4B8361DCE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erkelijke waarde v/h aande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ers (alleen bij N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els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hlinkClick r:id="rId1"/>
              </a:rPr>
              <a:t>belegg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t belangrijk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insieke waa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ekwaarde of theoretische wa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, inclusief alle reserves (winst, agio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insieke waarde per aand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 je terugbetaalt als je zou liquid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é Kamphuis</dc:creator>
  <dc:description/>
  <dc:language>en-US</dc:language>
  <cp:lastModifiedBy>José Kamphuis</cp:lastModifiedBy>
  <dcterms:modified xsi:type="dcterms:W3CDTF">2018-01-29T22:38:00Z</dcterms:modified>
  <cp:revision>13</cp:revision>
  <dc:subject/>
  <dc:title>PowerPoint-presentatie</dc:title>
</cp:coreProperties>
</file>