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BC0-424B-44A0-BA82-15B5F0E1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73A-610F-4C77-A196-F1FF274E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C6B-8C3A-4FD1-BCA4-FA5F9442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DCA-403C-46F7-A575-57EC6165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EE3-0C5D-4FF8-BEDE-E424730F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1C3-6181-4519-82E4-430E4D31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41A-B6B2-46F7-870B-BA00E55B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B55-0F02-41C5-99A3-B2B7AA99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B75-3B0E-4E0D-97A2-6200BB2D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8D2-CC03-4E5B-913C-CBD752EA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E0A-753B-4E68-A3AB-7BDDE729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8FA-82C8-4E3B-8759-3CD3D8DA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8274-E230-4DE0-89BC-1036996242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99"/>
                </a:solidFill>
                <a:latin typeface="Arial"/>
              </a:rPr>
              <a:t>Het woord Barok betekent grillig, grotesk en de Barok is in zijn uitstraling uitbundig en overdad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99"/>
                </a:solidFill>
                <a:latin typeface="Arial"/>
              </a:rPr>
              <a:t>De Barok begint ca. 1600 in Itali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99"/>
                </a:solidFill>
                <a:latin typeface="Arial"/>
              </a:rPr>
              <a:t>In het noorden was de reformatie ontstaan. De katholieke kerk reageerde hierop, de Barok was door zijn uitbundige uitstraling geschikt om hier uiting aan te gev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292720" y="1197000"/>
            <a:ext cx="38512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Barokke k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re vorme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cht-don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eeglijke lijs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da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hamburgerschapp"/>
          <p:cNvPicPr/>
          <p:nvPr/>
        </p:nvPicPr>
        <p:blipFill>
          <a:blip r:embed="rId1"/>
          <a:stretch/>
        </p:blipFill>
        <p:spPr>
          <a:xfrm>
            <a:off x="0" y="620640"/>
            <a:ext cx="5024520" cy="558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59280" y="1196640"/>
            <a:ext cx="410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nks Barokke taf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Barokke k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afbm-1715-Bill-tafel"/>
          <p:cNvPicPr/>
          <p:nvPr/>
        </p:nvPicPr>
        <p:blipFill>
          <a:blip r:embed="rId1"/>
          <a:stretch/>
        </p:blipFill>
        <p:spPr>
          <a:xfrm>
            <a:off x="0" y="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bk-16625"/>
          <p:cNvPicPr/>
          <p:nvPr/>
        </p:nvPicPr>
        <p:blipFill>
          <a:blip r:embed="rId2"/>
          <a:stretch/>
        </p:blipFill>
        <p:spPr>
          <a:xfrm>
            <a:off x="4572000" y="2286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5660640"/>
            <a:ext cx="82440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in schilderij lijsten zijn de kenmerken duidelijk zichtba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800px-Louis_XIV_Cadre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37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580000" y="1915920"/>
            <a:ext cx="35640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ereniging van aarde en water van Rub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ythologisch verhaal, Demeter en Poseid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eeglijk, licht-donker contr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de_vereniging_van_aarde_en_water"/>
          <p:cNvPicPr/>
          <p:nvPr/>
        </p:nvPicPr>
        <p:blipFill>
          <a:blip r:embed="rId1"/>
          <a:stretch/>
        </p:blipFill>
        <p:spPr>
          <a:xfrm>
            <a:off x="0" y="0"/>
            <a:ext cx="55418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5660640"/>
            <a:ext cx="896472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taarstuk, drieluik de Kruisafname van Rub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4797000"/>
            <a:ext cx="10908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2417578"/>
          <p:cNvPicPr/>
          <p:nvPr/>
        </p:nvPicPr>
        <p:blipFill>
          <a:blip r:embed="rId1"/>
          <a:stretch/>
        </p:blipFill>
        <p:spPr>
          <a:xfrm>
            <a:off x="0" y="0"/>
            <a:ext cx="9144000" cy="5707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8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5589360"/>
            <a:ext cx="9036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fond schildering, aurora, de dagen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heid van architectuur, beeldhouwkunst en schilderku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nmerken zijn ook hier weer goed zichtb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Versailles_Apollozaal_plafond"/>
          <p:cNvPicPr/>
          <p:nvPr/>
        </p:nvPicPr>
        <p:blipFill>
          <a:blip r:embed="rId1"/>
          <a:stretch/>
        </p:blipFill>
        <p:spPr>
          <a:xfrm>
            <a:off x="0" y="0"/>
            <a:ext cx="6227640" cy="492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schilders streefden ernaar de schildering zo echt mogelijk te laten lijken; soms zo bedrieglijk echt dat moeilijk te zien was of er wel of geen wand of plafond w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dergelijk schildereffect noemt men ook wel: ‘trompe l’oeil’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gezichtsbedr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normal_PA060059"/>
          <p:cNvPicPr/>
          <p:nvPr/>
        </p:nvPicPr>
        <p:blipFill>
          <a:blip r:embed="rId1"/>
          <a:stretch/>
        </p:blipFill>
        <p:spPr>
          <a:xfrm>
            <a:off x="0" y="0"/>
            <a:ext cx="7020000" cy="526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32000" y="3141360"/>
            <a:ext cx="2962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avid van Bern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fecte en zeer beweeglijke uitbeel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bernini_david2"/>
          <p:cNvPicPr/>
          <p:nvPr/>
        </p:nvPicPr>
        <p:blipFill>
          <a:blip r:embed="rId1"/>
          <a:stretch/>
        </p:blipFill>
        <p:spPr>
          <a:xfrm>
            <a:off x="0" y="0"/>
            <a:ext cx="4351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7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7092720" y="3644640"/>
            <a:ext cx="166212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5373360"/>
            <a:ext cx="793116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onteinen waren in de Barok gelief, het water van de fonteinen geeft letterlijk een directe bewe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ok zien we hierin mooi de eenheid tussen gebouw en beeldhouwku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RomeFontein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5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04000" y="765000"/>
            <a:ext cx="2340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end water, de fontein, maar ook de beelden zijn heel beweeglij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3" descr="250px-Quattro_fiumi_c"/>
          <p:cNvPicPr/>
          <p:nvPr/>
        </p:nvPicPr>
        <p:blipFill>
          <a:blip r:embed="rId1"/>
          <a:stretch/>
        </p:blipFill>
        <p:spPr>
          <a:xfrm>
            <a:off x="0" y="0"/>
            <a:ext cx="5149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859280" y="1125360"/>
            <a:ext cx="428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lgeme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als in de Renaissance worden in de Barok Klassieke elementen toegepast, zuilen, timpan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: gevels met sterk inspringende en uitstekende delen, schilder- en beeldhouwwerk vaak met een sterk beweeglijk karak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-donker effect: in de gevels sterke licht en schaduwwerking ook   schilder- en beeldhouwwerken hebben vaak ook een licht-donker contra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traling van zwaar / overdaad en rijk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6" descr="292773-2de40e0d504f583cda7465979f958a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5489280"/>
            <a:ext cx="4038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rnini's " Extase van de heilige Theresia "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baroque_bernini_ecstasy-of-st-theresa"/>
          <p:cNvPicPr/>
          <p:nvPr/>
        </p:nvPicPr>
        <p:blipFill>
          <a:blip r:embed="rId2"/>
          <a:stretch/>
        </p:blipFill>
        <p:spPr>
          <a:xfrm>
            <a:off x="6049800" y="2395440"/>
            <a:ext cx="3094200" cy="44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292720" y="764640"/>
            <a:ext cx="3851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ldakijn in de        st. Pieter te Rome van Bern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piraal gevormde zuilen ogen heel beweeglij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7" descr="rome-sint-pieters%20(13)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8000" y="4724280"/>
            <a:ext cx="619272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rlskirche van Fischer von Erlach te Wen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el dynamisch gebouw terwijl de symmetrie toch weer een zekere rust gee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0" descr="Erlach_4"/>
          <p:cNvPicPr/>
          <p:nvPr/>
        </p:nvPicPr>
        <p:blipFill>
          <a:blip r:embed="rId1"/>
          <a:stretch/>
        </p:blipFill>
        <p:spPr>
          <a:xfrm>
            <a:off x="0" y="0"/>
            <a:ext cx="4038480" cy="315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0198606788_fischer-von-erlach-johann-bernhard_1"/>
          <p:cNvPicPr/>
          <p:nvPr/>
        </p:nvPicPr>
        <p:blipFill>
          <a:blip r:embed="rId2"/>
          <a:stretch/>
        </p:blipFill>
        <p:spPr>
          <a:xfrm>
            <a:off x="6372360" y="4797360"/>
            <a:ext cx="2771640" cy="203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Karlskirche%20in%20Wenen"/>
          <p:cNvPicPr/>
          <p:nvPr/>
        </p:nvPicPr>
        <p:blipFill>
          <a:blip r:embed="rId3"/>
          <a:stretch/>
        </p:blipFill>
        <p:spPr>
          <a:xfrm>
            <a:off x="3059280" y="717480"/>
            <a:ext cx="6084720" cy="406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-360" y="4005360"/>
            <a:ext cx="421164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ven de st. Pieter te Rome. Rechts het paleis in Tr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 zijn vele Klassieke elementen te z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enheid van gebouw, beeldhouwkunst en schilderkun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weeglij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icht-schaduwwerk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rticale lijn werking wordt weer sterk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verda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ware vo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Sint_Pieter"/>
          <p:cNvPicPr/>
          <p:nvPr/>
        </p:nvPicPr>
        <p:blipFill>
          <a:blip r:embed="rId1"/>
          <a:stretch/>
        </p:blipFill>
        <p:spPr>
          <a:xfrm>
            <a:off x="0" y="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TRIER6"/>
          <p:cNvPicPr/>
          <p:nvPr/>
        </p:nvPicPr>
        <p:blipFill>
          <a:blip r:embed="rId2"/>
          <a:stretch/>
        </p:blipFill>
        <p:spPr>
          <a:xfrm>
            <a:off x="4211640" y="2205000"/>
            <a:ext cx="4932360" cy="328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19640" y="5444640"/>
            <a:ext cx="3492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rieur van een ke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sunburst_karlskirche_marius_monton_thumb"/>
          <p:cNvPicPr/>
          <p:nvPr/>
        </p:nvPicPr>
        <p:blipFill>
          <a:blip r:embed="rId1"/>
          <a:stretch/>
        </p:blipFill>
        <p:spPr>
          <a:xfrm>
            <a:off x="0" y="0"/>
            <a:ext cx="49831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2" descr="bernini"/>
          <p:cNvPicPr/>
          <p:nvPr/>
        </p:nvPicPr>
        <p:blipFill>
          <a:blip r:embed="rId1"/>
          <a:stretch/>
        </p:blipFill>
        <p:spPr>
          <a:xfrm>
            <a:off x="0" y="0"/>
            <a:ext cx="44686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33"/>
          <p:cNvSpPr/>
          <p:nvPr/>
        </p:nvSpPr>
        <p:spPr>
          <a:xfrm>
            <a:off x="2195640" y="5776920"/>
            <a:ext cx="2087280" cy="1081080"/>
          </a:xfrm>
          <a:prstGeom prst="wedgeEllipseCallout">
            <a:avLst>
              <a:gd name="adj1" fmla="val -78671"/>
              <a:gd name="adj2" fmla="val -17789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er de kenmerken go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35600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 slot een aantal kenmerken opri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rok betekent grill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heid van architectuur, beeldhouwkunst en schilderku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ticaal en symmet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eeglij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cht-donker effec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en zware vor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traling van rijk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427640" y="64911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rtret van Bern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328190-3d87fe5ae65ad63c5ebf22e454e1872d"/>
          <p:cNvPicPr/>
          <p:nvPr/>
        </p:nvPicPr>
        <p:blipFill>
          <a:blip r:embed="rId1"/>
          <a:srcRect l="4250" t="0" r="0" b="0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3203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ijkdom en overda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0" descr="barok 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7761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3600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dendaagse ketting met Barokke ornamen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6" descr="barok 1"/>
          <p:cNvPicPr/>
          <p:nvPr/>
        </p:nvPicPr>
        <p:blipFill>
          <a:blip r:embed="rId1"/>
          <a:stretch/>
        </p:blipFill>
        <p:spPr>
          <a:xfrm>
            <a:off x="0" y="0"/>
            <a:ext cx="6350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96000" y="981000"/>
            <a:ext cx="33480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ymmet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rok orna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heel heeft een beweeglijke uitstral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ovale vorm zien we vaak terug in de Bar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ovaal suggereert  meer beweging dan een cirk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lijst is door het inspringen ook beweeglij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barok-kamerscherm-spiegels-2"/>
          <p:cNvPicPr/>
          <p:nvPr/>
        </p:nvPicPr>
        <p:blipFill>
          <a:blip r:embed="rId1"/>
          <a:stretch/>
        </p:blipFill>
        <p:spPr>
          <a:xfrm>
            <a:off x="17640" y="-100080"/>
            <a:ext cx="4816440" cy="720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498560" y="1125000"/>
            <a:ext cx="4645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nks Barok schilderij van een soort festoen, ook hier zien we zware vormen, overdaad, sterk licht-donker en globaal een symmetrische v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 een hedendaagse Barokke schaal, je kunt je voorstellen dat deze met zware vormen, zoals fruit en grote bloemen heel aardig in Barok sfeer op te make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Barok138"/>
          <p:cNvPicPr/>
          <p:nvPr/>
        </p:nvPicPr>
        <p:blipFill>
          <a:blip r:embed="rId1"/>
          <a:stretch/>
        </p:blipFill>
        <p:spPr>
          <a:xfrm>
            <a:off x="0" y="0"/>
            <a:ext cx="4584600" cy="566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17014_2"/>
          <p:cNvPicPr/>
          <p:nvPr/>
        </p:nvPicPr>
        <p:blipFill>
          <a:blip r:embed="rId2"/>
          <a:stretch/>
        </p:blipFill>
        <p:spPr>
          <a:xfrm>
            <a:off x="5796000" y="3573360"/>
            <a:ext cx="3133800" cy="3133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6840" y="5661000"/>
            <a:ext cx="130644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53964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27640" y="764640"/>
            <a:ext cx="44654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Barok werkstuk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1" descr="IMG_1837"/>
          <p:cNvPicPr/>
          <p:nvPr/>
        </p:nvPicPr>
        <p:blipFill>
          <a:blip r:embed="rId1"/>
          <a:stretch/>
        </p:blipFill>
        <p:spPr>
          <a:xfrm>
            <a:off x="0" y="0"/>
            <a:ext cx="3870360" cy="580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IMG_1835"/>
          <p:cNvPicPr/>
          <p:nvPr/>
        </p:nvPicPr>
        <p:blipFill>
          <a:blip r:embed="rId2"/>
          <a:stretch/>
        </p:blipFill>
        <p:spPr>
          <a:xfrm>
            <a:off x="3132000" y="1628640"/>
            <a:ext cx="3343320" cy="501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intraverde_67_3_5862"/>
          <p:cNvPicPr/>
          <p:nvPr/>
        </p:nvPicPr>
        <p:blipFill>
          <a:blip r:embed="rId3"/>
          <a:stretch/>
        </p:blipFill>
        <p:spPr>
          <a:xfrm>
            <a:off x="5148360" y="4824360"/>
            <a:ext cx="3995640" cy="20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580000" y="765000"/>
            <a:ext cx="3564000" cy="54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een Barok vaas als ondergrond zijn al dan niet modern opgemaakt heel fraaie werkstukken te m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99cc"/>
                </a:solidFill>
                <a:latin typeface="Arial"/>
              </a:rPr>
              <a:t>Kenmerken Barok bloemwer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ymmetrische ruimte innemende vorm.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gemengd en ondergeschikt aan de vorm.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el en zware materia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daad.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-donker contrast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rme kleuren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00"/>
                </a:solidFill>
                <a:latin typeface="Arial"/>
              </a:rPr>
              <a:t>Bar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kerststuk%20sierappels%202"/>
          <p:cNvPicPr/>
          <p:nvPr/>
        </p:nvPicPr>
        <p:blipFill>
          <a:blip r:embed="rId1"/>
          <a:srcRect l="0" t="0" r="0" b="3528"/>
          <a:stretch/>
        </p:blipFill>
        <p:spPr>
          <a:xfrm>
            <a:off x="0" y="0"/>
            <a:ext cx="3333600" cy="515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article6198332"/>
          <p:cNvPicPr/>
          <p:nvPr/>
        </p:nvPicPr>
        <p:blipFill>
          <a:blip r:embed="rId2"/>
          <a:stretch/>
        </p:blipFill>
        <p:spPr>
          <a:xfrm>
            <a:off x="2556000" y="3284640"/>
            <a:ext cx="3057480" cy="35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4:34:00Z</dcterms:created>
  <dc:creator>Ferweda</dc:creator>
  <dc:description/>
  <dc:language>en-US</dc:language>
  <cp:lastModifiedBy>Annoeschka Turksema</cp:lastModifiedBy>
  <dcterms:modified xsi:type="dcterms:W3CDTF">2017-12-18T15:17:50Z</dcterms:modified>
  <cp:revision>32</cp:revision>
  <dc:subject/>
  <dc:title>Dia 1</dc:title>
</cp:coreProperties>
</file>