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4171-50A8-4C15-A6E2-0315257932D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roces; Alles wat ervoor zorgt dat het aankoopproces zo vloeiend mogelijk verloo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0AF8-0CE2-4B60-85BF-3020C7DA83A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06F6-0C5E-4023-B1C4-BB34CCC5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0D04-4D07-4E15-B738-7924EBDA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CFE-054E-4C26-89C6-45335DB83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0F9-F323-4A92-9A84-78EF3347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FA40-5FF3-414A-A469-A3BB4498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8976-BBDD-49EF-A99D-B3F7B372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6466-73DC-46E1-BB7D-BA943AE7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04CC-185E-4C97-9A0A-9678DAD9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BA95-5B88-468B-B16C-942028AC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836E-53F9-449D-9D42-FA2C81C0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D1E0-9262-4C05-BE07-D15C0576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273D-DDEC-4332-ACA8-936E7DC5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FE37-EE6B-4733-B24A-7D900559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DCFB-64AA-4254-9640-F2EA08C1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7F30-C094-4739-95BB-D0804B60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284A-A539-43C4-AE67-FDDFF3E9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814F-2EA1-4B1B-BD84-78F44CE8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3698-6E59-4901-A4D1-8F9D757D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D40-878F-465A-84A2-02308755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6179-A52B-435C-9ECA-1F999585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AE0-BB19-43C8-A836-7678D396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939-B451-4BAC-A27A-890D2E0A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1AB-3362-4E85-BB40-059E36AE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7C86-8AE1-4950-B767-1FFF84FB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8155-5AC7-4529-AABD-B86D4EAA886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0331-CAD3-44BA-BF30-9E63AB12F15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usinessbox.nl/stap-6-de-product-markt-combinatie-mainmenu-36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12440" y="3860640"/>
            <a:ext cx="632484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nderwerpen van vandaa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h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ethe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Marktcombin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euwe theorie; 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gaven m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INNOVATIETHEOR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66680" y="836640"/>
            <a:ext cx="7620120" cy="1728720"/>
          </a:xfrm>
          <a:prstGeom prst="rect">
            <a:avLst/>
          </a:prstGeom>
          <a:ln w="0">
            <a:noFill/>
          </a:ln>
        </p:spPr>
      </p:pic>
      <p:sp>
        <p:nvSpPr>
          <p:cNvPr id="103" name="Tekstvak 5"/>
          <p:cNvSpPr/>
          <p:nvPr/>
        </p:nvSpPr>
        <p:spPr>
          <a:xfrm>
            <a:off x="1332000" y="256536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ze beschrijving volgt de verschillende groepen mensen die het product aanscha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kstvak 6"/>
          <p:cNvSpPr/>
          <p:nvPr/>
        </p:nvSpPr>
        <p:spPr>
          <a:xfrm>
            <a:off x="1332000" y="364500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model is  ook te gebruiken om de volwassenheid van het product uit te drukken; introductie, groei, volwassenheid, verzadiging en terug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is een combinatie van één van je 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der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product-markt-combinati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t een eigen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-matrix geeft aan welke producten voor welke groepen afnemers interessant z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Picture 2" descr="Marketingmix"/>
          <p:cNvPicPr/>
          <p:nvPr/>
        </p:nvPicPr>
        <p:blipFill>
          <a:blip r:embed="rId1"/>
          <a:stretch/>
        </p:blipFill>
        <p:spPr>
          <a:xfrm>
            <a:off x="1476360" y="1620720"/>
            <a:ext cx="468000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PERSON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en onze werknemers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 welke vaardigheden moeten onze werknemers beschikk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erkhouding verwachten wij van onze werkne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turen wij ons personeel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aarden en normen vinden wij belangrij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opleidingen bieden wij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 voor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;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Tekstvak 2"/>
          <p:cNvSpPr/>
          <p:nvPr/>
        </p:nvSpPr>
        <p:spPr>
          <a:xfrm>
            <a:off x="1187280" y="1916280"/>
            <a:ext cx="749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 ;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gen die de ondernemer zich hierbij stel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en nemen om een aankoop te do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hulp nodig hee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 protocol volgen we als een klant langer moet wach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nneer verstrekken we tijdig en op de juiste wijze informatie over levertij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on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8-01-25T07:55:46Z</dcterms:modified>
  <cp:revision>47</cp:revision>
  <dc:subject/>
  <dc:title>Marketing les 1</dc:title>
</cp:coreProperties>
</file>