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1D10-A627-475E-ADE5-A4AC439F404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roces; Alles wat ervoor zorgt dat het aankoopproces zo vloeiend mogelijk verloo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2493-1C4E-4EA9-804D-C99007A1767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FBB6-A87B-4675-B239-F8A41B4D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F53-CBF4-4A4F-9E0B-B55A5E0A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7FCA-26B9-4621-BA70-D57B6E73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AC4-EAA3-4285-A536-77EB1DA5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3E22-03DF-4092-BE6F-C5DD5F5E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6E37-4E95-4A80-8C70-10CC729F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9D2B-34E2-4C6E-869B-B7638FF8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FE28-0B6F-4C9B-AC77-3CA8F93B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3067-F3DF-439B-909E-E5FDC7CC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E82E-F03E-45EA-A943-82FF3040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F5D3-8651-4E13-ABAC-D7513C6E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B8E9-3F08-4333-B039-D5416E4F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7A95-C673-4C66-A4AC-930ECB54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DE15-DBC2-4AF5-ABC3-7C6BA737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CEE6-8C38-43C0-9B3B-BDCD7365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C722-197D-4B66-BAB8-C9E272E8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5DF1-3826-4E50-A4F9-9F5A496A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762-90D3-471E-A712-B69E9D9C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CCC-BC06-44B3-8810-4492D061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D1E-108E-43C5-B169-AEC90126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E3CB-EEAF-45B6-A4C3-EDD2FAEF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03B-B7E1-459B-9302-7E3B5C54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FDAF-2F2A-4051-92F0-58D76181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0A5-7E03-4624-9644-3CBB9ADB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F2C6-0DFB-4F41-BA8B-BEF399F0ECD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C75E-6B7E-4CA9-B554-11E0C0A27BE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usinessbox.nl/stap-6-de-product-markt-combinatie-mainmenu-36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12440" y="3860640"/>
            <a:ext cx="632484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nderwerpen van vandaa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ethe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Marktcombin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euwe theorie; 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gaven m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INNOVATIETHEOR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66680" y="836640"/>
            <a:ext cx="7620120" cy="1728720"/>
          </a:xfrm>
          <a:prstGeom prst="rect">
            <a:avLst/>
          </a:prstGeom>
          <a:ln w="0">
            <a:noFill/>
          </a:ln>
        </p:spPr>
      </p:pic>
      <p:sp>
        <p:nvSpPr>
          <p:cNvPr id="103" name="Tekstvak 5"/>
          <p:cNvSpPr/>
          <p:nvPr/>
        </p:nvSpPr>
        <p:spPr>
          <a:xfrm>
            <a:off x="1332000" y="256536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ze beschrijving volgt de verschillende groepen mensen die het product aanscha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kstvak 6"/>
          <p:cNvSpPr/>
          <p:nvPr/>
        </p:nvSpPr>
        <p:spPr>
          <a:xfrm>
            <a:off x="1332000" y="364500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model is  ook te gebruiken om de volwassenheid van het product uit te drukken; introductie, groei, volwassenheid, verzadiging en terug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is een combinatie van één van je 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der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product-markt-combinati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t een eigen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-matrix geeft aan welke producten voor welke groepen afnemers interessant z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Picture 2" descr="Marketingmix"/>
          <p:cNvPicPr/>
          <p:nvPr/>
        </p:nvPicPr>
        <p:blipFill>
          <a:blip r:embed="rId1"/>
          <a:stretch/>
        </p:blipFill>
        <p:spPr>
          <a:xfrm>
            <a:off x="1476360" y="1620720"/>
            <a:ext cx="468000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ERSON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en onze werknemers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 welke vaardigheden moeten onze werknemers beschikk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erkhouding verwachten wij van onze werkne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turen wij ons personeel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aarden en normen vinden wij belangrij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opleidingen bieden wij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 voor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;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Tekstvak 2"/>
          <p:cNvSpPr/>
          <p:nvPr/>
        </p:nvSpPr>
        <p:spPr>
          <a:xfrm>
            <a:off x="1187280" y="1916280"/>
            <a:ext cx="749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 ;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gen die de ondernemer zich hierbij stel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en nemen om een aankoop te do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hulp nodig hee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 protocol volgen we als een klant langer moet wach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nneer verstrekken we tijdig en op de juiste wijze informatie over levertij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on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8-01-25T07:55:46Z</dcterms:modified>
  <cp:revision>47</cp:revision>
  <dc:subject/>
  <dc:title>Marketing les 1</dc:title>
</cp:coreProperties>
</file>