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2838-1B32-4B62-8B67-43CB781C48D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roces; Alles wat ervoor zorgt dat het aankoopproces zo vloeiend mogelijk verloo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95EF-85D3-4412-A737-452911B97E2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2D5E-0ADB-479B-95A5-4E54E19E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CC2F-0B38-4EBB-9EA4-3FAF10AA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1E02-0493-4D11-BD68-B03D8596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3860-F39C-41AD-BE3E-7D3AE39D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FE08-C41D-4E7D-97F7-A0923B0B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1698-708A-4DEF-B271-C0D49907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9E5B-A8EF-40BA-92BF-67EAF93A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55C4-DA5A-4704-ACE9-D6F75E9D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B317-5ACB-4A92-89DE-CC1DF2E6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CE24-9429-4904-8A04-34E0F23F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36CB-9403-4310-B907-D2CFAD16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D888-9255-4FC8-AC03-DED27A43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F17E-2CF6-47D3-B563-08D5B420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F852-366B-4086-A966-8B827FA6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FF98-D3AD-42E4-9246-F7EC1C6C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BE57-1FB0-4D94-9532-E16F2DAE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1540-86F1-4381-8AA1-0087A027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8F66-4923-4A2A-A535-58B2784C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A171-FF3C-4916-860A-E51C723F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A4F0-A3C1-4E4F-8A66-24171176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0A56-2005-42A3-849F-D468C117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E675-5D13-4D62-962C-BAA8CF4D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5EC7-066A-43F5-A4E0-E05BD7B6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9D5C-2BC5-470B-AD7A-823CD507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0F9B-12F0-4EFA-95C2-0C6BAAEC189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A940-7CE3-434D-99FD-6653451AB1A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usinessbox.nl/stap-6-de-product-markt-combinatie-mainmenu-36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12440" y="3860640"/>
            <a:ext cx="632484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OC Oost 2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nderwerpen van vandaa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h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tiethe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 Marktcombin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euwe theorie; Sel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gaven m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INNOVATIETHEOR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066680" y="836640"/>
            <a:ext cx="7620120" cy="1728720"/>
          </a:xfrm>
          <a:prstGeom prst="rect">
            <a:avLst/>
          </a:prstGeom>
          <a:ln w="0">
            <a:noFill/>
          </a:ln>
        </p:spPr>
      </p:pic>
      <p:sp>
        <p:nvSpPr>
          <p:cNvPr id="103" name="Tekstvak 5"/>
          <p:cNvSpPr/>
          <p:nvPr/>
        </p:nvSpPr>
        <p:spPr>
          <a:xfrm>
            <a:off x="1332000" y="256536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ze beschrijving volgt de verschillende groepen mensen die het product aanscha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kstvak 6"/>
          <p:cNvSpPr/>
          <p:nvPr/>
        </p:nvSpPr>
        <p:spPr>
          <a:xfrm>
            <a:off x="1332000" y="364500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model is  ook te gebruiken om de volwassenheid van het product uit te drukken; introductie, groei, volwassenheid, verzadiging en terug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is een combinatie van één van je 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dere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product-markt-combinati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t een eigen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-matrix geeft aan welke producten voor welke groepen afnemers interessant z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8" name="Picture 2" descr="Marketingmix"/>
          <p:cNvPicPr/>
          <p:nvPr/>
        </p:nvPicPr>
        <p:blipFill>
          <a:blip r:embed="rId1"/>
          <a:stretch/>
        </p:blipFill>
        <p:spPr>
          <a:xfrm>
            <a:off x="1476360" y="1620720"/>
            <a:ext cx="468000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PERSON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en onze werknemers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 welke vaardigheden moeten onze werknemers beschikk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werkhouding verwachten wij van onze werknem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turen wij ons personeel 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waarden en normen vinden wij belangrij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opleidingen bieden wij 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 voor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;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Tekstvak 2"/>
          <p:cNvSpPr/>
          <p:nvPr/>
        </p:nvSpPr>
        <p:spPr>
          <a:xfrm>
            <a:off x="1187280" y="1916280"/>
            <a:ext cx="749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 ;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gen die de ondernemer zich hierbij stel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en nemen om een aankoop te do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een klant hulp nodig hee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 protocol volgen we als een klant langer moet wacht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nneer verstrekken we tijdig en op de juiste wijze informatie over levertij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een klant on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logr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54864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mee ontdek je waarop je de nadruk moet leggen in j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mo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87" descr="C:\Documents and Settings\Robbert\Bureaublad\sellogram.bmp"/>
          <p:cNvPicPr/>
          <p:nvPr/>
        </p:nvPicPr>
        <p:blipFill>
          <a:blip r:embed="rId1"/>
          <a:stretch/>
        </p:blipFill>
        <p:spPr>
          <a:xfrm>
            <a:off x="1219320" y="1905120"/>
            <a:ext cx="7315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8-01-25T07:55:46Z</dcterms:modified>
  <cp:revision>47</cp:revision>
  <dc:subject/>
  <dc:title>Marketing les 1</dc:title>
</cp:coreProperties>
</file>