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D9F3D-1BDA-4080-AA18-DBC632F50B3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Proces; Alles wat ervoor zorgt dat het aankoopproces zo vloeiend mogelijk verloop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E5E3C-E07E-42D7-A829-F9F34F77329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11C3-C527-4788-9889-7632B8854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FE45-E595-449B-9976-56D1E4096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D190-458B-4811-8CDD-32BDE50F7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0728-B114-44BA-850F-1AE6236DF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B81BE-15A4-4E46-8D37-0977E5814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43E2B-2D62-44A5-B19C-736828F9F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92C52-A5B4-4461-9E25-50BEF458E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253D2-2695-4E89-ADFD-7D22555C7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BFEC5-CC99-4FB1-B32E-166BADB0D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EFF0F-6B9E-491A-AF54-01541C26B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C12B7-F097-48F5-8C56-BEF26E3B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60D3-937C-42D3-B21C-EE7C42DDD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6048B-EB2D-4D71-8176-A9DE30B4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D8F73-8399-4BDF-8CCE-98FFD3F5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6FF35-3731-47AB-B96F-BFD92E2D4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CC950-59E9-44FC-A29D-B957549D8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EA6E7-3045-4636-8250-095969A0C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398B-0ED8-4576-9AFE-8DF544CC6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2F10-6218-40F7-86B0-C0C98EF69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BD70-2CDA-485C-BDED-365C322BD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8BA3-8530-44ED-84E2-5CF009D77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DC08-710C-486A-B433-2D9C512F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C9BA-5EA9-4DF9-A968-4C0779A2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CC59-EE1D-4487-A374-5CA873CE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6049C-8134-4CB7-825E-9EECC626760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C1625-8053-4032-843D-59E4240EEC0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usinessbox.nl/stap-6-de-product-markt-combinatie-mainmenu-36.html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eting les 3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12440" y="3860640"/>
            <a:ext cx="6324840" cy="17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l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. Kamphu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OC Oost 20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nderwerpen van vandaa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ha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novatietheor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 Marktcombin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euwe theorie; Sell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gaven ma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6201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INNOVATIETHEOR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2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1066680" y="836640"/>
            <a:ext cx="7620120" cy="1728720"/>
          </a:xfrm>
          <a:prstGeom prst="rect">
            <a:avLst/>
          </a:prstGeom>
          <a:ln w="0">
            <a:noFill/>
          </a:ln>
        </p:spPr>
      </p:pic>
      <p:sp>
        <p:nvSpPr>
          <p:cNvPr id="103" name="Tekstvak 5"/>
          <p:cNvSpPr/>
          <p:nvPr/>
        </p:nvSpPr>
        <p:spPr>
          <a:xfrm>
            <a:off x="1332000" y="2565360"/>
            <a:ext cx="67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eze beschrijving volgt de verschillende groepen mensen die het product aanscha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kstvak 6"/>
          <p:cNvSpPr/>
          <p:nvPr/>
        </p:nvSpPr>
        <p:spPr>
          <a:xfrm>
            <a:off x="1332000" y="3645000"/>
            <a:ext cx="66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et model is  ook te gebruiken om de volwassenheid van het product uit te drukken; introductie, groei, volwassenheid, verzadiging en terugg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MC’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en PMC is een combinatie van één van je  producten met een doelgro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edere 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product-markt-combinati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gt een eigen marketingstrateg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en PMC-matrix geeft aan welke producten voor welke groepen afnemers interessant zij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eting Mix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8" name="Picture 2" descr="Marketingmix"/>
          <p:cNvPicPr/>
          <p:nvPr/>
        </p:nvPicPr>
        <p:blipFill>
          <a:blip r:embed="rId1"/>
          <a:stretch/>
        </p:blipFill>
        <p:spPr>
          <a:xfrm>
            <a:off x="1476360" y="1620720"/>
            <a:ext cx="4680000" cy="47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Nog 2 P’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Times New Roman"/>
              </a:rPr>
              <a:t>PERSON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kennis moeten onze werknemers hebb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ver welke vaardigheden moeten onze werknemers beschikk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werkhouding verwachten wij van onze werkneme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 belonen wij ons personee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 sturen wij ons personeel a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waarden en normen vinden wij belangrij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opleidingen bieden wij a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de carrièremogelijkheden voor ons personee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NOG 2 P’s;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2" name="Tekstvak 2"/>
          <p:cNvSpPr/>
          <p:nvPr/>
        </p:nvSpPr>
        <p:spPr>
          <a:xfrm>
            <a:off x="1187280" y="1916280"/>
            <a:ext cx="7499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PROCES ;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ragen die de ondernemer zich hierbij stel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stappen moet een klanten nemen om een aankoop te do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procedure volgen we als een klant hulp nodig heef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 protocol volgen we als een klant langer moet wacht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nneer verstrekken we tijdig en op de juiste wijze informatie over levertijd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procedure volgen we als een klant ontevreden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ellogra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54864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ermee ontdek je waarop je de nadruk moet leggen in j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omo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787" descr="C:\Documents and Settings\Robbert\Bureaublad\sellogram.bmp"/>
          <p:cNvPicPr/>
          <p:nvPr/>
        </p:nvPicPr>
        <p:blipFill>
          <a:blip r:embed="rId1"/>
          <a:stretch/>
        </p:blipFill>
        <p:spPr>
          <a:xfrm>
            <a:off x="1219320" y="1905120"/>
            <a:ext cx="731520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4:05:46Z</dcterms:created>
  <dc:creator>Robbert Oosterom</dc:creator>
  <dc:description/>
  <dc:language>en-US</dc:language>
  <cp:lastModifiedBy>José Kamphuis</cp:lastModifiedBy>
  <dcterms:modified xsi:type="dcterms:W3CDTF">2018-01-25T07:55:46Z</dcterms:modified>
  <cp:revision>47</cp:revision>
  <dc:subject/>
  <dc:title>Marketing les 1</dc:title>
</cp:coreProperties>
</file>