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D6E5-A9C7-45EA-B87A-86584412E60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D2E2-B142-4F5D-ADB0-BD426A547B6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4556-7238-4CD6-B842-09791CCF62E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C036-D83C-436C-872E-3E27016B6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2961-C216-4A55-BC9D-81E47568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B99E-FE2D-4589-BD6D-89310B9CD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3290-D0DB-4134-A367-36767B8B4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AF2E-772C-4184-9007-546C56D4B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D5E7-BADB-4FF9-BFAA-9D4EAD3A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603D-FBFD-4A54-BE60-3676168F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1C1D-C031-4195-A76B-C1253FF9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C2D5-1253-4855-9E81-AF37877A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3A669-763F-456F-B29B-9AB41F3F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37F6-470B-4A8A-A296-CE979417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F85F-F1CB-42E4-8182-3BE7E630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D5C3-780C-489F-A6F2-2D66E7AA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0800-503D-4701-AC2F-FE6BA210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6302-DA3E-4FF0-9D64-FC6568D8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9756-2122-4F93-BA7C-8698224E5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D519-05FD-46D8-BE2D-FB8BDED7B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5835-ECAB-4FC5-8B3C-2A69DB56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6A4C-CE98-427D-A9FC-904EA821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594C-C74A-4ED8-9715-B2E42B90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3F96-7C4F-4F4B-9A29-3DEF3A89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C1A2-4905-46E2-9AE2-0A0F662C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7836-BFFA-4E8A-89A7-0830FDC1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2115-1506-49F2-A285-62746F4A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\\dgorbet\c\WINDOWS\Desktop\Sprite 10.jpg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0A47-4CD7-4B29-A8DB-98EFBDA95E6B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DCDB-7BD6-4C91-9966-1AFF870CFB3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\\dgorbet\c\WINDOWS\Desktop\Sprite 10.jpg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4680" y="2895480"/>
            <a:ext cx="9148680" cy="11304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3DC7-E717-48C8-A71F-0978558109F6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8AFD-AACE-4A0A-8E5D-70F17288623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9D22-37D7-4B84-9218-F09EB69A75E7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3711-6711-488A-9FD5-4402412439E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Opfriscursus kengetal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Jose Kamphui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Les 1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946680" y="1203480"/>
            <a:ext cx="1575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C O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6588-6BB6-4A91-89E0-199CFF57C1CB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B9F6-2F02-426B-A858-DACD79AB605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finiti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olvabilitei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et vermogen van het bedrijf om d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LANGE termijn schulden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te kunnen beta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Liquiditei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et vermogen van het bedrijf om d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KORTE termijn schulden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te kunnen beta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955B-3CB0-4DA8-83C5-186714C75F74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65CE-DE60-40D8-AE27-7AE3090A40D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val 26"/>
          <p:cNvSpPr/>
          <p:nvPr/>
        </p:nvSpPr>
        <p:spPr>
          <a:xfrm>
            <a:off x="4267080" y="3733920"/>
            <a:ext cx="4876920" cy="1066680"/>
          </a:xfrm>
          <a:prstGeom prst="ellipse">
            <a:avLst/>
          </a:prstGeom>
          <a:gradFill rotWithShape="0">
            <a:gsLst>
              <a:gs pos="0">
                <a:srgbClr val="00cccc"/>
              </a:gs>
              <a:gs pos="100000">
                <a:srgbClr val="ff3300"/>
              </a:gs>
            </a:gsLst>
            <a:lin ang="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iquiditei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erkkapitaa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= Vla – Kort V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urrent ratio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= Vla / Kort V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Quick ratio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34000">
                <a:solidFill>
                  <a:srgbClr val="ffffff"/>
                </a:solidFill>
                <a:latin typeface="Arial Black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Vla – voorraa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Kort V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648320" y="1523880"/>
          <a:ext cx="4267080" cy="3684600"/>
        </p:xfrm>
        <a:graphic>
          <a:graphicData uri="http://schemas.openxmlformats.org/drawingml/2006/table">
            <a:tbl>
              <a:tblPr/>
              <a:tblGrid>
                <a:gridCol w="2209680"/>
                <a:gridCol w="205740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AL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as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aste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Eigen verm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Lang vreemd verm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lottende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Kort vreemd verm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taal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taal pas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" dur="1" fill="hold"/>
                                  <p:tgtEl>
                                    <p:spTgt spid="15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71" dur="1" fill="hold"/>
                                  <p:tgtEl>
                                    <p:spTgt spid="15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72" dur="1" fill="hold"/>
                                  <p:tgtEl>
                                    <p:spTgt spid="15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atum 2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4D52-24C0-46E3-A2B9-2A4ACFB2759C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ijdelijke aanduiding voor voettekst 3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ijdelijke aanduiding voor dianummer 4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F360-3A23-4CE7-8D26-46635AAF0F9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1295280"/>
            <a:ext cx="3809880" cy="510552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80880" y="1523880"/>
            <a:ext cx="3200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Het lezen van een jaarverslag is vaak lastig omdat dezelfde begrippen steeds een andere naam krij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s je d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ructuu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kent, weet je in ieder geval waar je moet zoek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52280" y="1447920"/>
            <a:ext cx="152640" cy="4952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4427640" y="1523880"/>
            <a:ext cx="4335480" cy="38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Opfrissen kengetal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alansbegri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olvabil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iquid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DF72-D189-4710-B3D1-A3F8931087A9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222F-C517-4E54-9511-8C037F9C0F7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deling van een balan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ast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lottend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iquide midde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olvabiliteit =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V / TV * 100%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648320" y="1523880"/>
          <a:ext cx="4267080" cy="3888000"/>
        </p:xfrm>
        <a:graphic>
          <a:graphicData uri="http://schemas.openxmlformats.org/drawingml/2006/table">
            <a:tbl>
              <a:tblPr/>
              <a:tblGrid>
                <a:gridCol w="2209680"/>
                <a:gridCol w="205740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AL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as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aste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Eigen verm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reemd vermogen (la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lottende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reemd vermogen (kor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taal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taal pas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BE76-D147-4FD0-876A-DE69815F2126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1323-42FD-4A3F-BD40-2B3C8CBB07D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ast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mmateriële vast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Goodwil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ctrooi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Kosten van onderzoek en ontwikkelin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teriële vast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Gebouw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ventaris / machines / gereedschapp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uto’s en computer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inanciële vast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andelen in ‘verbonden’ onderneming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C183-0E4E-4717-B1EC-78B7729794C5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DF5D-0A7D-474D-B7BC-3622E4757CB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lottend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Voorrad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rondstoffen en gereed produc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andelsvoorraa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ewaardeerd naa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inkoopwaarde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of productiekost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ebiteuren / vorderin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Liquide middel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anktegoed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Kasgel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C90E-40EA-46AC-BA76-342DA164CD39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8570-D72C-4E0F-9E9A-52494D4E39F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igen vermo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leg van de eigena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andelenkapitaa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atschappelijk kapitaa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Geplaatst kapitaa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&gt; 20% v/h maatschappelijk kapitaal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ominaal kapitaal ↔ beurswaard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olgestort kapitaa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serv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instreserv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gioreserv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erwaarderingsreserv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9" name="Picture 43" descr="C:\Program Files\Microsoft Office\Clipart\corpbas\j0078725.wmf"/>
          <p:cNvPicPr/>
          <p:nvPr/>
        </p:nvPicPr>
        <p:blipFill>
          <a:blip r:embed="rId1"/>
          <a:stretch/>
        </p:blipFill>
        <p:spPr>
          <a:xfrm>
            <a:off x="6248520" y="1600200"/>
            <a:ext cx="270180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A4C8-2454-4558-9810-A634372CEB64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6C94-91A9-4D40-8BE4-A342553E730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5" descr="C:\Program Files\Microsoft Office\Clipart\standard\stddir1\BD06961_.WMF"/>
          <p:cNvPicPr/>
          <p:nvPr/>
        </p:nvPicPr>
        <p:blipFill>
          <a:blip r:embed="rId1"/>
          <a:stretch/>
        </p:blipFill>
        <p:spPr>
          <a:xfrm>
            <a:off x="7362720" y="4724280"/>
            <a:ext cx="1781280" cy="17384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ang vreemd vermo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chtergestelde (a/g) len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ante Agaath’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Hypothecaire len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nderpan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ooptijd 15-30 ja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Zakelijke len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ooptijd typisch 10 ja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nanciële lease verplichtin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6" name="Picture 4" descr="C:\Program Files\Microsoft Office\Clipart\standard\stddir1\BD06959_.WMF"/>
          <p:cNvPicPr/>
          <p:nvPr/>
        </p:nvPicPr>
        <p:blipFill>
          <a:blip r:embed="rId2"/>
          <a:stretch/>
        </p:blipFill>
        <p:spPr>
          <a:xfrm>
            <a:off x="6324480" y="2438280"/>
            <a:ext cx="15512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11E66-C66F-4466-81F2-DD9D5A265C27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76C7-26BD-4318-B0DD-6D44E650857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Kort vreemd vermo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kening courant kredie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ood staan bij de ban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rediteur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Nog te betalen kost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Nog te betalen belastin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ijdelijke aanduiding voor datum 4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4400-BD47-49CE-9D53-ABD6575091B0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ijdelijke aanduiding voor voettekst 5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ijdelijke aanduiding voor dianummer 6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64C8-F0F3-40B5-8DEB-A83D1837B76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olvabilitei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46" name="Object 3"/>
          <p:cNvGraphicFramePr/>
          <p:nvPr/>
        </p:nvGraphicFramePr>
        <p:xfrm>
          <a:off x="228600" y="1143000"/>
          <a:ext cx="426708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3000"/>
                    <a:ext cx="42670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Zeer hoge waarden bij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tichting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ivé person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oed lopend bedrijf meestal in het gele gebie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tartend bedrijf moet boven 20%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" dur="1" fill="hold"/>
                                  <p:tgtEl>
                                    <p:spTgt spid="14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bert Oosterom</dc:creator>
  <dc:description/>
  <dc:language>en-US</dc:language>
  <cp:lastModifiedBy>José Kamphuis</cp:lastModifiedBy>
  <dcterms:modified xsi:type="dcterms:W3CDTF">2018-01-07T16:12:21Z</dcterms:modified>
  <cp:revision>14</cp:revision>
  <dc:subject/>
  <dc:title>PowerPoint-presentatie</dc:title>
</cp:coreProperties>
</file>