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8A56D-D357-4AD2-AACC-6AE56A3C8EDD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48EA1-CE0F-4992-83F7-38A20256CD8D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191AC-6AC2-48B2-A332-04F4B3A460D3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E558F-557B-413C-B0EA-59AED54E9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228600" y="3954960"/>
            <a:ext cx="86868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758D7-9987-48C8-8AB1-FE0E513E2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28600" y="39549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80000" y="39549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0216A-750A-416B-9DFB-312FA524E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65840" y="14475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02720" y="14475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228600" y="39549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65840" y="39549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02720" y="39549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CF9E1-FF64-4884-BE58-86D1FDD2F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60483-1C10-4393-8B00-3717E9369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9EF88-FFD6-45DB-A58F-BD3CA4297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C35AD-B242-48F6-8A69-BA5FC92DD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2841C-AC7B-4A13-AE75-73DC3E5D3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637FB-E99F-4CF9-9178-EED085488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5AE44-639B-4FD1-B9F0-BA8A9B01B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228600" y="39549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7B621-0488-41A0-AA5B-4C0F26699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E490C-548C-4FFA-85FE-2629C89CE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80000" y="39549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E2D70-8EBA-4ED4-B038-6C6369A5D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28600" y="3954960"/>
            <a:ext cx="86868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5A03D-0D88-4D32-9251-E10875032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228600" y="3954960"/>
            <a:ext cx="86868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12636-BBC6-4EEB-82F7-9547B4A8F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228600" y="39549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80000" y="39549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77801-8F87-400C-8362-4D7B7A6A3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165840" y="14475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102720" y="14475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228600" y="39549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165840" y="39549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102720" y="39549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4DAA1-737D-4960-B4DC-4D359C9EC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BD015-0283-4933-A694-907A03F68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14B0C-3BC3-45A8-8CE6-770FA88F8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43F14-F95C-4BCD-8B04-D52CF3935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AA6F4-267B-457B-AFDD-23E5836DD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228600" y="39549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0C57A-228C-4AE1-B550-5325DE356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80000" y="39549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06653-078B-4E53-9983-3AC3E5296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28600" y="3954960"/>
            <a:ext cx="86868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6EBE4-27D4-40EF-964B-236767720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Sprite 10"/>
          <p:cNvPicPr/>
          <p:nvPr/>
        </p:nvPicPr>
        <p:blipFill>
          <a:blip r:embed="rId2"/>
          <a:srcRect l="0" t="0" r="416" b="1937"/>
          <a:stretch/>
        </p:blipFill>
        <p:spPr>
          <a:xfrm>
            <a:off x="0" y="0"/>
            <a:ext cx="9144000" cy="11304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8FA17-1D02-4998-B1E9-BA969B3339A0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29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71262-8B81-4A67-AA8A-D2B8FF701FD8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0" y="1130400"/>
            <a:ext cx="9142560" cy="1522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0066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0" descr="Sprite 10"/>
          <p:cNvPicPr/>
          <p:nvPr/>
        </p:nvPicPr>
        <p:blipFill>
          <a:blip r:embed="rId2"/>
          <a:srcRect l="-31" t="0" r="416" b="1937"/>
          <a:stretch/>
        </p:blipFill>
        <p:spPr>
          <a:xfrm>
            <a:off x="-4680" y="2895480"/>
            <a:ext cx="9148680" cy="113040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8"/>
          <p:cNvSpPr/>
          <p:nvPr/>
        </p:nvSpPr>
        <p:spPr>
          <a:xfrm>
            <a:off x="0" y="4025880"/>
            <a:ext cx="9142560" cy="1522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0066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9"/>
          <p:cNvSpPr/>
          <p:nvPr/>
        </p:nvSpPr>
        <p:spPr>
          <a:xfrm>
            <a:off x="0" y="2743200"/>
            <a:ext cx="9142560" cy="15228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68580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518AD-5A70-4B76-9D5B-8E8FDC5A1687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29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30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1FDB6-7176-42AD-880A-6D52FFF2DC0F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5"/>
          <p:cNvSpPr/>
          <p:nvPr/>
        </p:nvSpPr>
        <p:spPr>
          <a:xfrm>
            <a:off x="68580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1AE38-DFFE-4561-8035-CBC6E1F20EF2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29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6"/>
          <p:cNvSpPr/>
          <p:nvPr/>
        </p:nvSpPr>
        <p:spPr>
          <a:xfrm>
            <a:off x="3124080" y="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7"/>
          <p:cNvSpPr/>
          <p:nvPr/>
        </p:nvSpPr>
        <p:spPr>
          <a:xfrm>
            <a:off x="65530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0792A-1719-4C3E-B379-51DA5B6B09B4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 Black"/>
              </a:rPr>
              <a:t>Opfriscursus kengetallen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4419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Narrow"/>
              </a:rPr>
              <a:t>Jose Kamphuis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Narrow"/>
              </a:rPr>
              <a:t>Les 3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3946680" y="1203480"/>
            <a:ext cx="1575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C O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ijdelijke aanduiding voor datum 2"/>
          <p:cNvSpPr/>
          <p:nvPr/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80A31-4E47-4DEA-AA5C-B9D0B62D8885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29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ijdelijke aanduiding voor voettekst 3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ijdelijke aanduiding voor dianummer 4"/>
          <p:cNvSpPr/>
          <p:nvPr/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5A354-79E3-4E5B-9DD9-D393421CAD75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 Black"/>
              </a:rPr>
              <a:t>Agenda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4" name="Rectangle 3"/>
          <p:cNvSpPr/>
          <p:nvPr/>
        </p:nvSpPr>
        <p:spPr>
          <a:xfrm>
            <a:off x="0" y="1295280"/>
            <a:ext cx="3809880" cy="5105520"/>
          </a:xfrm>
          <a:prstGeom prst="rect">
            <a:avLst/>
          </a:prstGeom>
          <a:solidFill>
            <a:srgbClr val="96969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4"/>
          <p:cNvSpPr/>
          <p:nvPr/>
        </p:nvSpPr>
        <p:spPr>
          <a:xfrm>
            <a:off x="380880" y="1523880"/>
            <a:ext cx="32004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 Narrow"/>
              </a:rPr>
              <a:t>Het lezen van een jaarverslag is vaak lastig omdat dezelfde begrippen steeds een andere naam krijg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ls je de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tructuur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kent, weet je in ieder geval waar je moet zoeken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5"/>
          <p:cNvSpPr/>
          <p:nvPr/>
        </p:nvSpPr>
        <p:spPr>
          <a:xfrm>
            <a:off x="152280" y="1447920"/>
            <a:ext cx="152640" cy="49528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18"/>
          <p:cNvSpPr/>
          <p:nvPr/>
        </p:nvSpPr>
        <p:spPr>
          <a:xfrm>
            <a:off x="4356000" y="1523880"/>
            <a:ext cx="4464000" cy="19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66640" indent="-566640">
              <a:lnSpc>
                <a:spcPct val="100000"/>
              </a:lnSpc>
              <a:spcBef>
                <a:spcPts val="700"/>
              </a:spcBef>
              <a:spcAft>
                <a:spcPts val="1400"/>
              </a:spcAft>
              <a:buSzPct val="20561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Omloopsnelhe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>
              <a:lnSpc>
                <a:spcPct val="100000"/>
              </a:lnSpc>
              <a:spcBef>
                <a:spcPts val="700"/>
              </a:spcBef>
              <a:spcAft>
                <a:spcPts val="1400"/>
              </a:spcAft>
              <a:buSzPct val="20561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 Black"/>
              </a:rPr>
              <a:t>Omzetduu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>
              <a:lnSpc>
                <a:spcPct val="100000"/>
              </a:lnSpc>
              <a:spcBef>
                <a:spcPts val="700"/>
              </a:spcBef>
              <a:spcAft>
                <a:spcPts val="1400"/>
              </a:spcAft>
              <a:buSzPct val="20561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 Black"/>
              </a:rPr>
              <a:t>Debiteurensal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ijdelijke aanduiding voor datum 3"/>
          <p:cNvSpPr/>
          <p:nvPr/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12B38-C997-41D1-BBFD-262A9979F006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29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ijdelijke aanduiding voor voettekst 4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ijdelijke aanduiding voor dianummer 5"/>
          <p:cNvSpPr/>
          <p:nvPr/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78E40-9625-49C3-B598-521174FA448E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Wat is de omloopsnelheid?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868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Het is belangrijk dat de voorraad niet te lang blijft liggen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De gemiddelde magazijntijd wordt weergegeven in de omzetduur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De omloopsnelheid geeft aan hoe vaak de voorraad verkocht wordt per jaar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13" name="Picture 9" descr="Aanvoer bloemen vanaf Schiphol"/>
          <p:cNvPicPr/>
          <p:nvPr/>
        </p:nvPicPr>
        <p:blipFill>
          <a:blip r:embed="rId1"/>
          <a:srcRect l="0" t="0" r="3704" b="0"/>
          <a:stretch/>
        </p:blipFill>
        <p:spPr>
          <a:xfrm>
            <a:off x="457200" y="4800600"/>
            <a:ext cx="1981080" cy="1336680"/>
          </a:xfrm>
          <a:prstGeom prst="rect">
            <a:avLst/>
          </a:prstGeom>
          <a:ln w="0">
            <a:noFill/>
          </a:ln>
        </p:spPr>
      </p:pic>
      <p:sp>
        <p:nvSpPr>
          <p:cNvPr id="114" name="AutoShape 20"/>
          <p:cNvSpPr/>
          <p:nvPr/>
        </p:nvSpPr>
        <p:spPr>
          <a:xfrm>
            <a:off x="2590920" y="5105520"/>
            <a:ext cx="990360" cy="685800"/>
          </a:xfrm>
          <a:prstGeom prst="rightArrow">
            <a:avLst>
              <a:gd name="adj1" fmla="val 50000"/>
              <a:gd name="adj2" fmla="val 36102"/>
            </a:avLst>
          </a:prstGeom>
          <a:solidFill>
            <a:srgbClr val="99ff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 au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27" descr="http://www.c1000peterderijke.nl/upload/256903505.jpg"/>
          <p:cNvPicPr/>
          <p:nvPr/>
        </p:nvPicPr>
        <p:blipFill>
          <a:blip r:embed="rId2"/>
          <a:stretch/>
        </p:blipFill>
        <p:spPr>
          <a:xfrm>
            <a:off x="3733920" y="4724280"/>
            <a:ext cx="2209680" cy="1471680"/>
          </a:xfrm>
          <a:prstGeom prst="rect">
            <a:avLst/>
          </a:prstGeom>
          <a:ln w="0">
            <a:noFill/>
          </a:ln>
        </p:spPr>
      </p:pic>
      <p:sp>
        <p:nvSpPr>
          <p:cNvPr id="116" name="AutoShape 22"/>
          <p:cNvSpPr/>
          <p:nvPr/>
        </p:nvSpPr>
        <p:spPr>
          <a:xfrm>
            <a:off x="6095880" y="5105520"/>
            <a:ext cx="990720" cy="685800"/>
          </a:xfrm>
          <a:prstGeom prst="rightArrow">
            <a:avLst>
              <a:gd name="adj1" fmla="val 50000"/>
              <a:gd name="adj2" fmla="val 36115"/>
            </a:avLst>
          </a:prstGeom>
          <a:solidFill>
            <a:srgbClr val="99ff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 au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5" descr="http://tbn0.google.com/images?q=tbn:NCe4YR3gRdzVeM:http://bp3.blogger.com/_Qu_eMn_Ud88/RdrTp6Q4D2I/AAAAAAAAAdY/YS98g0qDlEw/s320/bloemenderuijterstraat.gif"/>
          <p:cNvPicPr/>
          <p:nvPr/>
        </p:nvPicPr>
        <p:blipFill>
          <a:blip r:embed="rId3"/>
          <a:stretch/>
        </p:blipFill>
        <p:spPr>
          <a:xfrm>
            <a:off x="7238880" y="4724280"/>
            <a:ext cx="1128960" cy="15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ijdelijke aanduiding voor datum 3"/>
          <p:cNvSpPr/>
          <p:nvPr/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D4D1D-1AF6-4A6C-9486-8BF0BD300486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29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ijdelijke aanduiding voor voettekst 4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ijdelijke aanduiding voor dianummer 5"/>
          <p:cNvSpPr/>
          <p:nvPr/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CEA16-A237-489F-99EB-18AADFEAB7EA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Omloopsnelheid en omzetduur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304920" y="2438280"/>
          <a:ext cx="8534160" cy="1195560"/>
        </p:xfrm>
        <a:graphic>
          <a:graphicData uri="http://schemas.openxmlformats.org/drawingml/2006/table">
            <a:tbl>
              <a:tblPr/>
              <a:tblGrid>
                <a:gridCol w="3962160"/>
                <a:gridCol w="4343400"/>
                <a:gridCol w="228600"/>
              </a:tblGrid>
              <a:tr h="518400"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Omloopsnelheid 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Inkoopwaar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7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Gemiddelde voorraa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23" name=""/>
          <p:cNvGraphicFramePr/>
          <p:nvPr/>
        </p:nvGraphicFramePr>
        <p:xfrm>
          <a:off x="1371600" y="4572000"/>
          <a:ext cx="6808680" cy="1195560"/>
        </p:xfrm>
        <a:graphic>
          <a:graphicData uri="http://schemas.openxmlformats.org/drawingml/2006/table">
            <a:tbl>
              <a:tblPr/>
              <a:tblGrid>
                <a:gridCol w="2967120"/>
                <a:gridCol w="3623040"/>
                <a:gridCol w="218880"/>
              </a:tblGrid>
              <a:tr h="518400">
                <a:tc row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Omzetduur 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365 dag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7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Omloopsnelhei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pSp>
        <p:nvGrpSpPr>
          <p:cNvPr id="124" name="Group 51"/>
          <p:cNvGrpSpPr/>
          <p:nvPr/>
        </p:nvGrpSpPr>
        <p:grpSpPr>
          <a:xfrm>
            <a:off x="2513520" y="1600200"/>
            <a:ext cx="2820600" cy="838080"/>
            <a:chOff x="2513520" y="1600200"/>
            <a:chExt cx="2820600" cy="838080"/>
          </a:xfrm>
        </p:grpSpPr>
        <p:sp>
          <p:nvSpPr>
            <p:cNvPr id="125" name="Line 47"/>
            <p:cNvSpPr/>
            <p:nvPr/>
          </p:nvSpPr>
          <p:spPr>
            <a:xfrm>
              <a:off x="4800600" y="2057400"/>
              <a:ext cx="533520" cy="380880"/>
            </a:xfrm>
            <a:prstGeom prst="line">
              <a:avLst/>
            </a:prstGeom>
            <a:ln cap="sq"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Text Box 48"/>
            <p:cNvSpPr/>
            <p:nvPr/>
          </p:nvSpPr>
          <p:spPr>
            <a:xfrm>
              <a:off x="2513520" y="1600200"/>
              <a:ext cx="2331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Uit W&amp;V-reken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Group 52"/>
          <p:cNvGrpSpPr/>
          <p:nvPr/>
        </p:nvGrpSpPr>
        <p:grpSpPr>
          <a:xfrm>
            <a:off x="3505320" y="3505320"/>
            <a:ext cx="1752480" cy="703440"/>
            <a:chOff x="3505320" y="3505320"/>
            <a:chExt cx="1752480" cy="703440"/>
          </a:xfrm>
        </p:grpSpPr>
        <p:sp>
          <p:nvSpPr>
            <p:cNvPr id="128" name="Text Box 49"/>
            <p:cNvSpPr/>
            <p:nvPr/>
          </p:nvSpPr>
          <p:spPr>
            <a:xfrm>
              <a:off x="3505320" y="3809880"/>
              <a:ext cx="1396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Uit bala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50"/>
            <p:cNvSpPr/>
            <p:nvPr/>
          </p:nvSpPr>
          <p:spPr>
            <a:xfrm flipV="1">
              <a:off x="4648320" y="3505320"/>
              <a:ext cx="609480" cy="304560"/>
            </a:xfrm>
            <a:prstGeom prst="line">
              <a:avLst/>
            </a:prstGeom>
            <a:ln cap="sq"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Group 53"/>
          <p:cNvGrpSpPr/>
          <p:nvPr/>
        </p:nvGrpSpPr>
        <p:grpSpPr>
          <a:xfrm>
            <a:off x="534600" y="5334120"/>
            <a:ext cx="1751400" cy="703440"/>
            <a:chOff x="534600" y="5334120"/>
            <a:chExt cx="1751400" cy="703440"/>
          </a:xfrm>
        </p:grpSpPr>
        <p:sp>
          <p:nvSpPr>
            <p:cNvPr id="131" name="Text Box 54"/>
            <p:cNvSpPr/>
            <p:nvPr/>
          </p:nvSpPr>
          <p:spPr>
            <a:xfrm>
              <a:off x="534600" y="5638680"/>
              <a:ext cx="1226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in dage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55"/>
            <p:cNvSpPr/>
            <p:nvPr/>
          </p:nvSpPr>
          <p:spPr>
            <a:xfrm flipV="1">
              <a:off x="1676520" y="5334120"/>
              <a:ext cx="609480" cy="304560"/>
            </a:xfrm>
            <a:prstGeom prst="line">
              <a:avLst/>
            </a:prstGeom>
            <a:ln cap="sq"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a3baba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a3baba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72" dur="1" fill="hold"/>
                                  <p:tgtEl>
                                    <p:spTgt spid="130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a3baba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ijdelijke aanduiding voor datum 3"/>
          <p:cNvSpPr/>
          <p:nvPr/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89BD6-9090-45B1-931D-B00FDD23100D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29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ijdelijke aanduiding voor voettekst 4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ijdelijke aanduiding voor dianummer 5"/>
          <p:cNvSpPr/>
          <p:nvPr/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88B80-0BEC-4D59-93D4-FBE32448763E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 Black"/>
              </a:rPr>
              <a:t>Gemiddeld debiteurensaldo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Black"/>
              </a:rPr>
              <a:t>Gemiddelde bedrag dat uitstaat bij de debiteuren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 Black"/>
              </a:rPr>
              <a:t>het gemiddelde van heel veel momentopname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Black"/>
              </a:rPr>
              <a:t>Debiteuren kosten geld, omdat je ze moet voorfinancieren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 Black"/>
              </a:rPr>
              <a:t>Tegenover debiteuren staat een lening in de balans → kost rente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ijdelijke aanduiding voor datum 3"/>
          <p:cNvSpPr/>
          <p:nvPr/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8927C-C319-4380-9B0C-06CF803748A5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29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ijdelijke aanduiding voor voettekst 4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ijdelijke aanduiding voor dianummer 5"/>
          <p:cNvSpPr/>
          <p:nvPr/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D83AF-3727-4D30-BCF8-63D3D5E78D86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 Black"/>
              </a:rPr>
              <a:t>Gemiddelde debiteurensaldo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868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Black"/>
              </a:rPr>
              <a:t>Omzet kan op 2 manieren betaald worden</a:t>
            </a:r>
            <a:endParaRPr b="0" lang="en-US" sz="2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à contant </a:t>
            </a:r>
            <a:r>
              <a:rPr b="0" lang="en-US" sz="2000" spc="-1" strike="noStrike">
                <a:solidFill>
                  <a:srgbClr val="ccccff"/>
                </a:solidFill>
                <a:latin typeface="Arial Black"/>
              </a:rPr>
              <a:t>(boek je direct op liquide middelen)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op krediet </a:t>
            </a:r>
            <a:r>
              <a:rPr b="0" lang="en-US" sz="2000" spc="-1" strike="noStrike">
                <a:solidFill>
                  <a:srgbClr val="ccccff"/>
                </a:solidFill>
                <a:latin typeface="Arial Black"/>
              </a:rPr>
              <a:t>(boek je op debiteuren)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55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Black"/>
              </a:rPr>
              <a:t>Debiteurensaldo ≈ debiteuren </a:t>
            </a:r>
            <a:r>
              <a:rPr b="1" lang="en-US" sz="2200" spc="-1" strike="noStrike">
                <a:solidFill>
                  <a:srgbClr val="ffffff"/>
                </a:solidFill>
                <a:latin typeface="Arial Black"/>
              </a:rPr>
              <a:t>x</a:t>
            </a:r>
            <a:r>
              <a:rPr b="0" lang="en-US" sz="2200" spc="-1" strike="noStrike">
                <a:solidFill>
                  <a:srgbClr val="ffffff"/>
                </a:solidFill>
                <a:latin typeface="Arial Black"/>
              </a:rPr>
              <a:t> kredietduur</a:t>
            </a:r>
            <a:endParaRPr b="0" lang="en-US" sz="2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55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Black"/>
              </a:rPr>
              <a:t>DS = dagelijkse omzet op krediet  x </a:t>
            </a:r>
            <a:endParaRPr b="0" lang="en-US" sz="2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 algn="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Black"/>
              </a:rPr>
              <a:t>aantal dagen dat de factuur open staat</a:t>
            </a:r>
            <a:endParaRPr b="0" lang="en-US" sz="2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55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Black"/>
              </a:rPr>
              <a:t>DS = DOOK  x  t</a:t>
            </a:r>
            <a:endParaRPr b="0" lang="en-US" sz="2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55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Black"/>
              </a:rPr>
              <a:t>gem. DS = gem. DOOK  x  gem. t</a:t>
            </a:r>
            <a:endParaRPr b="0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228600" y="4800600"/>
          <a:ext cx="8915400" cy="1195560"/>
        </p:xfrm>
        <a:graphic>
          <a:graphicData uri="http://schemas.openxmlformats.org/drawingml/2006/table">
            <a:tbl>
              <a:tblPr/>
              <a:tblGrid>
                <a:gridCol w="1103400"/>
                <a:gridCol w="3773520"/>
                <a:gridCol w="4038480"/>
              </a:tblGrid>
              <a:tr h="457560"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DS 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Jaaromzet op kredie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x gemidd. kredietduu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7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365 dag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ff"/>
                                </p:to>
                              </p:animClr>
                              <p:animClr clrSpc="rgb">
                                <p:cBhvr>
                                  <p:cTn id="11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ff"/>
                                </p:to>
                              </p:animClr>
                              <p:animClr clrSpc="rgb">
                                <p:cBhvr>
                                  <p:cTn id="1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2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2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2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ijdelijke aanduiding voor datum 3"/>
          <p:cNvSpPr/>
          <p:nvPr/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40EE9-A794-4B94-9D9D-CB962D5B0DE9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29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ijdelijke aanduiding voor voettekst 4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ijdelijke aanduiding voor dianummer 5"/>
          <p:cNvSpPr/>
          <p:nvPr/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49051-171F-4EB5-ABCB-CB81A266EE21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Oefening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11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Bereken het gemiddelde debiteurensaldo als een bedrijf jaarlijks € 75.000,- omzet op krediet heeft en de gemiddelde krediettermijn 25 dagen bedraagt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120000"/>
              </a:lnSpc>
              <a:spcBef>
                <a:spcPts val="11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Bereken de omloopsnelheid als een bedrijf aan inkoop jaarlijks € 600.000,- uitgeeft en de gemiddelde waarde van de voorraad € 50.000,- bedraagt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120000"/>
              </a:lnSpc>
              <a:spcBef>
                <a:spcPts val="11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Wat betekenen de getallen die je hebt uitgerekend?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ijdelijke aanduiding voor datum 4"/>
          <p:cNvSpPr/>
          <p:nvPr/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7C0E8-B341-444C-8D7C-FE14F0AE1916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29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ijdelijke aanduiding voor voettekst 5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ijdelijke aanduiding voor dianummer 6"/>
          <p:cNvSpPr/>
          <p:nvPr/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98684-3FC9-484F-8C95-82C4FEBDD3A2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Samenvatting kengetallen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3352680" cy="3200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190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cc"/>
                </a:solidFill>
                <a:latin typeface="Arial Black"/>
              </a:rPr>
              <a:t>Balans kengetallen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190440" indent="-19044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Liquiditei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2" marL="1085760" indent="-228600">
              <a:spcBef>
                <a:spcPts val="499"/>
              </a:spcBef>
              <a:buClr>
                <a:srgbClr val="ffffff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Werkkapitaal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2" marL="1085760" indent="-228600">
              <a:spcBef>
                <a:spcPts val="499"/>
              </a:spcBef>
              <a:buClr>
                <a:srgbClr val="ffffff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urrent ratio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2" marL="1085760" indent="-228600">
              <a:spcBef>
                <a:spcPts val="499"/>
              </a:spcBef>
              <a:buClr>
                <a:srgbClr val="ffffff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Quick ratio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190440" indent="-19044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Solvabilitei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733560" y="1447920"/>
            <a:ext cx="5181480" cy="3200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cc"/>
                </a:solidFill>
                <a:latin typeface="Arial Black"/>
              </a:rPr>
              <a:t>W&amp;V kengetallen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Brutowinst als % v/d omzet 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Nettowinst als % v/d omzet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cc"/>
                </a:solidFill>
                <a:latin typeface="Arial Black"/>
              </a:rPr>
              <a:t>W&amp;V + extra gegevens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Omzet per m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 Black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 per week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Omzet per werknemer p.j.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Debiteurensaldo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5" name="Rectangle 5"/>
          <p:cNvSpPr/>
          <p:nvPr/>
        </p:nvSpPr>
        <p:spPr>
          <a:xfrm>
            <a:off x="1219320" y="4800600"/>
            <a:ext cx="6705360" cy="1600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cc"/>
                </a:solidFill>
                <a:latin typeface="Arial Black"/>
              </a:rPr>
              <a:t>Kengetallen o.b.v. Balans + W&amp;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Rentabiliteit EV en T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Omloopsnelheid en omzetduu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Robbert Oosterom</dc:creator>
  <dc:description/>
  <dc:language>en-US</dc:language>
  <cp:lastModifiedBy>José Kamphuis</cp:lastModifiedBy>
  <dcterms:modified xsi:type="dcterms:W3CDTF">2018-01-07T16:19:55Z</dcterms:modified>
  <cp:revision>20</cp:revision>
  <dc:subject/>
  <dc:title>PowerPoint-presentatie</dc:title>
</cp:coreProperties>
</file>