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0E01-4C66-4B0B-A1E0-35825AF8059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C1AD-3232-4700-A69D-88EE3D79461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E040-7190-4B72-801E-612DABE3DBC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85F3-5191-4B6B-8105-820C7C3E9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0019-1E13-4E8F-A303-8F59853F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83E6-066B-45A3-8D47-5BA65FF2C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7E4C-30B8-4579-AECE-554E69749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FC0E-F115-4874-91A4-4F32F644C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0B98-57ED-468E-842C-6E0D9A1F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E545-C53A-4C44-874A-D972E81C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B980-B9D3-470C-80F7-9FFAD6B3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EFEA-25C1-45AD-B401-F9754054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1C72-1342-4E75-B6BD-1DFC28CF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80E4-B783-43A0-9732-4CF2EA35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7DA2-0142-411F-A5EF-E12297C1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47ED-45BC-445A-AD4C-B2D96D7C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742E-68DD-4480-9DC7-70698789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D57B-6E19-4B34-AACC-FE4C7207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B19F-7E6C-44BF-A019-F2E3A35C3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9E68-B8B2-4FF1-8020-1B7EAF1D7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C21C-45F8-4456-8817-6EC559FD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F50B-BF48-4271-BE9E-28BAFCB9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4E0E-0AB4-4B2B-B432-21E75566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6057-1E0E-4BAE-8EFB-547C1CC7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8797-0FCF-4CD2-9493-84321DFB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AB72-001F-4D4A-8B36-1B247640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81D2-94D7-4BFB-9D02-48AD95C5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Sprite 10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1992-918A-4FDD-80A1-C9C59738FB83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9CAF-D252-46D1-88F5-EED3DD8F9A7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Sprite 10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4680" y="2895480"/>
            <a:ext cx="9148680" cy="11304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8A7A-9546-4ECD-88BC-1742D53B5D8E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F572-AC68-49FF-83F4-2427EFE2EB7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A457-2D4B-4B64-A1E7-DF1D7D4BBEED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1404-8E28-4DFF-9BE7-175CCC3367E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pfriscursus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Jose Kamphui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Les 3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946680" y="1203480"/>
            <a:ext cx="157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C O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2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9B06-3166-4F91-9375-852A15BF4EA7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ijdelijke aanduiding voor voettekst 3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ijdelijke aanduiding voor dianummer 4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6438-1DC1-4AC6-ABE1-C4A7A6E24D5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1295280"/>
            <a:ext cx="3809880" cy="510552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80880" y="1523880"/>
            <a:ext cx="3200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Het lezen van een jaarverslag is vaak lastig omdat dezelfde begrippen steeds een andere naam krij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s je d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ructuu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kent, weet je in ieder geval waar je moet zoek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52280" y="1447920"/>
            <a:ext cx="152640" cy="4952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4356000" y="1523880"/>
            <a:ext cx="446400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mloopsnel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mzetd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Debiteurensal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2E3F-AD13-42D9-9CDE-8850DBE08FD5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D675-8CD3-49E3-BF05-D7E0581AD32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at is de omloopsnelheid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et is belangrijk dat de voorraad niet te lang blijft lig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 gemiddelde magazijntijd wordt weergegeven in de omzetduu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 omloopsnelheid geeft aan hoe vaak de voorraad verkocht wordt per j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3" name="Picture 9" descr="Aanvoer bloemen vanaf Schiphol"/>
          <p:cNvPicPr/>
          <p:nvPr/>
        </p:nvPicPr>
        <p:blipFill>
          <a:blip r:embed="rId1"/>
          <a:srcRect l="0" t="0" r="3704" b="0"/>
          <a:stretch/>
        </p:blipFill>
        <p:spPr>
          <a:xfrm>
            <a:off x="457200" y="4800600"/>
            <a:ext cx="1981080" cy="133668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20"/>
          <p:cNvSpPr/>
          <p:nvPr/>
        </p:nvSpPr>
        <p:spPr>
          <a:xfrm>
            <a:off x="2590920" y="5105520"/>
            <a:ext cx="990360" cy="685800"/>
          </a:xfrm>
          <a:prstGeom prst="rightArrow">
            <a:avLst>
              <a:gd name="adj1" fmla="val 50000"/>
              <a:gd name="adj2" fmla="val 36102"/>
            </a:avLst>
          </a:prstGeom>
          <a:solidFill>
            <a:srgbClr val="99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u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7" descr="http://www.c1000peterderijke.nl/upload/256903505.jpg"/>
          <p:cNvPicPr/>
          <p:nvPr/>
        </p:nvPicPr>
        <p:blipFill>
          <a:blip r:embed="rId2"/>
          <a:stretch/>
        </p:blipFill>
        <p:spPr>
          <a:xfrm>
            <a:off x="3733920" y="4724280"/>
            <a:ext cx="2209680" cy="147168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22"/>
          <p:cNvSpPr/>
          <p:nvPr/>
        </p:nvSpPr>
        <p:spPr>
          <a:xfrm>
            <a:off x="6095880" y="510552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99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au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" descr="http://tbn0.google.com/images?q=tbn:NCe4YR3gRdzVeM:http://bp3.blogger.com/_Qu_eMn_Ud88/RdrTp6Q4D2I/AAAAAAAAAdY/YS98g0qDlEw/s320/bloemenderuijterstraat.gif"/>
          <p:cNvPicPr/>
          <p:nvPr/>
        </p:nvPicPr>
        <p:blipFill>
          <a:blip r:embed="rId3"/>
          <a:stretch/>
        </p:blipFill>
        <p:spPr>
          <a:xfrm>
            <a:off x="7238880" y="4724280"/>
            <a:ext cx="1128960" cy="15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2400-0B02-429E-AC40-A519829942EF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5172-DF4C-4AAC-BFD8-2AA9D8E723C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mloopsnelheid en omzetduu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4920" y="2438280"/>
          <a:ext cx="8534160" cy="1195560"/>
        </p:xfrm>
        <a:graphic>
          <a:graphicData uri="http://schemas.openxmlformats.org/drawingml/2006/table">
            <a:tbl>
              <a:tblPr/>
              <a:tblGrid>
                <a:gridCol w="3962160"/>
                <a:gridCol w="4343400"/>
                <a:gridCol w="228600"/>
              </a:tblGrid>
              <a:tr h="5184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loopsnelheid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Inkoopwaar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e voorra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371600" y="4572000"/>
          <a:ext cx="6808680" cy="1195560"/>
        </p:xfrm>
        <a:graphic>
          <a:graphicData uri="http://schemas.openxmlformats.org/drawingml/2006/table">
            <a:tbl>
              <a:tblPr/>
              <a:tblGrid>
                <a:gridCol w="2967120"/>
                <a:gridCol w="3623040"/>
                <a:gridCol w="218880"/>
              </a:tblGrid>
              <a:tr h="51840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zetduur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65 dag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loopsnelhe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24" name="Group 51"/>
          <p:cNvGrpSpPr/>
          <p:nvPr/>
        </p:nvGrpSpPr>
        <p:grpSpPr>
          <a:xfrm>
            <a:off x="2513520" y="1600200"/>
            <a:ext cx="2820600" cy="838080"/>
            <a:chOff x="2513520" y="1600200"/>
            <a:chExt cx="2820600" cy="838080"/>
          </a:xfrm>
        </p:grpSpPr>
        <p:sp>
          <p:nvSpPr>
            <p:cNvPr id="125" name="Line 47"/>
            <p:cNvSpPr/>
            <p:nvPr/>
          </p:nvSpPr>
          <p:spPr>
            <a:xfrm>
              <a:off x="4800600" y="2057400"/>
              <a:ext cx="533520" cy="38088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48"/>
            <p:cNvSpPr/>
            <p:nvPr/>
          </p:nvSpPr>
          <p:spPr>
            <a:xfrm>
              <a:off x="2513520" y="1600200"/>
              <a:ext cx="233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Uit W&amp;V-reke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52"/>
          <p:cNvGrpSpPr/>
          <p:nvPr/>
        </p:nvGrpSpPr>
        <p:grpSpPr>
          <a:xfrm>
            <a:off x="3505320" y="3505320"/>
            <a:ext cx="1752480" cy="703440"/>
            <a:chOff x="3505320" y="3505320"/>
            <a:chExt cx="1752480" cy="703440"/>
          </a:xfrm>
        </p:grpSpPr>
        <p:sp>
          <p:nvSpPr>
            <p:cNvPr id="128" name="Text Box 49"/>
            <p:cNvSpPr/>
            <p:nvPr/>
          </p:nvSpPr>
          <p:spPr>
            <a:xfrm>
              <a:off x="3505320" y="3809880"/>
              <a:ext cx="139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Uit bala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50"/>
            <p:cNvSpPr/>
            <p:nvPr/>
          </p:nvSpPr>
          <p:spPr>
            <a:xfrm flipV="1">
              <a:off x="4648320" y="3505320"/>
              <a:ext cx="609480" cy="30456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53"/>
          <p:cNvGrpSpPr/>
          <p:nvPr/>
        </p:nvGrpSpPr>
        <p:grpSpPr>
          <a:xfrm>
            <a:off x="534600" y="5334120"/>
            <a:ext cx="1751400" cy="703440"/>
            <a:chOff x="534600" y="5334120"/>
            <a:chExt cx="1751400" cy="703440"/>
          </a:xfrm>
        </p:grpSpPr>
        <p:sp>
          <p:nvSpPr>
            <p:cNvPr id="131" name="Text Box 54"/>
            <p:cNvSpPr/>
            <p:nvPr/>
          </p:nvSpPr>
          <p:spPr>
            <a:xfrm>
              <a:off x="534600" y="5638680"/>
              <a:ext cx="122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in dag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55"/>
            <p:cNvSpPr/>
            <p:nvPr/>
          </p:nvSpPr>
          <p:spPr>
            <a:xfrm flipV="1">
              <a:off x="1676520" y="5334120"/>
              <a:ext cx="609480" cy="30456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2" dur="1" fill="hold"/>
                                  <p:tgtEl>
                                    <p:spTgt spid="13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C8B6-3706-42E5-9AED-1E2FC9DBEF42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0442-BFE7-4AE1-8AF7-DF626860993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Gemiddeld debiteurensald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Gemiddelde bedrag dat uitstaat bij de debiteur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het gemiddelde van heel veel momentopnam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Debiteuren kosten geld, omdat je ze moet voorfinancier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Tegenover debiteuren staat een lening in de balans → kost ren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010D-741E-441F-A6FE-17BCDEEA1827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21E9-FB4D-45CD-921A-E28296823F9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Gemiddelde debiteurensald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Omzet kan op 2 manieren betaald worden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à contant 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(boek je direct op liquide middelen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p krediet 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(boek je op debiteuren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ebiteurensaldo ≈ debiteuren </a:t>
            </a:r>
            <a:r>
              <a:rPr b="1" lang="en-US" sz="2200" spc="-1" strike="noStrike">
                <a:solidFill>
                  <a:srgbClr val="ffffff"/>
                </a:solidFill>
                <a:latin typeface="Arial Black"/>
              </a:rPr>
              <a:t>x</a:t>
            </a: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 kredietduur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S = dagelijkse omzet op krediet  x 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aantal dagen dat de factuur open staat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S = DOOK  x  t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gem. DS = gem. DOOK  x  gem. t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28600" y="4800600"/>
          <a:ext cx="8915400" cy="1195560"/>
        </p:xfrm>
        <a:graphic>
          <a:graphicData uri="http://schemas.openxmlformats.org/drawingml/2006/table">
            <a:tbl>
              <a:tblPr/>
              <a:tblGrid>
                <a:gridCol w="1103400"/>
                <a:gridCol w="3773520"/>
                <a:gridCol w="403848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DS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Jaaromzet op kredi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gemidd. kredietdu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65 da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1A99-7F91-4FE1-866A-D5CE300D71CA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A30E-3629-4525-A388-54FF2BB55C1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ef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ereken het gemiddelde debiteurensaldo als een bedrijf jaarlijks € 75.000,- omzet op krediet heeft en de gemiddelde krediettermijn 25 dagen bedraag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ereken de omloopsnelheid als een bedrijf aan inkoop jaarlijks € 600.000,- uitgeeft en de gemiddelde waarde van de voorraad € 50.000,- bedraag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at betekenen de getallen die je hebt uitgerekend?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ijdelijke aanduiding voor datum 4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902F-D99D-4461-96CB-6853A1A362CB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ijdelijke aanduiding voor voettekst 5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ijdelijke aanduiding voor dianummer 6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63E6-1F30-4A66-93F4-C413EC53AA6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amenvatting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3352680" cy="320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cc"/>
                </a:solidFill>
                <a:latin typeface="Arial Black"/>
              </a:rPr>
              <a:t>Balans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190440" indent="-19044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quid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Werkkapitaa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urrent ratio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ick ratio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190440" indent="-19044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lvabil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733560" y="1447920"/>
            <a:ext cx="5181480" cy="320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cc"/>
                </a:solidFill>
                <a:latin typeface="Arial Black"/>
              </a:rPr>
              <a:t>W&amp;V kengetall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rutowinst als % v/d omzet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ettowinst als % v/d omze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cc"/>
                </a:solidFill>
                <a:latin typeface="Arial Black"/>
              </a:rPr>
              <a:t>W&amp;V + extra gegeven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mzet per 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per week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mzet per werknemer p.j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biteurensaldo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1219320" y="4800600"/>
            <a:ext cx="6705360" cy="160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cc"/>
                </a:solidFill>
                <a:latin typeface="Arial Black"/>
              </a:rPr>
              <a:t>Kengetallen o.b.v. Balans + W&amp;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 EV en T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mloopsnelheid en omzetd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bert Oosterom</dc:creator>
  <dc:description/>
  <dc:language>en-US</dc:language>
  <cp:lastModifiedBy>José Kamphuis</cp:lastModifiedBy>
  <dcterms:modified xsi:type="dcterms:W3CDTF">2018-01-07T16:19:55Z</dcterms:modified>
  <cp:revision>20</cp:revision>
  <dc:subject/>
  <dc:title>PowerPoint-presentatie</dc:title>
</cp:coreProperties>
</file>