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3B82-F099-41D8-8B3D-C98D97C1BC3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B2A6-9FE2-43FA-A228-1F6887647C5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0D0C-5DDC-453A-A51F-8D152A235A7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AC51-8DF8-4764-9605-AF667E4D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E0BC-2EA0-473C-A442-C1020705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B52-B049-49FD-8C3D-108F7413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D42-6541-4735-BD86-D7E0B0B2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8609-0174-4BEB-A40C-C362DD80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BF25-C971-4B6A-A8A0-46DF38E7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0D20-22EF-4CBE-9F6A-E8A2E5E6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50D3-FA2B-4479-AEC5-1071F0F2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450C-6F24-43FA-9AE4-4050C66C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3BE2-6C28-45C6-96BC-D5C4F639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E5AB-9CC5-4935-88D6-BC685E8E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DB56-80D9-4EE4-84BD-53C37D38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C36C-9018-43DA-B6AC-DA5B5D49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119A-42CD-4BCC-BDB5-BD370E83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0B3F-036B-4FD0-B19C-611ED291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A451-5256-4C56-903D-DC7AE63E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3A9E-85C3-4986-BFCC-C2B08BB4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C3CC-5B60-495A-A6D0-C2AB04BF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A06-CEA7-4D1E-8B6D-C8268AD3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44C-4505-4765-A5E4-686126DC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270-E834-4C93-B482-C725752A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CAA8-0E99-449F-AB0E-34341C7E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337B-3E14-49FC-9A6B-AD9ED6EB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22BF-1F5F-49FB-A235-8FD64E97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\\dgorbet\c\WINDOWS\Desktop\Sprite 10.jpg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CD8D-8471-48BD-8CE8-F793E9EE516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5054-AB25-439A-9814-1FA500F38A1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\\dgorbet\c\WINDOWS\Desktop\Sprite 10.jpg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0C62-D1C4-45D4-9511-63E4677CCE1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CE30-C4F4-4D1A-BDB4-3AFE2342FA6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6073-AE8A-4A01-A662-3A57D1F0860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8333-8CB1-4BE3-9A0D-EE9E9826B2D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1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BE6D-DEFE-41AE-B100-391F2256685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B7AC-5F04-487E-B95D-25C188C6945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fin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vermogen van het bedrijf om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LANGE termijn schuld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 kunnen beta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vermogen van het bedrijf om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KORTE termijn schuld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 kunnen beta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0377-AC7A-4F54-9402-115D4C54B80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F699-1C1C-48B0-B36B-1AEE6088938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26"/>
          <p:cNvSpPr/>
          <p:nvPr/>
        </p:nvSpPr>
        <p:spPr>
          <a:xfrm>
            <a:off x="4267080" y="3733920"/>
            <a:ext cx="4876920" cy="106668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ff3300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erkkapitaa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= Vla – 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urrent rati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= Vla / 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Quick rati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34000">
                <a:solidFill>
                  <a:srgbClr val="ffffff"/>
                </a:solidFill>
                <a:latin typeface="Arial Black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Vla – voorra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8320" y="1523880"/>
          <a:ext cx="4267080" cy="368460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st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igen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Lang vreemd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lottend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Kort vreemd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71" dur="1" fill="hold"/>
                                  <p:tgtEl>
                                    <p:spTgt spid="1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72" dur="1" fill="hold"/>
                                  <p:tgtEl>
                                    <p:spTgt spid="1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0437-BC36-4DC8-A5D3-98726F57F79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E89D-A9E9-4BE7-A6C5-EC82034DC87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427640" y="1523880"/>
            <a:ext cx="4335480" cy="38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sen kenget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lansbegr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1D62-F41E-4AF3-B88D-A2AB15FFA3D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A13C-41D1-4C7A-B909-F6B554AFD6D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deling van een bala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lottend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e midde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 =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V / TV * 100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48320" y="1523880"/>
          <a:ext cx="4267080" cy="388800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st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igen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reemd vermogen (la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lottend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reemd vermogen (ko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78C0-BFDA-4EF1-A379-8B76969C05B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FD1C-1C0A-412B-A237-407BB458B96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mmater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oodwil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ctrooi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osten van onderzoek en ontwikkel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ter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bouw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ventaris / machines / gereedschapp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to’s en computer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nanc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andelen in ‘verbonden’ onderneming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025A-8C79-4D64-8388-225650C2CE6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5E94-057C-4FDB-A2D6-DECDB7654D9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lottend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oorrad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ondstoffen en gereed produ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ndelsvoorra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waardeerd naa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inkoopwaard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of productie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biteuren / vorder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quide middel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nktegoed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asgel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EBB5-421C-4C01-A888-A2E80F35A71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A152-9412-4372-AE7C-D7BBEDFD71F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igen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leg van de eigen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andelenkapitaa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atschappelijk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plaatst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&gt; 20% v/h maatschappelijk kapitaa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minaal kapitaal ↔ beurswaar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olgestort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erv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inst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gio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rwaarderings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9" name="Picture 43" descr="C:\Program Files\Microsoft Office\Clipart\corpbas\j0078725.wmf"/>
          <p:cNvPicPr/>
          <p:nvPr/>
        </p:nvPicPr>
        <p:blipFill>
          <a:blip r:embed="rId1"/>
          <a:stretch/>
        </p:blipFill>
        <p:spPr>
          <a:xfrm>
            <a:off x="6248520" y="1600200"/>
            <a:ext cx="2701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5465-2AF7-428A-88C2-488F71CDDAA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4304-F401-4D1C-92E4-6A7716FAEA8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C:\Program Files\Microsoft Office\Clipart\standard\stddir1\BD06961_.WMF"/>
          <p:cNvPicPr/>
          <p:nvPr/>
        </p:nvPicPr>
        <p:blipFill>
          <a:blip r:embed="rId1"/>
          <a:stretch/>
        </p:blipFill>
        <p:spPr>
          <a:xfrm>
            <a:off x="7362720" y="4724280"/>
            <a:ext cx="1781280" cy="1738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ang vreemd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chtergestelde (a/g)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ante Agaath’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ypothecaire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derpan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optijd 15-30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Zakelijke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optijd typisch 10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nanciële lease verplicht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6" name="Picture 4" descr="C:\Program Files\Microsoft Office\Clipart\standard\stddir1\BD06959_.WMF"/>
          <p:cNvPicPr/>
          <p:nvPr/>
        </p:nvPicPr>
        <p:blipFill>
          <a:blip r:embed="rId2"/>
          <a:stretch/>
        </p:blipFill>
        <p:spPr>
          <a:xfrm>
            <a:off x="6324480" y="2438280"/>
            <a:ext cx="15512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340E-06A6-42CF-A8BF-03502A125B4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AAAA-FFEE-41A9-B1FE-B93F9668450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ort vreemd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kening courant kredi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ood staan bij de ban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diteu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g te betalen 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g te betalen belast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6298-21C8-4F3B-A13B-CC499A3D3B4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072D-0CEB-4C53-91C0-CB3328C7320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228600" y="114300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eer hoge waarden bij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ichting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ivé person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oed lopend bedrijf meestal in het gele gebie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rtend bedrijf moet boven 20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1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2:21Z</dcterms:modified>
  <cp:revision>14</cp:revision>
  <dc:subject/>
  <dc:title>PowerPoint-presentatie</dc:title>
</cp:coreProperties>
</file>