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00AD-C025-4535-A635-07622FCC956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A2D4-EBEB-4588-8969-62360358A61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7164-79AA-458F-9EA8-DB2A0B47D05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951-D7E8-4176-A446-E9F71CE7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1E7-3CFB-4A00-89FA-ED3FA1BE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FC0-C369-418A-BA13-07948B70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CA5-B4A8-4610-A99C-C7CF62B0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D828-F18B-4305-ABF3-968793FA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32CC-A1A9-4083-97CC-0C5B8D6A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5C20-5177-49B5-A70C-284ACB0C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C15C-3C0B-46BB-A3C4-0BCAC5AC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9A57-1ACD-44AE-9C2E-825C19E3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1522-2A01-43B8-B503-6153306A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5EA9-5B01-4BE4-A120-05FD535A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73B-9596-4CED-8FC7-EB60269A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20DA-859C-4890-92D8-F039EAF7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E76F-3602-4BEE-B030-CEF9B2CB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6F41-0CEC-488B-A857-8F8AE62D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2FF5-65EF-4723-94B0-4ECD9CFB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E571-5694-467E-96B9-428D1EA2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4A4-1137-4E44-867A-B743CED2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7C0-7694-4FAA-8D53-9441419A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C19-0973-4FFC-B22B-DC6223F9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05A-A686-499D-9F3D-BCA1DEA6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B6B-F208-46F7-813D-A476537D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8C8-2064-4A8A-A267-9EE1FFCF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F04-2CE4-42A8-9067-21D86EAE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C598-9BE2-4DC4-B6B7-140A605AEC3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1E17-264A-4077-9E0F-DC051E2F04E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C6D4-F824-482C-938E-290D5575AD1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2319-59A9-4981-8969-EF204C46793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nurijk.nl/geld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ns-vernooij.nl/bm-site/rr-model-F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3258-D759-432C-A863-2F642C4FA20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8DD0-25D0-40B3-8AD1-17AEDFE161D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D41B-B272-46B7-86E0-C915D039DF8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E099-B462-4DE8-AD3A-4C3C68D7B59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bouw van 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28600" y="1447920"/>
          <a:ext cx="8686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4"/>
          <p:cNvSpPr/>
          <p:nvPr/>
        </p:nvSpPr>
        <p:spPr>
          <a:xfrm flipV="1">
            <a:off x="1752480" y="990720"/>
            <a:ext cx="3886200" cy="4114800"/>
          </a:xfrm>
          <a:prstGeom prst="line">
            <a:avLst/>
          </a:prstGeom>
          <a:ln cap="sq"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1447560" y="3276720"/>
            <a:ext cx="996120" cy="1066680"/>
            <a:chOff x="1447560" y="3276720"/>
            <a:chExt cx="996120" cy="1066680"/>
          </a:xfrm>
        </p:grpSpPr>
        <p:sp>
          <p:nvSpPr>
            <p:cNvPr id="159" name="Line 5"/>
            <p:cNvSpPr/>
            <p:nvPr/>
          </p:nvSpPr>
          <p:spPr>
            <a:xfrm>
              <a:off x="2438280" y="3276720"/>
              <a:ext cx="0" cy="1066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1447560" y="365760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l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0"/>
          <p:cNvGrpSpPr/>
          <p:nvPr/>
        </p:nvGrpSpPr>
        <p:grpSpPr>
          <a:xfrm>
            <a:off x="5334120" y="1295280"/>
            <a:ext cx="843120" cy="914400"/>
            <a:chOff x="5334120" y="1295280"/>
            <a:chExt cx="843120" cy="914400"/>
          </a:xfrm>
        </p:grpSpPr>
        <p:sp>
          <p:nvSpPr>
            <p:cNvPr id="162" name="Line 8"/>
            <p:cNvSpPr/>
            <p:nvPr/>
          </p:nvSpPr>
          <p:spPr>
            <a:xfrm flipV="1">
              <a:off x="5334120" y="129528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5335200" y="15238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2DC8-7AEF-4A1E-933C-98BFFB18BCA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74FE-85C2-4E0D-A0AC-AFC190A503B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46240" y="148284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E4AF-4B42-416B-9B5A-5B46EB0AF41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9404-A3CC-454D-B194-CB334C19BE7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msten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Netto inko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39"/>
          <p:cNvSpPr/>
          <p:nvPr/>
        </p:nvSpPr>
        <p:spPr>
          <a:xfrm>
            <a:off x="3562920" y="429264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Privé onttrekk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8"/>
          <p:cNvSpPr/>
          <p:nvPr/>
        </p:nvSpPr>
        <p:spPr>
          <a:xfrm>
            <a:off x="5076720" y="4653000"/>
            <a:ext cx="2087640" cy="13683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C86A-ACD3-4886-879E-1F2C6ECCD0F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A4D0-3C73-4A81-957C-40E2A360BBE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e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2D89-32CD-4CAC-915B-B4E30D8B423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0FA4-FDAA-4A15-86B0-331D89527F9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bben geen enkele fiscale waar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 lo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willekeurig bedrag dat ongeveer aangeeft hoeveel de ondernemer zou verdienen als hij in loondienst w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e ren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inschatting van de rente die de ondernemer misloopt omdat zijn eigen vermogen niet op de bank sta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3C4E-599F-42A8-AB49-99882B685DC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5428-ECF6-45AB-9877-3F3DA1AFB92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ut van 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iscale winst -/- gewaardeerde kosten = een getal dat vergelijkbaar is met de nettowinst van een BV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aken het mogelijk de rentabiliteit uit te rekene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ven een reëel zakelijk beeld van het resultaat van de eenmanszaak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gelijk de inkomsten uit het bedrijf met het loon dat je in loondienst zou verdienen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reken ook de softe opbrengsten !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Vrijheid, zelfstandigheid, trots bezit, werkplezier</a:t>
            </a: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1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505D-ED21-4DBC-B7A4-1F6BE4C09D5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24D8-E46F-4686-8D9C-7B0D5A3B957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8" descr="http://www.shopbetreiber-blog.de/wp-content/uploads/2007/08/geld.jpg"/>
          <p:cNvPicPr/>
          <p:nvPr/>
        </p:nvPicPr>
        <p:blipFill>
          <a:blip r:embed="rId1"/>
          <a:stretch/>
        </p:blipFill>
        <p:spPr>
          <a:xfrm>
            <a:off x="6781680" y="5486400"/>
            <a:ext cx="1597320" cy="120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http://www.zodiakbv.nl/images/winkel-f.jpg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943600" y="2511360"/>
            <a:ext cx="3200400" cy="165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http://www.nurijk.nl/geld.jpg">
            <a:hlinkClick r:id="rId3"/>
          </p:cNvPr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2590920" y="2514600"/>
            <a:ext cx="2133360" cy="1670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t € 1000,- op een sp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krijg je er € 60,- bij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e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vesteer € 1000,- in een bedrij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heb je € 60,- me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abiliteit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0880" y="1523880"/>
            <a:ext cx="8305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vergelijkbaar met rente op een spaarre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9" descr="http://www.shopbetreiber-blog.de/wp-content/uploads/2007/08/geld.jpg"/>
          <p:cNvPicPr/>
          <p:nvPr/>
        </p:nvPicPr>
        <p:blipFill>
          <a:blip r:embed="rId5"/>
          <a:stretch/>
        </p:blipFill>
        <p:spPr>
          <a:xfrm>
            <a:off x="2286000" y="5486400"/>
            <a:ext cx="1596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8C11-B814-4670-8555-A0B9C4798FF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0675-ADB9-4CC4-8E15-493FA31C2C5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 en R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Eigen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geld van de eigenaar hem opgelever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Totaal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bedrijf opgelever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9C2E-2507-4314-B65B-AECE32F6C24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30B2-1DD2-4243-A254-79574BCEFB2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bereken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balans haal je het gemiddelde geïnvesteerde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mogen van begin- en eindbalans middelen (zonder de winstreserve van het betreffende boekjaar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W&amp;V-rekening haal je de win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DEF1-C4AC-4809-BF25-7E4A17F0CDF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67DD-8585-4306-B5C3-40AD1E324DD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2133720"/>
          <a:ext cx="6400800" cy="11952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  <a:gridCol w="19051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286000" y="4038480"/>
          <a:ext cx="6400800" cy="1195560"/>
        </p:xfrm>
        <a:graphic>
          <a:graphicData uri="http://schemas.openxmlformats.org/drawingml/2006/table">
            <a:tbl>
              <a:tblPr/>
              <a:tblGrid>
                <a:gridCol w="1523880"/>
                <a:gridCol w="3200400"/>
                <a:gridCol w="16765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AutoShape 163"/>
          <p:cNvSpPr/>
          <p:nvPr/>
        </p:nvSpPr>
        <p:spPr>
          <a:xfrm>
            <a:off x="5791320" y="838080"/>
            <a:ext cx="2895480" cy="1295640"/>
          </a:xfrm>
          <a:prstGeom prst="cloudCallout">
            <a:avLst>
              <a:gd name="adj1" fmla="val -77523"/>
              <a:gd name="adj2" fmla="val 4460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etto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E046-9A4D-4BAD-8B74-499C4A27986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2766-70A7-4E69-81DC-44D080CD559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ultaatre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Verschillen BV en eenmansza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BF0E-6131-4481-BF91-7973F72A07D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19D7-37C1-4B3D-A21B-92298F9C223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2133720"/>
          <a:ext cx="7543800" cy="1195200"/>
        </p:xfrm>
        <a:graphic>
          <a:graphicData uri="http://schemas.openxmlformats.org/drawingml/2006/table">
            <a:tbl>
              <a:tblPr/>
              <a:tblGrid>
                <a:gridCol w="1555560"/>
                <a:gridCol w="4432320"/>
                <a:gridCol w="1555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838080" y="4038480"/>
          <a:ext cx="8153640" cy="1195560"/>
        </p:xfrm>
        <a:graphic>
          <a:graphicData uri="http://schemas.openxmlformats.org/drawingml/2006/table">
            <a:tbl>
              <a:tblPr/>
              <a:tblGrid>
                <a:gridCol w="1552680"/>
                <a:gridCol w="5153040"/>
                <a:gridCol w="1447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6" name="AutoShape 43"/>
          <p:cNvSpPr/>
          <p:nvPr/>
        </p:nvSpPr>
        <p:spPr>
          <a:xfrm>
            <a:off x="4952880" y="838080"/>
            <a:ext cx="2895840" cy="1295640"/>
          </a:xfrm>
          <a:prstGeom prst="cloudCallout">
            <a:avLst>
              <a:gd name="adj1" fmla="val -71490"/>
              <a:gd name="adj2" fmla="val 47305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Fiscale 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795C-6B81-47F0-A36C-FA13617C0C8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2EE7-2AE9-4B15-80DE-E269C116F16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ultaatrekening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hetzelfde als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Ba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per begin en einde boek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Kasstroomoverzich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is hetzelfde als cashflo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FB53-4267-456F-B36C-57A8F429540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D75F-C284-4F07-B7CE-C8C7DC0E2D8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Winst-en-verlies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4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Resultaten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Exploitatie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Overzicht va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opbrengsten</a:t>
            </a: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0680" y="46054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Begin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26800" y="51814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Eind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132000" y="4941720"/>
            <a:ext cx="3024360" cy="43200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418200" y="450864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+ opbreng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879000" y="522936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-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132000" y="4149720"/>
            <a:ext cx="2880000" cy="1728720"/>
          </a:xfrm>
          <a:prstGeom prst="ellipse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724360" y="414972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Result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A726-E649-437C-9DA9-D9AE18957AA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8426-BD5D-478E-89E8-B078B9ABC21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len voor de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het burgerlijk wetboek staan 6 modellen die verschillen qua indeling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ffelvorm (verticaal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ntrovorm (balansvorm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Model 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het meest gebruikelij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ctionele ordening va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ie www.bedrijfseconomische-modellen.n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7E21-A2DA-4BA6-899A-1DD854A7B32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A5AC-67E0-4038-B487-2A36FFF6FB0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erschillende weergav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nager stuurt het bedrijf bij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et snel beschikbaar zij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antwoording naar bui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blemen verdoeze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beelden in schoolboek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simpe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zichten van journali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zeer comp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553080" y="1828800"/>
            <a:ext cx="2438640" cy="1676520"/>
          </a:xfrm>
          <a:prstGeom prst="cloudCallout">
            <a:avLst>
              <a:gd name="adj1" fmla="val -55925"/>
              <a:gd name="adj2" fmla="val 6117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rgon vaak door elkaar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97B5-961C-4214-A4FE-405DC00B389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10CF-1B8B-4922-89D3-8B02BA3F3A2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44792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520"/>
                <a:gridCol w="35812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Opbreng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0C24-5AEF-4FBC-9392-B9CB4FB419B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A658-5813-4999-98E8-F60AD93131E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vallen alle kosten die evenredig met de verkoop samenhan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je aan de leverancier had betaa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rondstoffen en hulpstoff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gehuurd persone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ok wel genoemd: Kostprijs van de omz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E706-B980-4E09-8810-6CE81EB59EE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2B17-F268-4E56-9410-5C29A284887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edrijfskosten bestaan uit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oon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eenmanszaak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exclusief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het loon van de ondernemer!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ige kosten die min of meer onafhankelijk zijn van de omz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grote omzetstijging kunnen deze kosten soms meestij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ariabel gebudgetteerde reclam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groting van de bedrijfsh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kos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3:42Z</dcterms:modified>
  <cp:revision>20</cp:revision>
  <dc:subject/>
  <dc:title>PowerPoint-presentatie</dc:title>
</cp:coreProperties>
</file>