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25CF-52F5-40BA-AD17-9811273CFDE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DC07-7655-421C-AEEB-35E3945863D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B2C9-36AE-4BAF-BB97-0D9BBCAFDA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E8D-B513-4EFA-B6C9-7A2A12A3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08C3-9564-4CB7-9AB2-AC51718E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2E8-25F0-4B9E-868F-EA6E0C76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245-97F3-4596-829D-46A931F8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A307-F0A7-4B17-8925-D43D816C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5196-F74A-4974-A3E6-3665E1C8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B953-80CC-4C2E-91BB-88ED287A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121F-F82D-48D8-ADD8-38C98538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8F2D-8725-41EB-B0D1-041244FC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02F8-3CA8-441C-9CA3-833F7B57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517C-9E9B-428F-AAD3-3E764DCF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507-B6DB-4838-9040-A9011296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77C9-D393-4753-B061-E6307F7A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AE75-6205-46E5-96B9-ABEB10BD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D05D-70AA-436A-A470-DB39A475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BCEE-524C-4821-9B7B-9C1D35FE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BA73-0753-41F0-84A0-7C14B138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6E8-0942-479C-B832-4CCC7EB2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B23-F020-4FE1-AB7B-3AE817AA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3AE-004F-4B24-9A13-B0076578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66CD-DA63-458F-8DF0-4A855755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FC4-2E06-4C67-BC48-E25E333C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A46A-A1C0-42C3-956E-8688A18F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2CF-29E5-4BB9-8814-E79A4A09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\\dgorbet\c\WINDOWS\Desktop\Sprite 10.jpg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BDF6-306D-4A25-AE6C-6623AF7A546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133C-CDF4-4DC7-A131-4490E7EEDD4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\\dgorbet\c\WINDOWS\Desktop\Sprite 10.jpg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5AA2-E30C-4B2A-9916-081FF9A5BDA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C9A7-73E0-4FF8-B797-EDF44756E20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9A58-545E-4C56-A134-864977B6823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B994-A6AA-46E7-92A9-8D2EF94A026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1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2139-4562-4427-A977-2253297A081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56CD-B033-42C4-8CBA-B4D206BCEB2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fin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LANG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KORT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76AE-9F27-4942-B5CF-56067374053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82CD-D11B-48ED-88D3-FA41E88339B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267080" y="3733920"/>
            <a:ext cx="4876920" cy="10666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ff330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–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/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34000">
                <a:solidFill>
                  <a:srgbClr val="ffffff"/>
                </a:solidFill>
                <a:latin typeface="Arial Black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Vla – 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1523880"/>
          <a:ext cx="4267080" cy="36846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ang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Kort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1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D97A-D861-4B99-8009-FECD1C2CC35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6B76-6B36-4E7E-9D83-8C714940742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427640" y="1523880"/>
            <a:ext cx="4335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sen kenget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lans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E6FD-ABD3-4185-B04A-A21DE6DE055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B8B8-BF51-4CA8-9179-0C28DB34BC4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deling van een bala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 =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 / TV * 10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48320" y="1523880"/>
          <a:ext cx="4267080" cy="38880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la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ko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982C-C2B6-41D2-97C2-486228A843A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8717-0948-4635-88D6-AFFDE2AB96B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oodwil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ctrooi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osten van onderzoek en ontwikkel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bouw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ventaris / machines / gereedschapp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’s en comput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anc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andelen in ‘verbonden’ ondernem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FE9A-FDE9-4E78-8B6B-5C1BDB3AD6C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DEAE-1B25-487B-B3A0-220D58A471A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rad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ndstoffen en gereed produ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ndels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 naa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of productie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biteuren / vorder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nktegoed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asgel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42CF-B06B-466B-AA33-DBDD9087FB5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3116-DDF3-4F7A-9A2C-61A632B9D65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igen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leg van de eigen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andelenkapita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atschappelijk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plaats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&gt; 20% v/h maatschappelijk kapitaa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minaal kapitaal ↔ beurswaar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olgestor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erv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inst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io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rwaarderings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9" name="Picture 43" descr="C:\Program Files\Microsoft Office\Clipart\corpbas\j0078725.wmf"/>
          <p:cNvPicPr/>
          <p:nvPr/>
        </p:nvPicPr>
        <p:blipFill>
          <a:blip r:embed="rId1"/>
          <a:stretch/>
        </p:blipFill>
        <p:spPr>
          <a:xfrm>
            <a:off x="6248520" y="1600200"/>
            <a:ext cx="2701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86DE-50F8-42A4-9863-1A583DE97F8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8B95-0BFA-41F0-89A2-4BDD939C149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C:\Program Files\Microsoft Office\Clipart\standard\stddir1\BD06961_.WMF"/>
          <p:cNvPicPr/>
          <p:nvPr/>
        </p:nvPicPr>
        <p:blipFill>
          <a:blip r:embed="rId1"/>
          <a:stretch/>
        </p:blipFill>
        <p:spPr>
          <a:xfrm>
            <a:off x="7362720" y="4724280"/>
            <a:ext cx="1781280" cy="1738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ng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chtergestelde (a/g)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nte Agaath’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ypothecair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pan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15-3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Zakelijk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typisch 1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nanciële lease verplich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Picture 4" descr="C:\Program Files\Microsoft Office\Clipart\standard\stddir1\BD06959_.WMF"/>
          <p:cNvPicPr/>
          <p:nvPr/>
        </p:nvPicPr>
        <p:blipFill>
          <a:blip r:embed="rId2"/>
          <a:stretch/>
        </p:blipFill>
        <p:spPr>
          <a:xfrm>
            <a:off x="6324480" y="2438280"/>
            <a:ext cx="15512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635E-606B-490E-9843-A8D65CFAC05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4E85-9A59-4F89-B1F2-EFDA3CC9BAC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kening courant kredi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ood staan bij de ban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d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belas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9937-664B-4E0D-8A03-CA4D7B3A30D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75A5-90C4-4014-9722-C3216A8EACD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228600" y="114300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er hoge waarden bij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icht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ivé person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oed lopend bedrijf meestal in het gele gebie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rtend bedrijf moet boven 2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1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2:21Z</dcterms:modified>
  <cp:revision>14</cp:revision>
  <dc:subject/>
  <dc:title>PowerPoint-presentatie</dc:title>
</cp:coreProperties>
</file>