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5DB7-FFDC-4FCB-8BD6-39991339E5A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5051-A3B8-4C0F-8022-AF042662D42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EBA3-7853-4A99-8B1D-8C4C6B3C2BF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FC59-541D-4DC9-B47B-EE3B56E5E9F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2F1A-FCCA-49DA-8CCF-66212819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C9F-3AC1-4DE2-9710-1ED6FF00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E42A-3671-4BC2-A499-8CDCE61E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4C03-BCFE-4810-B418-B5B253CC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EA81-C1F1-4D44-BBEB-1CF77B42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7C5A-6DE2-4D9B-BC43-CF99DDDE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731D-15F3-4705-B20D-C5143492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03E2-4443-4683-8354-9ABBDC4D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E0AF-E56F-4FF8-9AC5-176DEC97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687A-B1C6-4050-9691-A002B3D6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41E4-9E17-434B-97DB-A7700EFF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4E56-499D-46FE-BC44-CC31337A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2B7B-C839-453A-8192-CB279A10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F912-22E7-4E39-AEFF-543068D7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A000-948F-4DF3-8BE4-324B86EA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361B-2999-446C-BCDC-7BBE96B7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3CB0-6555-4635-AECD-D4AAAF02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52A-54BA-4B8F-B709-DED0236E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491C-EFC4-406B-90A4-B5621F0F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0FB-91B3-4C6A-B99B-245E843C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F2E-5B69-4D4D-B0BA-84292505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920-50AB-4408-B63C-81DF5C21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C93-E55A-4060-B054-A91F6088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D68-EBCE-4F68-85CF-FA7C6366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25B4-3BD3-4EBB-B860-BDF2DFC2B8D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2B0E-D2A3-4C1A-A292-0E717A242A1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C –Oost 20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mide van Maslow (19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Maslow 2"/>
          <p:cNvPicPr/>
          <p:nvPr/>
        </p:nvPicPr>
        <p:blipFill>
          <a:blip r:embed="rId1"/>
          <a:stretch/>
        </p:blipFill>
        <p:spPr>
          <a:xfrm>
            <a:off x="4800600" y="3124080"/>
            <a:ext cx="3886200" cy="3362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258920" y="2637000"/>
            <a:ext cx="502920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Zelfverwerkelij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Schoo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Kennis en begr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Waa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Liefde en genegen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imaire levensbehoe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ns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sen hebben meer wensen dan behoe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uit de behoefte aan afwisseling, wensen mensen verschillende manieren om basisbehoeften te bevred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ze wensen zijn onbeperkt: dat biedt marketeers veel ruimte voor creativ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vs. Wens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in een behoefte niet wordt voorzie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k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efdesverdr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erwaardigheids-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aan een wens niet kan worden voldaa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ere we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 is geen patat, dus wil ik een loempia, en als die er ook niet is, wil ik een boterham, en als die er ook niet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 flipV="1">
            <a:off x="2971440" y="4114440"/>
            <a:ext cx="2514600" cy="762120"/>
          </a:xfrm>
          <a:prstGeom prst="line">
            <a:avLst/>
          </a:prstGeom>
          <a:ln w="76320">
            <a:solidFill>
              <a:srgbClr val="a1b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ISEN VAN EEN GOEDE MARKETING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Tekstvak 2"/>
          <p:cNvSpPr/>
          <p:nvPr/>
        </p:nvSpPr>
        <p:spPr>
          <a:xfrm>
            <a:off x="1109520" y="170028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rie eis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heldere keuze heb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ositie neem je in op j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goede aansluiting hebben op de omgevingssituatie en de omgevingsontwikke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nel gaan de ontwikkelingen op in je mark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hoe flexibel moet je zij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positief worden ontvangen door de belangrijkste ste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TAKEHOLD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Tekstvak 2"/>
          <p:cNvSpPr/>
          <p:nvPr/>
        </p:nvSpPr>
        <p:spPr>
          <a:xfrm>
            <a:off x="1476360" y="2133720"/>
            <a:ext cx="7210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keholders zijn díe partijen die direct dan wel indirect de activiteiten van een organisatie kunnen beïnvloeden of er door beïnvloed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nanc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f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De 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WOT staat voor Strengths, Weaknesses, Opportunities en Threa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gewoon Nederlands: sterkten, zwakten, kansen en bedreigingen onderzoe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Picture 2" descr="SWOT analyse"/>
          <p:cNvPicPr/>
          <p:nvPr/>
        </p:nvPicPr>
        <p:blipFill>
          <a:blip r:embed="rId1"/>
          <a:stretch/>
        </p:blipFill>
        <p:spPr>
          <a:xfrm>
            <a:off x="1332000" y="1773360"/>
            <a:ext cx="69850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22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2"/>
          <p:cNvSpPr/>
          <p:nvPr/>
        </p:nvSpPr>
        <p:spPr>
          <a:xfrm>
            <a:off x="1066680" y="1523880"/>
            <a:ext cx="789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IN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direct invloed op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ster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oede prijs, niet te duur tov de concurr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oper op ICT 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productinnov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zwa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goede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gatief im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lechte klachtenaf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51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Tekstvak 2"/>
          <p:cNvSpPr/>
          <p:nvPr/>
        </p:nvSpPr>
        <p:spPr>
          <a:xfrm>
            <a:off x="1187280" y="1628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EX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geen directe invloed op; de kansen en bedreigingen voor de hele markt en bran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kans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blemen bij de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ag naar specialistische dien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economie gro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bedreigi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ografische verand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delige verandering in de wet- en regel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inig vertrouwen in de b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Tekstvak 2"/>
          <p:cNvSpPr/>
          <p:nvPr/>
        </p:nvSpPr>
        <p:spPr>
          <a:xfrm>
            <a:off x="1066680" y="1700280"/>
            <a:ext cx="7826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Je sluit de SWOT-Analyse af met een conclusi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denk je met behulp van deze gegevens een plekje in de markt te kunnen verov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kun je aan het eind van dez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7600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weet wat een PMC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marketingmix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ent de eisen van een goede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beschrij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lgend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Tekstvak 2"/>
          <p:cNvSpPr/>
          <p:nvPr/>
        </p:nvSpPr>
        <p:spPr>
          <a:xfrm>
            <a:off x="1258920" y="1893960"/>
            <a:ext cx="742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erhaling van vorig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doelgroep is een min of meer homogene klanten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wordt zo nauw mogelijk omschreven aan de hand van 5 specifieke kenmerk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al-econom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p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5410080" y="3962520"/>
            <a:ext cx="2514600" cy="1904760"/>
          </a:xfrm>
          <a:prstGeom prst="leftArrowCallout">
            <a:avLst>
              <a:gd name="adj1" fmla="val 25002"/>
              <a:gd name="adj2" fmla="val 25000"/>
              <a:gd name="adj3" fmla="val 22003"/>
              <a:gd name="adj4" fmla="val 6667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sch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ze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m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(Product-Markt-Combinatie) is een combinatie van één van je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or iedere PMC stel je een apart marketingplan 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Afbeeldingsresultaat voor kok die kookt"/>
          <p:cNvPicPr/>
          <p:nvPr/>
        </p:nvPicPr>
        <p:blipFill>
          <a:blip r:embed="rId1"/>
          <a:stretch/>
        </p:blipFill>
        <p:spPr>
          <a:xfrm>
            <a:off x="4876920" y="4149720"/>
            <a:ext cx="29937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McCarthy: de 4 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ats / Distrib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e extra P’s, z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arketingmix 4 P's"/>
          <p:cNvPicPr/>
          <p:nvPr/>
        </p:nvPicPr>
        <p:blipFill>
          <a:blip r:embed="rId1"/>
          <a:stretch/>
        </p:blipFill>
        <p:spPr>
          <a:xfrm>
            <a:off x="1042920" y="450720"/>
            <a:ext cx="7705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Tekstvak 2"/>
          <p:cNvSpPr/>
          <p:nvPr/>
        </p:nvSpPr>
        <p:spPr>
          <a:xfrm>
            <a:off x="1187280" y="1773360"/>
            <a:ext cx="71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ERSONE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 het personeel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 doen om ons product te verkrij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de klant niet 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levertijden hebben we en wanneer communiceren we dit met de kl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; Maak een Marketing Mix voor Ike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1660680" y="1778040"/>
          <a:ext cx="643068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778040"/>
                    <a:ext cx="643068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sstrategie van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w toekomst hangt af van hoe goed je de wensen en behoeften van de klant begrij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angrijkste strategische ta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m goed na te denken over wat klanten nodig hebben en wat ze wen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denk een product of dienst waar klanten graag voor willen bet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12T21:09:46Z</dcterms:modified>
  <cp:revision>39</cp:revision>
  <dc:subject/>
  <dc:title>Marketing les 1</dc:title>
</cp:coreProperties>
</file>