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4AE86-B955-4C11-94C4-C7D9051E746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17126-E637-41E8-B280-B24CC1A61CF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868AD-7F7C-4D2C-B900-8FB5820A33D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C971-2C33-4604-A2C4-590FBA375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B736-3C98-4366-A71F-D78E40C37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60BE-EB29-46C7-96BD-87890FFC6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860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584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272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087B-57CB-48B6-A05C-CAE7F93D2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4206B-044F-48DB-9518-0AFFA0CD9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EB5FB-473C-4625-BC79-C8FC9800A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5927E-C60B-4F51-825D-A2BFFB86D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55971-D29A-4979-B2C0-FC5106E41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C9846-0759-438F-BA48-79737D00D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B8792-751E-4CE9-9115-A36DA5472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96415-6CC3-4D43-AA67-95677F65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7AFB-7FF9-4381-B5D0-959BD8A47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38AAA-5413-4149-BB63-C4A8A192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68727-A964-4DE0-BC0B-C7619A90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8904E-DC45-4F7C-B782-45665427A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0C91B-3666-4869-8E8B-1AE53E674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6584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0272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15968-3F5D-4890-9AF7-58B6F509F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9215-65A8-4B93-891C-47B126F9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1F00-EF9D-454D-A22D-F3B1AB3DA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97E1-880B-42DA-A90C-94C34143B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1B0E-A257-473F-8D97-9087FCC6F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3D4B-F171-484A-A7F1-7D8D5904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427A-7FCC-4F03-8CC2-6126F290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29F6-31A5-4ADB-895B-4D5F8990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\\dgorbet\c\WINDOWS\Desktop\Sprite 10.jpg"/>
          <p:cNvPicPr/>
          <p:nvPr/>
        </p:nvPicPr>
        <p:blipFill>
          <a:blip r:embed="rId2"/>
          <a:srcRect l="0" t="0" r="416" b="1937"/>
          <a:stretch/>
        </p:blipFill>
        <p:spPr>
          <a:xfrm>
            <a:off x="0" y="0"/>
            <a:ext cx="9144000" cy="1130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8DC57-7F54-479A-AB30-A5F065770678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E4EC8-B985-45B8-8D8A-3798684D407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113040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\\dgorbet\c\WINDOWS\Desktop\Sprite 10.jpg"/>
          <p:cNvPicPr/>
          <p:nvPr/>
        </p:nvPicPr>
        <p:blipFill>
          <a:blip r:embed="rId2"/>
          <a:srcRect l="-31" t="0" r="416" b="1937"/>
          <a:stretch/>
        </p:blipFill>
        <p:spPr>
          <a:xfrm>
            <a:off x="-4680" y="2895480"/>
            <a:ext cx="9148680" cy="11304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"/>
          <p:cNvSpPr/>
          <p:nvPr/>
        </p:nvSpPr>
        <p:spPr>
          <a:xfrm>
            <a:off x="0" y="402588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2743200"/>
            <a:ext cx="9142560" cy="15228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465C0-9EF3-4662-A99F-11127762E990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8EA3F-3E22-419B-B7BF-C60FD3E23A7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91B2B-D3F0-4371-88FE-46C8479C322F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8A280-B587-47B9-8F9C-CA50FF40C75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Opfriscursus kengetall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Narrow"/>
              </a:rPr>
              <a:t>Jose Kamphui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Narrow"/>
              </a:rPr>
              <a:t>Les 1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946680" y="1203480"/>
            <a:ext cx="1575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C O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6499D-25F9-4717-A884-842F83F2D3AF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F3491-281E-40A5-9BC0-8ADC670661F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efiniti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olvabilitei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Het vermogen van het bedrijf om d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LANGE termijn schulden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te kunnen betal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Liquiditei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Het vermogen van het bedrijf om d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KORTE termijn schulden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te kunnen betal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94665-8E3E-49FD-B63D-0E076AB90DCC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A089E-6D5C-4470-84E4-EF72FD5593C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Oval 26"/>
          <p:cNvSpPr/>
          <p:nvPr/>
        </p:nvSpPr>
        <p:spPr>
          <a:xfrm>
            <a:off x="4267080" y="3733920"/>
            <a:ext cx="4876920" cy="1066680"/>
          </a:xfrm>
          <a:prstGeom prst="ellipse">
            <a:avLst/>
          </a:prstGeom>
          <a:gradFill rotWithShape="0">
            <a:gsLst>
              <a:gs pos="0">
                <a:srgbClr val="00cccc"/>
              </a:gs>
              <a:gs pos="100000">
                <a:srgbClr val="ff3300"/>
              </a:gs>
            </a:gsLst>
            <a:lin ang="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iquiditei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43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Werkkapitaa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= Vla – Kort V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urrent ratio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= Vla / Kort V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Quick ratio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-34000">
                <a:solidFill>
                  <a:srgbClr val="ffffff"/>
                </a:solidFill>
                <a:latin typeface="Arial Black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Vla – voorraa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Kort V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648320" y="1523880"/>
          <a:ext cx="4267080" cy="3684600"/>
        </p:xfrm>
        <a:graphic>
          <a:graphicData uri="http://schemas.openxmlformats.org/drawingml/2006/table">
            <a:tbl>
              <a:tblPr/>
              <a:tblGrid>
                <a:gridCol w="2209680"/>
                <a:gridCol w="205740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AL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Pass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Vaste 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Eigen verm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Lang vreemd verm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Vlottende 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Kort vreemd verm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Totaal 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Totaal pass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  <p:animClr clrSpc="rgb"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0" dur="1" fill="hold"/>
                                  <p:tgtEl>
                                    <p:spTgt spid="15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  <p:animClr clrSpc="rgb">
                                <p:cBhvr>
                                  <p:cTn id="71" dur="1" fill="hold"/>
                                  <p:tgtEl>
                                    <p:spTgt spid="15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  <p:animClr clrSpc="rgb">
                                <p:cBhvr>
                                  <p:cTn id="72" dur="1" fill="hold"/>
                                  <p:tgtEl>
                                    <p:spTgt spid="15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jdelijke aanduiding voor datum 2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B8618-1082-4F42-B8A7-FC970D27F3CB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ijdelijke aanduiding voor voettekst 3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ijdelijke aanduiding voor dianummer 4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77971-C75F-42D0-8ED8-05D850C6B4C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0" y="1295280"/>
            <a:ext cx="3809880" cy="510552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380880" y="1523880"/>
            <a:ext cx="3200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Het lezen van een jaarverslag is vaak lastig omdat dezelfde begrippen steeds een andere naam krij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ls je d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ructuu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kent, weet je in ieder geval waar je moet zoek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152280" y="1447920"/>
            <a:ext cx="152640" cy="4952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4427640" y="1523880"/>
            <a:ext cx="4335480" cy="38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Opfrissen kengetal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Balansbegri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olvabilit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iquidit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4172A-6728-4B2D-8622-706D9DF78610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4293D-C0F0-4C42-94DB-813E641FB19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deling van een balan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114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Vaste activ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Vlottende activ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iquide middel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V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olvabiliteit =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V / TV * 100%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648320" y="1523880"/>
          <a:ext cx="4267080" cy="3888000"/>
        </p:xfrm>
        <a:graphic>
          <a:graphicData uri="http://schemas.openxmlformats.org/drawingml/2006/table">
            <a:tbl>
              <a:tblPr/>
              <a:tblGrid>
                <a:gridCol w="2209680"/>
                <a:gridCol w="205740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AL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Pass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Vaste 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Eigen verm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Vreemd vermogen (la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Vlottende 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Vreemd vermogen (kor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Totaal 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Totaal pass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613E7-C252-43C7-A9F6-B42AE9BCC157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0AEC1-B4DA-40D8-A87A-FC5F65210D9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Vaste activ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mmateriële vaste activ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Goodwil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Octrooi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Kosten van onderzoek en ontwikkeling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ateriële vaste activ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Gebouw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nventaris / machines / gereedschapp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uto’s en computer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inanciële vaste activ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andelen in ‘verbonden’ onderneming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43AA6-128F-4F8B-A01C-E8603518901F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22E1F-AE6F-47F0-9198-EDCB584E7B3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Vlottende activ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Voorrad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Grondstoffen en gereed produc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Handelsvoorraa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Gewaardeerd naa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inkoopwaarde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of productiekost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Debiteuren / vordering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Liquide middel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Banktegoed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Kasgel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3D599-3F52-45CB-8AC8-DA8FB902F92D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07AC5-A76F-4013-88DE-516DAE48B0F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igen vermog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leg van de eigenaa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andelenkapitaa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aatschappelijk kapitaa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Geplaatst kapitaa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 Black"/>
              <a:buChar char="–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&gt; 20% v/h maatschappelijk kapitaal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 Black"/>
              <a:buChar char="–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Nominaal kapitaal ↔ beurswaarde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Volgestort kapitaa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serv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instreserv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gioreserv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Herwaarderingsreserv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29" name="Picture 43" descr="C:\Program Files\Microsoft Office\Clipart\corpbas\j0078725.wmf"/>
          <p:cNvPicPr/>
          <p:nvPr/>
        </p:nvPicPr>
        <p:blipFill>
          <a:blip r:embed="rId1"/>
          <a:stretch/>
        </p:blipFill>
        <p:spPr>
          <a:xfrm>
            <a:off x="6248520" y="1600200"/>
            <a:ext cx="270180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197B1-EE4E-42A8-8519-296A07B4AD7D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6B910-7C36-41FB-866A-A37B1460EC1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5" descr="C:\Program Files\Microsoft Office\Clipart\standard\stddir1\BD06961_.WMF"/>
          <p:cNvPicPr/>
          <p:nvPr/>
        </p:nvPicPr>
        <p:blipFill>
          <a:blip r:embed="rId1"/>
          <a:stretch/>
        </p:blipFill>
        <p:spPr>
          <a:xfrm>
            <a:off x="7362720" y="4724280"/>
            <a:ext cx="1781280" cy="17384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ang vreemd vermog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chtergestelde (a/g) lenin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ante Agaath’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Hypothecaire lenin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nderpan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ooptijd 15-30 jaa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Zakelijke lenin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ooptijd typisch 10 jaa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nanciële lease verplichting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6" name="Picture 4" descr="C:\Program Files\Microsoft Office\Clipart\standard\stddir1\BD06959_.WMF"/>
          <p:cNvPicPr/>
          <p:nvPr/>
        </p:nvPicPr>
        <p:blipFill>
          <a:blip r:embed="rId2"/>
          <a:stretch/>
        </p:blipFill>
        <p:spPr>
          <a:xfrm>
            <a:off x="6324480" y="2438280"/>
            <a:ext cx="155124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0A544-5FAF-48F7-871D-422E0F22B2C8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934CC-8847-42FE-8EF8-D774615E0C5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Kort vreemd vermog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ekening courant kredie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ood staan bij de ban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rediteur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Nog te betalen kost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Nog te betalen belasting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ijdelijke aanduiding voor datum 4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69B5A-02F6-4360-BB20-AB7889A2E73A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ijdelijke aanduiding voor voettekst 5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ijdelijke aanduiding voor dianummer 6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3F2F1-50A4-479E-984D-C549E394536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olvabilitei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46" name="Object 3"/>
          <p:cNvGraphicFramePr/>
          <p:nvPr/>
        </p:nvGraphicFramePr>
        <p:xfrm>
          <a:off x="228600" y="1143000"/>
          <a:ext cx="426708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43000"/>
                    <a:ext cx="426708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267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Zeer hoge waarden bij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tichting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rivé person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Goed lopend bedrijf meestal in het gele gebie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tartend bedrijf moet boven 20%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" dur="1" fill="hold"/>
                                  <p:tgtEl>
                                    <p:spTgt spid="14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bbert Oosterom</dc:creator>
  <dc:description/>
  <dc:language>en-US</dc:language>
  <cp:lastModifiedBy>José Kamphuis</cp:lastModifiedBy>
  <dcterms:modified xsi:type="dcterms:W3CDTF">2018-01-07T16:12:21Z</dcterms:modified>
  <cp:revision>14</cp:revision>
  <dc:subject/>
  <dc:title>PowerPoint-presentatie</dc:title>
</cp:coreProperties>
</file>