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8A70-7C6B-46DF-AF90-404487CF7A7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4364-BB68-4475-ABB3-D8611AF982F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4DD-6B03-45FA-8253-B6E4D4FD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BE2-9995-4384-A42D-A3BB1231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13C-B4D8-4D6A-980B-5779AA24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E75-E1BD-4EF6-9D53-BD36E28C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5C09-1D71-4384-A2A4-AFDF086A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B267-A565-4720-98A0-05AABAA5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D098-1343-4516-97A3-FD1F1AE6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EC25-B76B-4A13-95A1-1717B1E3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45C5-D773-43EE-998C-3745A546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DDB9-FCC5-4ED0-996F-808769DB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033C-CCF4-4059-BF3D-C4C34059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334-B60F-4496-9013-5C4E7ECC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FE5F-BA95-4CD7-82D6-AAC80D7F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67F5-4D09-4B35-9833-E2E1A265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1114-B8B6-49F7-997A-E3CC253D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0D4E-584A-4B31-8154-9A4EF144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C097-93CD-4D6D-962D-61A526E2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AB3-15A7-4960-949D-F2453AA4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121-CC7D-495E-BF16-697DA809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8B5-C804-458C-B913-F91E09DE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1CA-522D-4C77-B724-B7655159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CA9-E0CE-4474-98D4-17AF863F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21E-C0CB-4CE6-B505-5B11BC6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C83-23F7-452C-B631-6DBFDB8D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75D9-4509-4260-94C0-A2EA1AA4087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DAD6-E69B-4CA1-ACB0-1FC47E39574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185760" y="2408400"/>
            <a:ext cx="1424160" cy="16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de belevings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2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Tekstvak 2"/>
          <p:cNvSpPr/>
          <p:nvPr/>
        </p:nvSpPr>
        <p:spPr>
          <a:xfrm>
            <a:off x="1258920" y="1893960"/>
            <a:ext cx="742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108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681120" y="2305080"/>
            <a:ext cx="2143080" cy="1436760"/>
          </a:xfrm>
          <a:prstGeom prst="rect">
            <a:avLst/>
          </a:prstGeom>
          <a:ln w="0">
            <a:noFill/>
          </a:ln>
        </p:spPr>
      </p:pic>
      <p:sp>
        <p:nvSpPr>
          <p:cNvPr id="115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1017720" y="1309680"/>
            <a:ext cx="690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kstvak 3"/>
          <p:cNvSpPr/>
          <p:nvPr/>
        </p:nvSpPr>
        <p:spPr>
          <a:xfrm>
            <a:off x="622440" y="4349880"/>
            <a:ext cx="7953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122" name="Tekstvak 4"/>
          <p:cNvSpPr/>
          <p:nvPr/>
        </p:nvSpPr>
        <p:spPr>
          <a:xfrm>
            <a:off x="5040360" y="268128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127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kstvak 5"/>
          <p:cNvSpPr/>
          <p:nvPr/>
        </p:nvSpPr>
        <p:spPr>
          <a:xfrm>
            <a:off x="1336680" y="4842000"/>
            <a:ext cx="32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 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20T06:16:04Z</dcterms:modified>
  <cp:revision>28</cp:revision>
  <dc:subject/>
  <dc:title>Marketing les 1</dc:title>
</cp:coreProperties>
</file>