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B73D-323D-4295-874C-4A282D73453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BCD5-FE99-4EB1-9349-4F236A42EA7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5DE6-925D-40BF-9D58-5932BC1894B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7CE-2577-4CB7-B0C5-1D81D740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198-C764-41F8-B236-BAF2AB1D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20D-7292-48F1-BC1B-20BF314F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9593-CB38-4D7A-B903-A5D3D5AE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6CB1-AE31-482E-8BC6-DAF2497B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770C-52C0-4590-8AB7-82C8990B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9984-B24D-4484-947B-C1C0BD54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C87C-C3F3-4D33-B806-988F36B3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B62B-2A0B-47EC-9BF8-520C335E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F576-E1D1-40C2-8D6D-B4B0B9F6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3CD0-61CB-4E99-9939-326673B0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2CE-B4CB-4FB2-9D4A-AEC40C02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1B13-712C-47CD-822E-B4184624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783B-716A-448B-850D-3354A877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4E52-793A-4E27-B008-81E5B40F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4412-4727-42D8-BC5F-FB225314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8405-00FE-4655-BCBC-FFAF7193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45B-ED7D-4E02-81CE-6E351EF6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353-CA98-44F6-A7AC-6345CFBB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3C0-0C2B-4D25-9D77-47B24FCE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3BB-EEEE-412B-9DA1-3B8A3A95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660-0FC2-4363-97D8-D32B7DA6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2018-62AB-4543-A74A-60605CD9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3953-EC5F-433F-8A32-3EB0109B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2FA0-7484-4188-96ED-502698E3525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DE6D-F68E-443D-91A3-F868974471D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3B28-4AE4-4C9A-A562-8B40BE818AF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3F15-1FFD-4610-9401-D08F9EFFB46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nurijk.nl/geld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ons-vernooij.nl/bm-site/rr-model-F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728E-F4D4-4F4B-A3C6-52C2BCFF99E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F749-0F58-4D4B-BCD8-A12D6F23401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32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5A22-1FC0-4949-B2B5-2A49E485532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4C30-F114-4B88-AA18-945432A57DE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pbouw van 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228600" y="1447920"/>
          <a:ext cx="86868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86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Line 4"/>
          <p:cNvSpPr/>
          <p:nvPr/>
        </p:nvSpPr>
        <p:spPr>
          <a:xfrm flipV="1">
            <a:off x="1752480" y="990720"/>
            <a:ext cx="3886200" cy="4114800"/>
          </a:xfrm>
          <a:prstGeom prst="line">
            <a:avLst/>
          </a:prstGeom>
          <a:ln cap="sq"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1447560" y="3276720"/>
            <a:ext cx="996120" cy="1066680"/>
            <a:chOff x="1447560" y="3276720"/>
            <a:chExt cx="996120" cy="1066680"/>
          </a:xfrm>
        </p:grpSpPr>
        <p:sp>
          <p:nvSpPr>
            <p:cNvPr id="159" name="Line 5"/>
            <p:cNvSpPr/>
            <p:nvPr/>
          </p:nvSpPr>
          <p:spPr>
            <a:xfrm>
              <a:off x="2438280" y="3276720"/>
              <a:ext cx="0" cy="1066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1447560" y="365760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rl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10"/>
          <p:cNvGrpSpPr/>
          <p:nvPr/>
        </p:nvGrpSpPr>
        <p:grpSpPr>
          <a:xfrm>
            <a:off x="5334120" y="1295280"/>
            <a:ext cx="843120" cy="914400"/>
            <a:chOff x="5334120" y="1295280"/>
            <a:chExt cx="843120" cy="914400"/>
          </a:xfrm>
        </p:grpSpPr>
        <p:sp>
          <p:nvSpPr>
            <p:cNvPr id="162" name="Line 8"/>
            <p:cNvSpPr/>
            <p:nvPr/>
          </p:nvSpPr>
          <p:spPr>
            <a:xfrm flipV="1">
              <a:off x="5334120" y="129528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5335200" y="15238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n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2173-3BAD-4354-9A4D-279CE2C8997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F1CE-33AD-42CC-8C64-7F0FA26B4E1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46240" y="148284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9B23-7E82-4B25-AAAC-EA708E1539D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C840-475C-4D74-BB05-70672BF1E88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msten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Netto inko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 Box 39"/>
          <p:cNvSpPr/>
          <p:nvPr/>
        </p:nvSpPr>
        <p:spPr>
          <a:xfrm>
            <a:off x="3562920" y="429264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Privé onttrekk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8"/>
          <p:cNvSpPr/>
          <p:nvPr/>
        </p:nvSpPr>
        <p:spPr>
          <a:xfrm>
            <a:off x="5076720" y="4653000"/>
            <a:ext cx="2087640" cy="136836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B393-2EF9-4FD5-8635-79E65F7B974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44D8-E932-4780-B660-D5BF39609FE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e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F158-6611-42F5-8AC4-4388D45EECD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8608-0768-4297-88B8-62B3B013200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ebben geen enkele fiscale waar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 loon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willekeurig bedrag dat ongeveer aangeeft hoeveel de ondernemer zou verdienen als hij in loondienst w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e ren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inschatting van de rente die de ondernemer misloopt omdat zijn eigen vermogen niet op de bank sta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DA18-732F-44D1-8B1F-7AEDE22B808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A45F-A0A8-434F-8EE7-90416005A7E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ut van 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Fiscale winst -/- gewaardeerde kosten = een getal dat vergelijkbaar is met de nettowinst van een BV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aken het mogelijk de rentabiliteit uit te rekene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Geven een reëel zakelijk beeld van het resultaat van de eenmanszaak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gelijk de inkomsten uit het bedrijf met het loon dat je in loondienst zou verdienen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reken ook de softe opbrengsten !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Vrijheid, zelfstandigheid, trots bezit, werkplezier</a:t>
            </a: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1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480A-07AA-4356-BC33-FA8D221BC38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FE21-8F42-456A-892B-D75704DB906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8" descr="http://www.shopbetreiber-blog.de/wp-content/uploads/2007/08/geld.jpg"/>
          <p:cNvPicPr/>
          <p:nvPr/>
        </p:nvPicPr>
        <p:blipFill>
          <a:blip r:embed="rId1"/>
          <a:stretch/>
        </p:blipFill>
        <p:spPr>
          <a:xfrm>
            <a:off x="6781680" y="5486400"/>
            <a:ext cx="1597320" cy="1200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http://www.zodiakbv.nl/images/winkel-f.jpg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943600" y="2511360"/>
            <a:ext cx="3200400" cy="1657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http://www.nurijk.nl/geld.jpg">
            <a:hlinkClick r:id="rId3"/>
          </p:cNvPr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2590920" y="2514600"/>
            <a:ext cx="2133360" cy="1670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41911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t € 1000,- op een sp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krijg je er € 60,- bij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e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00600" y="281916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vesteer € 1000,- in een bedrijf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heb je € 60,- me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abiliteit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80880" y="1523880"/>
            <a:ext cx="8305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vergelijkbaar met rente op een spaarre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9" descr="http://www.shopbetreiber-blog.de/wp-content/uploads/2007/08/geld.jpg"/>
          <p:cNvPicPr/>
          <p:nvPr/>
        </p:nvPicPr>
        <p:blipFill>
          <a:blip r:embed="rId5"/>
          <a:stretch/>
        </p:blipFill>
        <p:spPr>
          <a:xfrm>
            <a:off x="2286000" y="5486400"/>
            <a:ext cx="1596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9CBB-55A5-4F17-A669-6E2DDBB231A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7E70-A459-48AE-BAE8-EB9E4ED71FE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V en R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Eigen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geld van de eigenaar hem opgelever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Totaal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bedrijf opgelever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D77C-7BF5-4C18-A774-A795B05C3EE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87AA-49B7-4323-A322-F5BF8D70B51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bereken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balans haal je het gemiddelde geïnvesteerde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mogen van begin- en eindbalans middelen (zonder de winstreserve van het betreffende boekjaar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W&amp;V-rekening haal je de wins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674F-73D1-4BD3-BA1D-352B6A7607E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54D9-FC84-4964-8E0C-29FAF240955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04920" y="2133720"/>
          <a:ext cx="6400800" cy="1195200"/>
        </p:xfrm>
        <a:graphic>
          <a:graphicData uri="http://schemas.openxmlformats.org/drawingml/2006/table">
            <a:tbl>
              <a:tblPr/>
              <a:tblGrid>
                <a:gridCol w="1828800"/>
                <a:gridCol w="2666880"/>
                <a:gridCol w="19051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286000" y="4038480"/>
          <a:ext cx="6400800" cy="1195560"/>
        </p:xfrm>
        <a:graphic>
          <a:graphicData uri="http://schemas.openxmlformats.org/drawingml/2006/table">
            <a:tbl>
              <a:tblPr/>
              <a:tblGrid>
                <a:gridCol w="1523880"/>
                <a:gridCol w="3200400"/>
                <a:gridCol w="16765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9" name="AutoShape 163"/>
          <p:cNvSpPr/>
          <p:nvPr/>
        </p:nvSpPr>
        <p:spPr>
          <a:xfrm>
            <a:off x="5791320" y="838080"/>
            <a:ext cx="2895480" cy="1295640"/>
          </a:xfrm>
          <a:prstGeom prst="cloudCallout">
            <a:avLst>
              <a:gd name="adj1" fmla="val -77523"/>
              <a:gd name="adj2" fmla="val 4460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etto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C857-DCA2-444D-BAF1-DAE1978A29F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1B9E-92F7-4433-B219-D32583DA3CD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ultaatre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Verschillen BV en eenmansza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93F6-0073-4A34-AFE3-65D037BD5A5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7A31-02B8-43D5-988E-940ABBF2682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04920" y="2133720"/>
          <a:ext cx="7543800" cy="1195200"/>
        </p:xfrm>
        <a:graphic>
          <a:graphicData uri="http://schemas.openxmlformats.org/drawingml/2006/table">
            <a:tbl>
              <a:tblPr/>
              <a:tblGrid>
                <a:gridCol w="1555560"/>
                <a:gridCol w="4432320"/>
                <a:gridCol w="1555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838080" y="4038480"/>
          <a:ext cx="8153640" cy="1195560"/>
        </p:xfrm>
        <a:graphic>
          <a:graphicData uri="http://schemas.openxmlformats.org/drawingml/2006/table">
            <a:tbl>
              <a:tblPr/>
              <a:tblGrid>
                <a:gridCol w="1552680"/>
                <a:gridCol w="5153040"/>
                <a:gridCol w="1447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6" name="AutoShape 43"/>
          <p:cNvSpPr/>
          <p:nvPr/>
        </p:nvSpPr>
        <p:spPr>
          <a:xfrm>
            <a:off x="4952880" y="838080"/>
            <a:ext cx="2895840" cy="1295640"/>
          </a:xfrm>
          <a:prstGeom prst="cloudCallout">
            <a:avLst>
              <a:gd name="adj1" fmla="val -71490"/>
              <a:gd name="adj2" fmla="val 47305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Fiscale 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94BF-0CFB-49F3-A76B-A1453C33722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E4A2-B993-486F-B890-F2B88557532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J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sultaatrekening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hetzelfde als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Ba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per begin en einde boek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Kasstroomoverzich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is hetzelfde als cashflow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EA2A-1549-4BCF-9E68-FFAD3D52B5E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936A-5465-4AFF-8DDF-4590055148E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Winst-en-verlies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4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Resultaten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Exploitatie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Overzicht va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opbrengsten</a:t>
            </a: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 e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90680" y="460548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Begin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26800" y="51814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Eind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132000" y="4941720"/>
            <a:ext cx="3024360" cy="43200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418200" y="450864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+ opbreng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3879000" y="522936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-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132000" y="4149720"/>
            <a:ext cx="2880000" cy="1728720"/>
          </a:xfrm>
          <a:prstGeom prst="ellipse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5724360" y="414972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Result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353E-868C-4C59-BF9C-59349D9C145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FA90-1200-45AB-A2FA-BC6897525C4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odellen voor de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 het burgerlijk wetboek staan 6 modellen die verschillen qua indeling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ffelvorm (verticaal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ntrovorm (balansvorm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Model 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het meest gebruikelij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nctionele ordening va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ie www.bedrijfseconomische-modellen.n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25E4-1ABC-41B3-9694-A05BB3D32CA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A68F-778F-4054-9BBA-D17965206AC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erschillende weergav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nager stuurt het bedrijf bij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et snel beschikbaar zij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x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antwoording naar bui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blemen verdoeze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beelden in schoolboek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simpe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zichten van journali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zeer comp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553080" y="1828800"/>
            <a:ext cx="2438640" cy="1676520"/>
          </a:xfrm>
          <a:prstGeom prst="cloudCallout">
            <a:avLst>
              <a:gd name="adj1" fmla="val -55925"/>
              <a:gd name="adj2" fmla="val 6117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rgon vaak door elkaar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B7BD-785C-4C44-8B39-B5239C70150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86A1-0A84-48BD-A8E2-FC97817EBCB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8600" y="144792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520"/>
                <a:gridCol w="358128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Opbreng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316D-C812-4CE1-9111-616FF6B358F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4474-F0B6-4E73-B0AB-8F21C17C417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vallen alle kosten die evenredig met de verkoop samenhan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je aan de leverancier had betaa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rondstoffen en hulpstoff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gehuurd persone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ok wel genoemd: Kostprijs van de omze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C890-937B-4F73-ACB1-E39DB04569E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F100-C10B-4908-AAA2-C2E15B749F3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edrijfskosten bestaan uit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oon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eenmanszaak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exclusief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het loon van de ondernemer!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ige kosten die min of meer onafhankelijk zijn van de omz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grote omzetstijging kunnen deze kosten soms meestij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ariabel gebudgetteerde reclam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groting van de bedrijfsh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kos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1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3:42Z</dcterms:modified>
  <cp:revision>20</cp:revision>
  <dc:subject/>
  <dc:title>PowerPoint-presentatie</dc:title>
</cp:coreProperties>
</file>