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A951-E33D-426E-97AD-5F8A22E8E6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D863-DC47-4B4A-BF23-8130B73D64D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1A4-D3F8-45C3-B095-5F21C278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544-8629-4095-9CDE-892845AB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9D5-9993-419E-BAA4-B599B350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C18-F74D-476F-A273-846A709A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5B9F-20C9-462D-8A24-2DE23FEB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544C-4B36-49C3-9339-52A79DFA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28F3-A410-48B5-A6E3-42C5FC95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F963-ECB3-4BBB-8882-B87BDBEF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3C24-70C4-4D22-BE2D-BD26E07F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C446-16DD-4D4B-BF92-FB2967FA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DAA4-EA22-4B1E-9726-50A9F05E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50A-4D60-43E5-87AF-E280A119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1C57-01EF-4498-AD3E-415C1E81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9630-63D1-41AE-B0F3-28709588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6E97-5429-4744-B52D-3155C31B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92AC-9537-471D-8B08-42277932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6AC1-029C-4604-B872-62338032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2A2EB-7E87-49EE-A3A5-1E60D59F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B987-DEF3-449C-92CF-37EBEE85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5DF21-324A-4D17-8770-256B21BA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EA960-7E2C-4574-820F-C5EB79EB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626D3-323E-46C3-B850-B6C69327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A72-BD4E-4E27-8B13-ECA57831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BEE72-5A89-44CE-A898-2B30C26B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FC687-E8CB-4B37-B4C0-F1E52778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288B8-57CF-4721-AEB7-6B96FD3B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8FAE9-9FF1-4F2D-A712-61AE9E96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68D1-2341-4F4E-9E19-9A522FB8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FEA65-A5A1-4509-A507-1AE2D667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04D77-C7CF-4203-A406-372DB430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F2D0C-BE20-4A3C-8BAA-1E34B1C2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4C0C6-D0FC-4C45-8A5D-96B11A94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63B1F-38B2-423C-A652-C88D56B8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400-99B6-4E29-87AA-D42DE6A7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AEA3F-3136-46C8-99AD-56EC415D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49D70-9050-4311-AE00-8E3C1B34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D2100-5B6A-4CC6-96C9-26FB09D2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572F-5FE2-4971-8B78-EA85DF4E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62CB2-BFAD-49D6-89FB-80D6B658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67BF7-CBEC-485F-AC42-177E7834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92F22-9D0E-4A0C-91F1-A5052DC1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D6A0F-9CE0-402E-AD0A-9DE5F3B5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F2942-7CBC-44BD-B7AD-82D37CF9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90271-8428-4BE0-B695-BF62EFB2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F2A-2C71-4CD1-B719-7EC2AB18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61041-83E4-4E90-B8D3-B6FAF022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2E7B6-73A8-4342-A524-5473CFAF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12144-6ECE-4E9E-A791-465DC095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4974B-A180-4369-8865-A2302964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0E759-F927-454C-B896-6A922E7E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99F9D-3338-456C-95E6-762076DC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3E520-0FA9-4B52-8818-07A86C21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4C04F-071E-40E7-B5BB-9BDE46E8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C1F70-67AD-4FC0-8B30-1AA5B8EC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7CCBA-3C30-4B27-AEE9-64B73664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0E7-BAF2-4809-92FF-BC8A8BDB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48F33-19A2-4AFC-A4AA-A4CFF917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D51EC-16A5-4065-871F-3D7F9A0D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72329-6C56-4720-BB50-A4DA9D21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19671-B416-4DAC-B71B-5C780307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D91AA-AD55-40E7-8E82-9C392B17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C392B-F77A-466C-80FD-CE10FC51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775A3-9020-46BC-9A0A-84517363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F1A91-39BA-46D6-9DBA-258A79DA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4019E-B91B-4353-BA82-373D2D4E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A7BB9-64D3-4414-AA5D-036E86E4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3C2-7737-46FD-A2C9-8C8D7048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23719-7BF0-4A41-960E-D1915A9D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FA578-2AA6-4420-B543-5C7B5B25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12D89-9425-4E8D-BE23-1103A9CA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137CF-06A1-463F-A41F-61C8BFA2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FB55E-F543-46FD-813B-3C5C2FFC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6E6AB-C3BA-4704-A8DE-D3DD0FA4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C07E1-A892-437C-BBEE-1CB05273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3388A-6601-40E4-9253-C78B2890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8CBE0-6AAD-4D14-B927-AADB1901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1A446-7246-47C2-BCA3-9DEF2CD5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CCE-4C3C-4EDB-98AE-3C5444B6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717BD-B6F5-4570-AD9D-03BD6F0A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4F8BE-F512-4ED3-927B-E11623DD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2D442-C779-40B6-B4E5-68335F2F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7A71B-26EC-407C-8FB4-B82F2652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6259D-6D2F-4881-A3F6-72C4C96B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945-A187-4E11-80BD-6432962F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D70B-36F9-46B7-BEDE-9E2F0AC94D88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4855-C6C8-4839-9E7E-DB79195F5AC1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97C0-AD44-4A4D-AF3B-36E846B7002D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5B63-F6E9-4C13-B30F-FE0D87B89DEB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7F65-EDB4-4B2C-ABC0-BB085CC1242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61B2-4CD0-4C7E-B12F-E03F5A7ED22D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2525-E81F-4B41-A13E-B1057687C982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Ruggen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eest onderste deel van het centraal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tvangt en verwerkt sensorische informati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ui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ri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ieren van de ledem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rst, rug, buik.   (tors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uurt bewegingen van ledematen en torso aa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lengde 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igt direct boven het ruggenmer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vat verschillende cent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vitale autonome functi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weefsel waaruit zenuwstelsel is samengestel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4360" y="134136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zorgen de neuron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Zijn in staat zich te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vullen 7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ndersteunen hersenweef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schermen axonen en verbeteren elektrische geleid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ruimen afval na neuronale verwonding of celdood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ufferen concentratie kaliumionen in extracellulaire ruimtes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jzen weg aan migrerende zenuwcellen en geven richting groei axonen aa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lpen bloed-hersenbarrière in stand te houd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zien zenuwcellen van voedings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18-01-19T13:31:43Z</dcterms:modified>
  <cp:revision>26</cp:revision>
  <dc:subject/>
  <dc:title>De werking van het zenuwstelsel.</dc:title>
</cp:coreProperties>
</file>