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3ADF-AF14-44EE-B5B7-982DF8D51F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D4A6-A932-4CFA-BCCD-028ACED153B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FEBC-111D-48E2-BE2D-03BA4C33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165-BB5F-4B9E-A0B4-CA883F57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3F3-A7CE-4EFF-807F-15891311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2A6-B4D5-4998-AFFC-5530174C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6B9C-DC2E-4B45-AF2D-D6C9FE6D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7DE5-00ED-4CC6-8153-DDDB89D2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7E77-B12A-4E58-9F93-0D6EC76A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DC29-FF90-4DDD-8CC2-AD905218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63B0-B115-4646-84A6-1D0D3555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1C7D-8C47-4438-94C0-4F1D73A1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E43F-34C9-405B-9DCD-5FC93E7F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295-44B3-4051-AD31-C2A69C73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12C0-2D6A-431E-B837-8316E055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C70E-8CD9-45A1-9D21-CFB4EB00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D394-1B1B-40FF-BD44-51384B31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0B2D-D33E-4A94-B635-F3620F09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66EF-B2FF-4723-80FE-1D2FA6A6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2CC2-C47E-4505-9248-7BB9EAA4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04C02-0B5B-4162-8ABF-4745447C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6C1D7-D91B-4FBE-BEFF-D6599C2A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E89D0-A0B3-4B36-AED6-C6FCB6F7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EF5B-FFC2-4491-977C-8868EFB2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19C-207C-4B50-9D9C-8627CE7F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7D6D6-4B88-457B-BC27-6239D4DB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A0436-77AC-431E-9121-B6308993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8A26-3D0D-4B81-B9C3-759D19D4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00D54-CB65-4D35-A7CC-8BDA014B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D22C-5DD4-4FDB-B078-F308493D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AB5EB-B957-4881-9B54-F200B82B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4F4DB-8351-4A87-873A-6C345B93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3F8F3-28D7-4B89-8C18-916DE61F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7B837-2CF0-4397-8E92-FEA958CC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95826-5FA9-44B0-8ABA-4DBC59BE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064-7518-48D0-97EF-EF4C39CC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38948-DD73-4DED-A829-2B7ED5DD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093AB-0B0F-43D6-AD8E-208F0D34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D2B1E-99D6-4756-9759-93D16551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76179-7577-447C-96AF-7D826831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7BD78-195A-46AE-8974-D221C0AC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9A263-7625-4942-A08C-BF4781B0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EED7-71C2-4EB1-8226-D475048A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50F6D-4077-451D-AB3D-B8C214A1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C57AB-8229-432B-8096-D9FE55F2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ED9E9-9050-4490-90F4-3085C611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799-654A-4AF0-99C2-6A9BBD2E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F19D6-03B5-4056-B0B7-CF54D905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565D1-9559-447A-B9B4-CE8E2DF0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D8C22-0216-4A51-8891-5C75A235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2A19A-BF29-4B3F-9315-BD898C01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056CF-7723-4075-ACC7-6795DF52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D8E0D-B1C4-46AE-B2A8-F0B1DC9E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F5E1E-F999-4EA2-B77E-4BE345FA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7CB82-F3A6-4D13-A93F-2E2D4331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44514-E3B6-461F-ABBD-D8BC384B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DBCFD-6857-443F-8F4F-1EDDFDD6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B80-4325-4CD9-9CF2-8FB38DCE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B6F9F-5121-4700-AEA5-D8450AC8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FE317-E8B8-478D-B767-6DDFDC18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C8E0A-6C13-4062-B9C8-FF1950AF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0E3E2-46A4-4AE5-9E02-2BDCF670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13EF0-CF75-49F2-BA66-473C00D1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087ED-B78E-4AE0-A9D0-665F2955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FD2E4-3508-4B1A-BB4A-03E85984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DB518-BBC7-4055-ADCC-22EFA4C7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68C56-E333-41CE-A79A-13FD46D0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26890-7DE9-4159-A481-B3225AB4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9F2-CDC7-4D13-96AB-6B4001E1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09AC1-0B6F-4663-8DF6-A9D84345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CBDE1-91AB-4784-879D-34E7074C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6566F-9FFD-4D58-BD05-72AB6805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1C17F-4D10-4169-AA99-41120F12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8E04D-88DC-473F-9BD4-91F11234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38CCD-DD6F-457F-8B9F-2BD8A4C5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8CA51-FA94-4C57-A1CE-16AAFA73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2C07A-519E-4D64-9D8D-42E90135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52425-7CBC-45AD-9465-F1FF17D8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D8C28-BFC2-42EF-BBAF-8755661D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F68-6DD5-4321-BA0F-5299C8B9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FE37F-248B-4B5E-9BE8-B7E8A060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33DD6-F3DC-4516-8353-6BBB0E06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81A33-59CD-4296-90A5-F9C5CC01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EDF33-FAD9-47EE-88A6-7E06F9D1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2D1CD-4013-4C6B-AD2E-C95547DD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5758-BF9D-4D58-9009-3B5707C4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6E37-FA7B-4142-9BDE-5A4765778E06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0458-3D1A-41E0-8A72-E613F3B9128D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51E7-8437-4CAA-ABBF-6B9CF9431640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9D7B-C79D-4C9B-8CB7-2621AA62E7EC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9FF8-8D44-412A-9A7B-980FF2955382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4087-3802-400A-B53C-9494EB54BB99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A6BE-7DE7-4861-8597-DB1988F401D3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Ruggen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eest onderste deel van het centraal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tvangt en verwerkt sensorische informati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ui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ri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ieren van de ledem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rst, rug, buik.   (tors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uurt bewegingen van ledematen en torso aa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lengde 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igt direct boven het ruggenmer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vat verschillende cent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vitale autonome functi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weefsel waaruit zenuwstelsel is samengestel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4360" y="134136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zorgen de neuron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Zijn in staat zich te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vullen 7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ndersteunen hersenweef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schermen axonen en verbeteren elektrische geleid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ruimen afval na neuronale verwonding of celdood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ufferen concentratie kaliumionen in extracellulaire ruimtes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jzen weg aan migrerende zenuwcellen en geven richting groei axonen aa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lpen bloed-hersenbarrière in stand te houd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zien zenuwcellen van voedings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18-01-19T13:31:43Z</dcterms:modified>
  <cp:revision>26</cp:revision>
  <dc:subject/>
  <dc:title>De werking van het zenuwstelsel.</dc:title>
</cp:coreProperties>
</file>