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7C91-5093-4AD3-B860-11872C83C7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8F46-4A83-4E8C-A6B3-D53668132FB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60A-9482-4E6C-8CC1-8E48B1DF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AFA-5A13-40DE-8E04-609626E5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FD8-E106-42F9-B519-4D4DBD5E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0B5-F034-491D-9210-ABBDC72B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E415-894A-4E2F-912C-7DEE6860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F528-AE23-493F-AC03-E55DCDE3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7C2D-8E09-47CC-BC61-C566317F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A403-99EE-4351-BB43-79694F5A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2B9B-C8FF-422F-8411-5D50A54B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5B2D-4000-4125-8A64-D4F812BD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0FAB-1FED-4004-BB9D-BDFB66C6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0EB-8F74-4B63-BC11-01C88841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2E83-B3E4-46C2-A6CC-3C59E5D4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A15E-02FD-4187-8AFD-1602BADA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B6DD-3F34-4A37-B94B-038D5302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7343-617B-424A-B4A5-C3FFB381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F673-E852-4B94-B56A-F09BF52A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FA136-07B1-4861-80C7-5DD0A595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3A426-4BE2-46BB-8DB4-7AFE1C96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DA2F1-CCD7-406E-B2AD-5E89FB3F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004BF-C9D2-4DE4-BAAB-F350F922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A33F7-F9C8-4940-9942-9AA1F373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E08-1C57-4493-9016-15C4930C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427FA-00BC-490E-90A7-A70A8707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EFBF1-00D5-409A-8189-BC9F0290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94EAF-E05D-4E44-A8E1-88E5B418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3CBE-9C6D-4D03-AD86-A23779CE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26397-B2F9-4AA2-9738-CADA281F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026BD-2263-46F3-B3F5-E0FDEBEB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9CC7A-EF24-4D9E-B0AC-16675A4B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3FDB1-4AEA-405A-8AF9-67177627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B9294-FF64-496E-B4E3-C620A670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8ECA8-E60E-4719-A163-DC7CE8F5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0AC-9615-45D3-9A22-F7EFDD2C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77B21-6943-4EF3-BE2C-B29A8D18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B093A-A7EE-4B0B-8C99-AACDF94A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FDE1F-4197-4EAE-AEF5-1F227896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2AB3E-0E86-46C2-99B8-920ADF1D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F2A0A-EB1F-4235-AD87-B7CFAFC4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FAB03-0D7F-4958-AB13-9B9BD6B1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BABD6-043D-42AE-B7A6-028A3E44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F5C3E-B9DC-4B83-8855-7CB8DC9E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6F2D5-9A38-4CBE-AC1C-B99740B9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51DD5-76B9-4249-8547-1F5B1ED5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B31-C7FD-4F06-9411-B4C9666D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F2EA3-C76A-47CF-842A-6C0D7E84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D57F5-E91C-482A-BCF3-802363FE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60156-AD44-47E3-AD81-FCAC7F83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41241-1EB2-4F3A-A702-117A5412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235ED-F0CD-4229-8810-32460AED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5178B-D7E6-4E7F-BEB7-FCAC3DF2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94A64-D4EA-460E-93F5-A792FCE3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8821B-8CE8-4BD5-993A-21D8B8F9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1918B-F25A-4A32-AC01-6036A8FF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5DCEC-023C-4448-B66F-DBC6AC7E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F81-DAC2-4830-9E57-B4354D96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CF323-EDF9-4A78-B71F-D72D3EA5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27A33-A835-4742-A7BD-B38C7877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58B59-EC11-4C5F-AADB-94168D9B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E25D8-6066-4D40-B8E2-BE0A0CF7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BA2CD-0681-48E2-8DF6-42F72C84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3AD0A-E2D3-425A-8E3D-D4DB15B7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9F2C8-5C1C-4320-B103-F680879F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776B9-9E82-45D2-8766-A49FD94C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8F6CB-AAF6-4BA4-AA93-3CE5430E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281A5-5137-48F0-AEEF-9DB4004D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136-EE16-4C57-A8B5-E4F814B0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8AC96-B158-4E35-BC20-620A68AA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A23B2-3FE6-4B90-8E2D-C2DA0411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4EE8F-AA59-4471-90D4-DE1BCEA2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F6556-D6CA-48E6-A82F-A6228219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A42E8-8AE0-45F9-8D55-45B8DAFA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EA279-8ED8-42F4-BF1D-2B6199F1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2533B-0772-4C60-BB1D-A508C92D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FF6D3-4736-4AC5-8CF6-A673F705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52AB6-6B11-49E4-9747-F4D5517A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906E6-18EA-4A6F-B6F4-5CFA3C7F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27F-8629-4A82-B763-5EBDB887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C7750-6424-4E8E-91CC-A2885877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70F27-328E-4991-8924-FD430D93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AA686-301E-4722-9364-D2B6DA6A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0EDC2-DCD4-46BE-AA1F-81B0F6F5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CD0C8-89CB-40E0-B27E-240C75D7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0ED-BB5E-4601-8419-51585AE6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0923-DF4C-4E08-BD60-9DA3DB334E20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E199-5346-458C-A5BB-4C96EB33BFBC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609C-191A-4AD0-A6E9-21907DA0E862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179A-1E61-479D-850D-5848E347D95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E8DF-0EBB-4C7D-A00B-2AEFFA3637EC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414E-697A-458C-9CA3-AEF41492E7EF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3AEE-F7B4-4E5E-BF95-D3834130358F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Ruggen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eest onderste deel van het centraal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tvangt en verwerkt sensorische informati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ui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ri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ieren van de ledem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rst, rug, buik.   (tors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uurt bewegingen van ledematen en torso aa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lengde 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igt direct boven het ruggenmer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vat verschillende cent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vitale autonome functi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weefsel waaruit zenuwstelsel is samengestel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4360" y="134136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zorgen de neuron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Zijn in staat zich te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vullen 7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ndersteunen hersenweef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schermen axonen en verbeteren elektrische geleid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ruimen afval na neuronale verwonding of celdood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ufferen concentratie kaliumionen in extracellulaire ruimtes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jzen weg aan migrerende zenuwcellen en geven richting groei axonen aa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lpen bloed-hersenbarrière in stand te houd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zien zenuwcellen van voedings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18-01-19T13:31:43Z</dcterms:modified>
  <cp:revision>26</cp:revision>
  <dc:subject/>
  <dc:title>De werking van het zenuwstelsel.</dc:title>
</cp:coreProperties>
</file>