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7E65-9DEA-46A9-A506-2D229F10F2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E219-B343-48CC-A6A1-95E059CD798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35E-2BA3-42EB-9449-DF5B77B3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0DE-91B3-4B92-9B2B-AA362E1B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7D6-F6B9-4FB9-A6F1-B4A72D13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E4B-AD45-4422-B3E9-8CF7A109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0C9B-0D8C-4085-BF74-112401C8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5981-6F6A-496B-8651-8275D8D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451C-AEF5-44AE-AA67-C4B21AFD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B2C0-8BFC-49FF-AADA-487F1FDF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6AA0-4315-4A14-B4E7-FAEA5345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0AE0-6B89-4D4E-9FCA-03BCC574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C8B7-68F8-4AAA-A445-3C6C1C67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A06-8412-41CD-BBC9-AAA051A1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222F-989B-4123-95CD-228F036F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DA0A-7C62-4143-B3EB-5A42F84F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0EA9-6230-48B9-A553-C89DCD07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D371-63D8-4280-92AC-217A72D9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EF4C-334A-4506-9500-C0CB2E5D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82A9-C5B9-4930-9A56-D2C91BD5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B23E-9D6D-453D-AF53-09877219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AB11-2AA1-4343-92F4-45E362D7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7365-1D79-4F7A-9609-CE4BFC59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129A-D424-4877-981A-0D496996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FD7-8888-40B0-9420-464A6AC5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4963-8904-4C0F-9664-D7049E89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C923-9570-4402-9A5F-B68E67F0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FBC2-1045-4D8D-93A5-38897B7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0869-722F-43BA-9EB8-2F3923C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D53D-BBD4-4685-B66B-2ED6F9CA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71BA-474A-477C-9C8D-F92F73D8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3D55-B648-490E-8A3B-DC9E4059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19F5-DFBF-413B-8E8C-46F209E5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6BC40-796F-42F5-A612-1C49B024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FB89E-BEB3-4139-AC9F-4D1F8C3C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0C2-D13A-46C6-A848-2FB85375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AA22-F7BE-4C4E-9CDA-0E0A1023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92A2-EB40-4630-8206-8EA48C58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7769-69BA-44EB-A317-3758E3A2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D272-C316-44BF-B440-7AA1F7B8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DF15E-043C-4B4D-BB27-2DB0E1B1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B3976-AAC3-48B0-BC7D-573EBC93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ACEC2-F305-48EB-84D8-273E8DF2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539D-6ABF-4E4B-8A4C-EBF98F17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E962-25D3-4C77-889A-38FAD385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6765A-3E12-47A4-86FA-79A0B2D0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768-EDBE-4858-9CC6-ACD780E1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A3EDA-3CD0-4CED-B98F-6511E40E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2C14-FD26-4333-9528-21FA264F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AB6F2-8A7B-4A7E-8E8A-8101B549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51BFA-9D03-4D81-B816-CAA2705F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6C8C1-EF93-45B7-9994-35E6CFD1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EE480-E3E6-48FA-A403-42ADEBDF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D256-4D6A-4517-BB54-545791C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4DD50-AE81-49B9-879B-B5ECE5D0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C20B-A126-4B4A-BD37-3C82DAFE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60805-794A-4E73-B1BE-DDEA71C1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FB2-619E-4118-B246-1B2115A8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D3A5B-CBE4-44EB-8B9D-0AE594DE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5A92-7D46-4070-8E30-C64B7858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4B275-4228-4350-84D7-66D3474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F1CE9-362B-4E44-8653-8B439480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26AE8-C429-4C4E-A54C-D515C737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24667-B77D-4D18-AF2C-60B4F1EB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3172-1B9C-4047-AB0C-F7C86C99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286EB-2109-4D1E-A800-B7385B3A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0EDFC-3E85-41DA-B809-74F76999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4FB10-7798-416B-97B8-BAE9314F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6EA-14D2-43ED-909D-B9C7D6CA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0B031-6E0F-462B-98B9-95B008AB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0614A-300F-4B98-9635-0D7E9F7B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5FC17-EE54-4012-9216-3E14390A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9FB98-5A81-4AB4-BCEF-A81BCEB0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1587-16A6-419C-B1BF-805794A8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A18D7-65D6-49F1-AF77-30740617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E27DF-9CE5-4E44-AD57-36E0A33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F449E-0449-4D39-9914-7E452924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22575-3F7A-4CD4-9F2C-977D847B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489C0-A980-4E1B-9C79-028E14B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7B1-9F40-40BC-9C22-42133FA9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ADADA-B67F-4622-8F42-EC2E15B1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7FAC6-A583-4D64-BBDA-7549E57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5A63C-3DAA-40C1-953D-E1BCB2A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E88BD-8301-4A80-B3B8-A7469B5D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76C3D-F30B-4A55-B35E-14112094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4BF-6777-4158-A208-81B3D440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8B7B-1B65-4610-8A33-0707EAC48F37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98C6-6090-4657-820C-807AEEBAC84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F126-441B-4DC7-AFAB-521545451AC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B268-0421-423D-891E-CA3FB0D0470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D010-8ECF-47F7-9D5E-E0439A0B17A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319-8DE5-4E04-9182-B5D06DE3BAC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2736-89F8-4DE7-A183-007CB8270DE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Ruggen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est onderste deel van het centraal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tvangt en verwerkt sensorische informat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ri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ieren van de ledem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rst, rug, buik.   (tors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uurt bewegingen van ledematen en torso aa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lengde mer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igt direct boven het ruggenmer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vat verschillende cent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vitale autonome functi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weefsel waaruit zenuwstelsel is samengeste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4360" y="134136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zorgen de neuron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Zijn in staat zich te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Vervullen 7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steunen hersenweef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ermen axonen en verbeteren elektrische geleid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ruimen afval na neuronale verwonding of celdoo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fferen concentratie kaliumionen in extracellulaire ruimt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jzen weg aan migrerende zenuwcellen en geven richting groei axonen aa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lpen bloed-hersenbarrière in stand te houd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zien zenuwcellen van voedings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18-01-19T13:31:43Z</dcterms:modified>
  <cp:revision>26</cp:revision>
  <dc:subject/>
  <dc:title>De werking van het zenuwstelsel.</dc:title>
</cp:coreProperties>
</file>