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82E7-FBCE-41B6-8EDF-26ACBCC1A4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23CD-393F-4B26-981E-C76AC476387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50E-D373-43ED-9352-A4E505A8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162-A82B-4DAA-89CD-B1A3CD36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2ED-1A37-4993-A29B-783B391D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7A6-6F85-4A01-A082-B8E13B19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C3EE-2E21-404C-A88C-06135432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6CA3-3757-4C56-9708-C854FE9C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7D13-7A3A-4C18-8547-B197256D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E4EF-EBFB-49BF-9028-93F4F8CD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CA69-32FF-4B0D-A1AB-5C81E933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4DAE-0BC5-4D01-97F2-F5918F60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5EC0-A440-4ED0-AE19-3B730B21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E00-0EFD-4A4F-B32A-84A3F072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AE59-E91B-4AD3-9CB2-DC18950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931E-B682-4D9B-A061-17135B51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D75F-FBE0-422F-A0B5-E8343365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E20D-7CF6-4CB4-AA62-18BB5658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A2A8-B621-4BDA-AA04-65E141FC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5A33-BFE1-4B8F-BF8E-663AC361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6D35-475D-4E27-A4D2-96C04C31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5A91B-19D9-42EE-9E2C-96AE75FA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583D-E488-4E9A-A029-638F2179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1A5BE-6362-492B-9234-F6784DAA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F0E-C1BE-4210-A38B-63D11FB6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7D3AC-9B64-4EE9-B194-0022AEA0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D35C-D9C9-4ECD-B7EC-67C6819D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9DB8-8EEC-4ABB-8866-FCF478F9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8215-5E8F-4EAE-8665-294855EA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6F2C5-5C01-4397-AA6B-27EFAD0C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9888-1BF2-44D6-9024-FEABEEE7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C2AF-352A-422C-8227-4BD73DB2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98338-D34D-40B6-B832-41AABED7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812A3-E221-4795-8F33-BCD316E3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A0569-C166-488E-8124-55BDA6E2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4EE-D1E1-4446-81FD-8692B626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3CC61-88D2-4B51-BACE-291CEFE4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53D8-FF95-4034-A385-4D2C6450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E9508-DC2F-40EA-9BB2-E6C2874C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B904B-2EA7-471D-A559-7968193E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6713F-9050-46B2-A10A-2B16A852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E348-5196-4472-9E1E-9B2F315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0126D-630B-4D33-AB1F-243D4F7C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74555-798B-4FB1-92B8-FD5D2B04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DD604-8A8C-4FCA-989D-6827B32C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59DE8-AED1-4270-A1FF-97FED5B3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DD7-C2BD-442C-9D2C-924A78B9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E59B6-5871-4544-A91F-D6D02689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796AA-E13C-4A8F-BF13-C2FADBD9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061D0-28CE-45A8-A993-8FC9E3D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772A2-8E67-453F-8686-34DD2D60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8BC7F-BBE6-4627-AE14-F48F3C97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A44CF-DECD-4086-BDD3-322698A7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F494-685F-4CEF-AA8F-8B4B4EF1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1BFD2-A13C-49CD-A9C7-840401B6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0ABE1-BD1F-4699-9089-9A3DC84A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A71F4-E255-407D-8E1F-445C967D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016-89CB-4F88-B656-D03790FE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CEBAA-16A5-43DC-A26D-1E480666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6FAB2-A343-4DDB-AC46-41B9DEF8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0A446-098C-4F49-8F5D-F468EE42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7BC7D-BCCF-4FCC-A04C-E6AF7164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C8785-056E-4951-A99B-FFDDCCA4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D2DE9-C372-44BC-BA34-6A06C8EB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1E027-CDBE-49E5-9FA0-18AA6B1D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65969-F53D-4347-9474-12A813ED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3186C-45EA-4CF7-BB01-56C9B2F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39071-214B-4861-9A35-4FC8497A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2EC-8A58-443B-AF36-2303009B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CE007-9A77-4AEC-A2E3-D277438F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AD833-E0A2-435A-AA50-07FC6105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2FA6A-591F-413C-8959-5EB0D619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6BFD3-FC86-4544-B2BA-49D98AB5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7FE2D-1E02-46FA-B350-FF36A047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687AB-E744-4ED6-A320-E8D50240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00CB4-6571-497F-9681-6E49837D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12D99-DB06-419E-8816-0983103D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FF191-115A-44D7-95BD-3275E448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63764-2335-415D-8095-9A90C14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405-1F6C-42FD-9D78-53368BE2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ACA7E-BA9F-43F5-A47B-6908CC02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E3838-5314-4915-BAD8-F6168241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336C7-1D79-4F46-9C42-8A8C56A6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B682D-1402-4CD2-9C3E-7595FCEC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0455A-35CC-497C-8119-D8DBAE53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B81-DE33-4DA6-934C-F40E9AAB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066A-4CF2-470B-8A73-446AA5C37678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4A1D-0C5A-482F-B7D0-27BAB260CFBF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E2D4-8260-41DF-B31D-53FC0CFF409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1D13-D38E-4C09-92D6-BAAD76ADA1D8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5B52-9571-4D01-9958-B9544BF9AA89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6257-4101-4372-9F5B-A9DBE2456C3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C46F-24F1-4F56-9B22-9E3F8053FA8B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Ruggen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est onderste deel van het centraal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tvangt en verwerkt sensorische informat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ri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ieren van de ledem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rst, rug, buik.   (tors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uurt bewegingen van ledematen en torso aa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lengde 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igt direct boven het ruggenmer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vat verschillende cent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vitale autonome funct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weefsel waaruit zenuwstelsel is samengeste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4360" y="134136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zorgen de neuron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Zijn in staat zich te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vullen 7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steunen hersenweef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ermen axonen en verbeteren elektrische geleid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ruimen afval na neuronale verwonding of celdood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fferen concentratie kaliumionen in extracellulaire ruimte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jzen weg aan migrerende zenuwcellen en geven richting groei axonen aa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lpen bloed-hersenbarrière in stand te houd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zien zenuwcellen van voedings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18-01-19T13:31:43Z</dcterms:modified>
  <cp:revision>26</cp:revision>
  <dc:subject/>
  <dc:title>De werking van het zenuwstelsel.</dc:title>
</cp:coreProperties>
</file>