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E1F5-BE80-4353-9097-6A8662BC40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FD81-6B33-4C94-8385-433266FB64E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519-77E6-4D78-AAD5-CFB7C339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C1D-7F56-463C-94E4-A49951B4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CDA-319C-433A-BD03-486026FD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F5B-A6F0-4123-8F27-FEB5477B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5DEB-879E-458D-ABE7-83B6728C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C754-9EB8-404D-A6AE-D59788A0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3F16-D31A-45E7-B471-1B722CD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90C2-44B3-49E6-8A57-133B9F56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3FFD-4D4E-404A-9AA3-7B1C44BF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D3FC-F769-4A13-ADE8-05B0B67F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EFC9-80BF-4A07-A953-730E114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0CC-9B97-43EF-AB05-56FFFE30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3945-9640-4670-883B-A4A9A4F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6988-D18A-4E54-8FB7-9D023FEA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F472-282A-473B-A3CC-294D5FB1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A141-C5A6-472B-B5A3-99160BEE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A73B-8303-4196-A9CE-AB4968B8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C0CA-8E53-4F26-94AF-1971D49F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4EF6-00E5-41EF-85AD-63822F76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CBE4-0C76-4CA0-8075-0FBEA324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FDEC-F195-4EAE-AD9D-6FF7008B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6C25-986A-4589-8350-0F939C0B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978-180D-40F7-BA4F-BF7EFBCE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CD725-F9C2-48B1-869C-96AB92D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83FF-3F05-467A-82A1-DE82E87C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D521-2B74-41EF-AD04-BCCC6182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CAA8-DFCA-4359-BE4B-B7A7DAA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FCE1-2B7D-483C-8C1C-48EF3718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4EB3-99A5-4CAF-95A5-4C971008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7FA5-BAE8-4E43-9485-CD3271DB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24F67-E6AB-4929-BF21-EB2D4814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FB96-D290-43DE-B35D-4E1DA41D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FDEAD-5F8C-4E2B-A728-63D187B3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D11-6847-4CDC-9746-6EAC01A2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FD57-C13A-4B7B-9C59-B492C239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2E65A-576F-4450-B922-A96766F1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36CB7-B719-4989-B2C4-1AAFCF02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38FA-A4CC-406D-B731-DD02999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2377-7B46-4C7F-A444-DAC6956F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42D1-C915-4378-A0BB-BBC221E2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7EF8B-3CCE-4C6F-A180-BCC4F5AF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7018-566B-48FE-8121-A1E096D6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81325-097F-46F2-AB50-62C29F4B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3D9C-85AB-49E0-A470-B30D2CB8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BD4-1C70-468E-8A4F-8A8FF600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3528D-D0A4-4F73-9FB1-DDA3E162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77D9-4E34-4B6E-8DDD-5AEB4B6D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8C7D0-A532-4E62-AF90-C073121A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386BD-1C3F-4BA3-8CE5-7129E321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E7D22-4C9E-411F-8853-5B5C7D7B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AD677-C0D5-4165-AE78-4EE627E0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0A5C-1D24-4525-B2DB-22F3FCEB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AF818-731C-41B0-9163-47F244BB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8D2C1-0A4B-48BD-B2CF-B1A8E928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52AC-E461-4527-AFA1-664BF815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C87-355B-426F-B5D1-630C33FA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6BE1B-1B02-40B0-8291-B0B85EE4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0D504-1985-45E3-A14B-4534315A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DD032-0C40-4452-8B6C-51C7AED4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72D52-C3E3-43E4-9125-018637C8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9FFA-C61F-489A-9B5D-FC741C6B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920E8-FA89-4F29-869A-F8143F7E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DE0A2-4E45-4595-AC3F-DF343E88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F352D-9339-48B3-A6C0-3FBAD4D2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92577-410B-48C6-B65F-BCEB45E8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54A2D-ECD6-4F4D-81BA-2B597FBF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831-709B-4990-848B-144B45A9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31258-EB0E-48BE-BBA0-8B852A2D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EDF0B-CAF0-4F8A-8A37-4A1FDD08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640E7-EDD5-4316-822B-972BDEC2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91075-CD9E-4191-AA9A-8B79F7DB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3C65F-E67A-40E0-85FA-E41D65E0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04B46-8375-4019-82C1-FE875BED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A03F2-9E06-4F44-A9F6-E9BF6282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BF643-D868-44C4-B48C-CB2E122C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9002D-489C-429D-A288-A792E9FA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68310-78D4-44FC-9E36-3C877A9C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0DA-DECF-4BB6-BDD7-0797ACD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00062-C2E1-48DC-A859-0DEC8D2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70D17-48AE-4AE1-A396-96B7C79F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7FBA9-2E67-4513-8627-E758847C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0CD63-DF1C-4173-B282-6E62D9A7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D7227-5025-448F-9F47-1BA30F10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65D-2B1F-4787-ABFA-78CED5BC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F44D-8582-42A1-A11D-57D964F06303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D440-28D8-467D-B57C-2D88D6DCD8C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EE40-86CA-4C64-BB51-292F72BED0F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84C6-7CB2-4CC3-BFF7-B33AA6485FD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A4E6-122E-4CFB-80C4-8FBAA3A06A3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85CA-D489-4FE4-844A-45D66062BCE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A7E5-C69F-45FD-8671-A23D9202825F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Ruggen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est onderste deel van het centraal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tvangt en verwerkt sensorische informat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ri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ieren van de ledem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rst, rug, buik.   (tors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uurt bewegingen van ledematen en torso a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lengde 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igt direct boven het ruggenmer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vat verschillende cent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vitale autonome func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weefsel waaruit zenuwstelsel is samengeste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4360" y="134136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zorgen de neuron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Zijn in staat zich te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vullen 7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steunen hersenweef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ermen axonen en verbeteren elektrische geleid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ruimen afval na neuronale verwonding of celdoo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fferen concentratie kaliumionen in extracellulaire ruimt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jzen weg aan migrerende zenuwcellen en geven richting groei axonen aa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lpen bloed-hersenbarrière in stand te houd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zien zenuwcellen van voedings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18-01-19T13:31:43Z</dcterms:modified>
  <cp:revision>26</cp:revision>
  <dc:subject/>
  <dc:title>De werking van het zenuwstelsel.</dc:title>
</cp:coreProperties>
</file>