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152063" cy="7599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9760" y="685440"/>
            <a:ext cx="4578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630F063C-C01E-400B-921A-C62659E120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nsverwachting: het aantal jaren dat je waarschijnlijk nog te leven heb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Normaal is deze laag in landen met oorlog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a in op het verschil tussen het sterftecijfer en de zuigelingensterfte. En ook op het begrip “per 1000 inwoners / promil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uigelingensterfte: het aantal kinderen dat sterft voordat ze 1 jaar zijn, per 1000 geboorten (promille 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indexmundi.com 1-1-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nsverwac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80.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S: 78.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geria: 50.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rftecij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8,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S: 8,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geria: 13,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FEAB2BA6-3550-4BE2-B49B-78ED247F68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rtsendichtheid: het aantal inwoners dat afhankelijk is van één 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A1226FB2-8307-459D-8997-33C20948FD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C0946450-5EF1-4D4B-B05C-80DB34FFAA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ultinational: bedrijf met vestigingen in verschillende landen. Hoofdkantoor vaak in een westers land (VS, EU, Japan) en fabricage in lagelonenland (Ch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roductiekosten: arbeidskosten en andere kosten die gemaakt worden om een product te ma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996EC547-10AD-48FE-972A-4848F7FB02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air trade: een vorm van handel waarbij boeren een eerlijke en hogere prijs voor hun producten krij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eurmerk: een bewijs dat een bedrijf rekening houdt met de lonen van de werknemers, het milieu en/of de kinderrech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inderrechten: rechten van kinderen over de hele wereld, zoals het recht op leven en op onderwijs. Ook mogen kinderen geen werk doen dat gevaarlijk of schadelijk voor hun gezondheid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B5E0782F-31D8-4541-AA18-8B826D33F2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 de afhankelijkheid van Nigeria van de olie-export en de graanimport door in de figuur de percentages van de handel met elkaar te vergelij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 deze scheve verhoudingen dreigt het gevaar van ruilvoetverslechtering voor Niger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9B92F905-00A8-4BDB-872D-9E4A15FAE7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F8E94C1A-C37A-4769-A5AE-6D4B6BD5BD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2D837FEF-828E-4182-A7E9-3BF9762F11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uto Nationaal Product per hoofd van de bevolking: de waarde van alle goederen en diensten die in een land worden gemaakt gedurende één jaar gedeeld door het inwoneraa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gelijking BNP/hoofd in Nederland (zie ook hoofdstuk 2) ongeveer 48.000 dol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luchtsector: ongeschoold, slecht betaald en tijdelijk werk in de dienstensector. Bij gebrek aan beter werk zijn de mensen naar dit deel van de dienstensector gevluc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5BFA33BB-4C42-4E5E-880E-7159BCBD00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ropisch regenwoudklimaat: tropisch klimaat, altijd warm, hele jaar re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avanneklimaat: tropisch klimaat met een droge peri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ahel: de steppe aan de rand van de Saharawoestij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ppeklimaat: Een droog klimaat. De regenval beperkt zich vaak tot een beperkt aantal maanden bijv. 3 of 4  en deze periode valt er een geringe hoeveelheid neerslag &lt; 250 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72A7FEC6-D50B-4997-9685-0BB7794E46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gewassen: gewassen die verbouwd worden om de eigen bevolking te voe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figuur laat een structureel tekort aan voedsel z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oeren die vluchten voor geweld tussen geloofsgroepen, kunnen hun land niet bewerken waardoor er geen/veel minder geoogs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978B12B9-C897-40E3-86A3-9865B3D90B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voorziening: de hoeveelheid voedsel die beschikbaar is voor de bevolking van een 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zekerheid: de zekerheid dat er voldoende voedsel is en dat dit voedsel van voldoende kwalite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wantitatieve honger: mensen hebben te weinig voedsel en krijgen te weinig energie bin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walitatieve honger: mensen hebben te weinig voedsel en krijgen te weinig bouwstoffen en beschermende stoffen binnen (eiwitten, vitamines en minerale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voed: te weinig voedsel van goede kwalite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BFD6CC87-734F-4BE2-8AF2-CFA39E50E8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rije wereldhandel: een handelssysteem waarbij alle landen in de wereld met elkaar handel kunnen drijven, zonder dat ze elkaar daarin belemm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elsgewassen: gewassen die verbouwd worden voor de ex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dringing van eigen voedselproductie: als geïmporteerde voedsel goedkoper is dan voedsel dat in het eigen land wordt gemaakt. Binnenlandse boeren kunnen hun voedsel niet meer verkopen en gaan failli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l is het voedsel hierdoor goedkoper voor de bevolking. Dat is een voorde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CEBFC67F-0680-4DC6-9815-3BEEFEC7AD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xportsubsidies: geld dat landen aan hun boeren geven om hun producten aan het buitenland te verko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umping: meer produceren dan nodig is en dan de overschotten voor een lage prijs op de wereldmarkt verko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iguur 10 in het lesboek (pagina 35) laat de eenzijdigheid van de export van Nigeria duidelijk zien. Deze afhankelijkheid heeft veel nadelen. Laat leerlingen bedenken wat de nadelen zij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62078E4A-EE1E-4F1B-8489-6510EE80A2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7F5-6C98-4ED4-943E-C7946E4F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39272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28D2-FDE1-42C6-BFCF-12232167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868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80CA-13BC-4B9C-AAC0-38058155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676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520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676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520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F31-2AF8-4BE9-997F-92668EB0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61EF-7FEB-47CD-91DD-050A36E6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662-4912-4B4C-B381-5F14529E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D66B-B54F-4759-91FE-E6DD1B00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B80B-63A7-4600-B4B3-783A9596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3464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CCB2-93E9-489E-BA8C-67C51A7A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E3A-36DF-420A-85A8-F36D70F6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868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23A-FFB7-4B50-A08D-B10711F2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8E6E-8294-4ECC-AEF4-8A3F9C27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3160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6684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7480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600" y="7043760"/>
            <a:ext cx="236844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7043760"/>
            <a:ext cx="32133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3800" y="7043760"/>
            <a:ext cx="23688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E1A028B1-EBC5-46F8-9BDE-49FAB2C972FA}" type="slidenum">
              <a:rPr b="0" lang="nl-NL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1" descr="geo_ppt_800x600_vmbo bb 5.pdf"/>
          <p:cNvPicPr/>
          <p:nvPr/>
        </p:nvPicPr>
        <p:blipFill>
          <a:blip r:embed="rId1"/>
          <a:stretch/>
        </p:blipFill>
        <p:spPr>
          <a:xfrm>
            <a:off x="0" y="0"/>
            <a:ext cx="10188720" cy="762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3400" y="2677680"/>
            <a:ext cx="8628120" cy="1629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Calibri"/>
              </a:rPr>
              <a:t>Arm en Rijk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440" y="4306680"/>
            <a:ext cx="7105680" cy="1941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3500" spc="-1" strike="noStrike">
                <a:solidFill>
                  <a:srgbClr val="898989"/>
                </a:solidFill>
                <a:latin typeface="Calibri"/>
              </a:rPr>
              <a:t>Hoofdstuk 3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3500" spc="-1" strike="noStrike">
                <a:solidFill>
                  <a:srgbClr val="898989"/>
                </a:solidFill>
                <a:latin typeface="Calibri"/>
              </a:rPr>
              <a:t>Arm en rijk in Nigeri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1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zondheidstoestand in Nigeria is niet go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middelde levensverwachting: 48 jaar en sterftecijfer: 16 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echte gezondhe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kstvak 12"/>
          <p:cNvSpPr/>
          <p:nvPr/>
        </p:nvSpPr>
        <p:spPr>
          <a:xfrm>
            <a:off x="249120" y="2795760"/>
            <a:ext cx="943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ropische ziektes, zoals mala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mensen te arm om zich goed te beschermen tegen besmettelijke ziekten. Ook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schoon drinkwater en sanitaire voorziening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mensen met hiv/aids (5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inig baby's ingeënt in het eerste levens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ierdoor zuigelingensterfte van 75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kstvak 13"/>
          <p:cNvSpPr/>
          <p:nvPr/>
        </p:nvSpPr>
        <p:spPr>
          <a:xfrm>
            <a:off x="598320" y="23335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el verschillende ziek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kstvak 4"/>
          <p:cNvSpPr/>
          <p:nvPr/>
        </p:nvSpPr>
        <p:spPr>
          <a:xfrm>
            <a:off x="249120" y="274968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evensverwachting laag en sterftecijfer hoog. Dit komt o.a. do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Afbeelding 1" descr=""/>
          <p:cNvPicPr/>
          <p:nvPr/>
        </p:nvPicPr>
        <p:blipFill>
          <a:blip r:embed="rId2"/>
          <a:stretch/>
        </p:blipFill>
        <p:spPr>
          <a:xfrm>
            <a:off x="6316560" y="3867120"/>
            <a:ext cx="31212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24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kstvak 4"/>
          <p:cNvSpPr/>
          <p:nvPr/>
        </p:nvSpPr>
        <p:spPr>
          <a:xfrm>
            <a:off x="249120" y="144936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zondheidszorg schiet teko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echte 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kstvak 12"/>
          <p:cNvSpPr/>
          <p:nvPr/>
        </p:nvSpPr>
        <p:spPr>
          <a:xfrm>
            <a:off x="249120" y="1849320"/>
            <a:ext cx="943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rtsendichtheid is te laag (1 arts per 2500 inwoner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e weinig artsen en ook een oneerlijke verdeling over het 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Ziekenhuizen onvoldoende uitgerust, artsen verdienen weinig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artsen gaan naar het buiten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heid investeert te weinig in de gezondheidszorg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kstvak 13"/>
          <p:cNvSpPr/>
          <p:nvPr/>
        </p:nvSpPr>
        <p:spPr>
          <a:xfrm>
            <a:off x="598320" y="35686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Regionale verschi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kstvak 4"/>
          <p:cNvSpPr/>
          <p:nvPr/>
        </p:nvSpPr>
        <p:spPr>
          <a:xfrm>
            <a:off x="249120" y="40305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verschillen tussen noorden en zuid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noorden gaat het slech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kstvak 12"/>
          <p:cNvSpPr/>
          <p:nvPr/>
        </p:nvSpPr>
        <p:spPr>
          <a:xfrm>
            <a:off x="314280" y="4738680"/>
            <a:ext cx="95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armoede in het no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inder gezondheidsvoorzieningen in het no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kstvak 2"/>
          <p:cNvSpPr/>
          <p:nvPr/>
        </p:nvSpPr>
        <p:spPr>
          <a:xfrm>
            <a:off x="249120" y="5554800"/>
            <a:ext cx="59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■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k grote verschillen tussen stad en platte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Afbeelding 15" descr="GEO_vm_3_bb_LB_AR_3_4_4.jpg"/>
          <p:cNvPicPr/>
          <p:nvPr/>
        </p:nvPicPr>
        <p:blipFill>
          <a:blip r:embed="rId2"/>
          <a:stretch/>
        </p:blipFill>
        <p:spPr>
          <a:xfrm>
            <a:off x="6537240" y="3330720"/>
            <a:ext cx="337176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34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onwetendheid rondom gezondheidszo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lichting en onderwijs zijn daarom erg belangrij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Gezondheid, onderwijs en 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kstvak 12"/>
          <p:cNvSpPr/>
          <p:nvPr/>
        </p:nvSpPr>
        <p:spPr>
          <a:xfrm>
            <a:off x="249120" y="2157480"/>
            <a:ext cx="943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nselijke ontwikkeling is te meten met de HDI (Human Development Index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ze index houden ze o.a. rekening me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de kwaliteit van het onderw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gezondheid van de men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Bruto Nationaal Pro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scoort niet goed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ntwikkeling is te laa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Afbeelding 16" descr="GEO_vm_3_bb_LB_AR_3_4_2.jpg"/>
          <p:cNvPicPr/>
          <p:nvPr/>
        </p:nvPicPr>
        <p:blipFill>
          <a:blip r:embed="rId2"/>
          <a:stretch/>
        </p:blipFill>
        <p:spPr>
          <a:xfrm>
            <a:off x="5075280" y="3416400"/>
            <a:ext cx="4681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40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internationale bedrijven spelen naast landen een belangrijke rol in de wereldhan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drijven als Nike, Phillips, Toyota enz. noem je multinationa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Machtige internationale bedrij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kstvak 4"/>
          <p:cNvSpPr/>
          <p:nvPr/>
        </p:nvSpPr>
        <p:spPr>
          <a:xfrm>
            <a:off x="249120" y="2565360"/>
            <a:ext cx="4984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beeld Nik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ke is van oorsprong een Amerikaans bedrij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kantoren staan in de VS.  Hier wordt alles geregeld (design, marketing, transport, inkoop materialen, enz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product wordt gemaakt in een land met de laagste productiekosten. Dit zijn de lagelonenlanden in Azië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s een ander land goedkoper is, verplaatst Nike de product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Afbeelding 11" descr="GEO_vm_3_bb_LB_AR_3_5_bron_3.JPG"/>
          <p:cNvPicPr/>
          <p:nvPr/>
        </p:nvPicPr>
        <p:blipFill>
          <a:blip r:embed="rId2"/>
          <a:stretch/>
        </p:blipFill>
        <p:spPr>
          <a:xfrm>
            <a:off x="5607000" y="3381480"/>
            <a:ext cx="430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4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kstvak 4"/>
          <p:cNvSpPr/>
          <p:nvPr/>
        </p:nvSpPr>
        <p:spPr>
          <a:xfrm>
            <a:off x="249120" y="3778200"/>
            <a:ext cx="936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cacaoboeren hebben weinig invloed op de wereldhandel en de prij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aarom bestaat er tegenwoordig fair trade (= eerlijke hande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t is een initiatief van Max Havelaar, om de boeren een eerlij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rijs te betalen voor een eerlijk product (caca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kstvak 13"/>
          <p:cNvSpPr/>
          <p:nvPr/>
        </p:nvSpPr>
        <p:spPr>
          <a:xfrm>
            <a:off x="598320" y="33685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Eerlijke 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kstvak 4"/>
          <p:cNvSpPr/>
          <p:nvPr/>
        </p:nvSpPr>
        <p:spPr>
          <a:xfrm>
            <a:off x="249120" y="5570640"/>
            <a:ext cx="794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hocoladefabrikanten die de cacaobonen fairtrade kopen, kunnen een keurmerk krijgen. Bijv. het Max Havelaarkeurme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ere keurmerken zijn er voor bedrijven die rekening houden met het milieu of met de kinderrech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kstvak 13"/>
          <p:cNvSpPr/>
          <p:nvPr/>
        </p:nvSpPr>
        <p:spPr>
          <a:xfrm>
            <a:off x="598320" y="5149800"/>
            <a:ext cx="93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Keurmer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Afbeelding 9" descr="GEO_vm_3_bb_LB_AR_3_5_bron_6.JPG"/>
          <p:cNvPicPr/>
          <p:nvPr/>
        </p:nvPicPr>
        <p:blipFill>
          <a:blip r:embed="rId2"/>
          <a:stretch/>
        </p:blipFill>
        <p:spPr>
          <a:xfrm>
            <a:off x="5956200" y="987480"/>
            <a:ext cx="3952800" cy="279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abcamsterdam.files.wordpress.com/2012/05/fairtrade.jpg"/>
          <p:cNvPicPr/>
          <p:nvPr/>
        </p:nvPicPr>
        <p:blipFill>
          <a:blip r:embed="rId3"/>
          <a:stretch/>
        </p:blipFill>
        <p:spPr>
          <a:xfrm>
            <a:off x="8237520" y="4932360"/>
            <a:ext cx="1650960" cy="2328840"/>
          </a:xfrm>
          <a:prstGeom prst="rect">
            <a:avLst/>
          </a:prstGeom>
          <a:ln w="0">
            <a:noFill/>
          </a:ln>
        </p:spPr>
      </p:pic>
      <p:sp>
        <p:nvSpPr>
          <p:cNvPr id="153" name="Tekstvak 13"/>
          <p:cNvSpPr/>
          <p:nvPr/>
        </p:nvSpPr>
        <p:spPr>
          <a:xfrm>
            <a:off x="598320" y="75564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Caca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kstvak 4"/>
          <p:cNvSpPr/>
          <p:nvPr/>
        </p:nvSpPr>
        <p:spPr>
          <a:xfrm>
            <a:off x="401760" y="1217520"/>
            <a:ext cx="555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de internationale cacaohandel hebben Europese en Amerikaanse bedrijven veel (alle) ma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caoboeren zijn afhankelijk van deze bedrijven en de boeren krijgen dus een lage prij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mdat in veel landen cacao wordt verbouwd, hebben de boeren geen ma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5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kstvak 4"/>
          <p:cNvSpPr/>
          <p:nvPr/>
        </p:nvSpPr>
        <p:spPr>
          <a:xfrm>
            <a:off x="289080" y="1449360"/>
            <a:ext cx="41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verkoopt vooral olie aan de V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S verkoopt auto’s, benzine, machines en graan aan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kstvak 13"/>
          <p:cNvSpPr/>
          <p:nvPr/>
        </p:nvSpPr>
        <p:spPr>
          <a:xfrm>
            <a:off x="281160" y="987480"/>
            <a:ext cx="95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Handel tussen Nigeria en de V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kstvak 4"/>
          <p:cNvSpPr/>
          <p:nvPr/>
        </p:nvSpPr>
        <p:spPr>
          <a:xfrm>
            <a:off x="249120" y="2682720"/>
            <a:ext cx="46720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rbonden door olie en gr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en de VS hebben elkaar no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aar dat is niet gelijkwaar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is meer afhankelijk van de VS dan dat de VS afhankelijk is van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Afbeelding 12" descr="Geo_vm_3_bb_LB_AR_3_5_bron_1.jpg"/>
          <p:cNvPicPr/>
          <p:nvPr/>
        </p:nvPicPr>
        <p:blipFill>
          <a:blip r:embed="rId2"/>
          <a:stretch/>
        </p:blipFill>
        <p:spPr>
          <a:xfrm>
            <a:off x="4610160" y="1449360"/>
            <a:ext cx="52988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kstvak 4"/>
          <p:cNvSpPr/>
          <p:nvPr/>
        </p:nvSpPr>
        <p:spPr>
          <a:xfrm>
            <a:off x="249120" y="1671480"/>
            <a:ext cx="95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Nigeria leven 155 miljoen mensen, één van de dichtstbevolkte landen van Afri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el verschillende inwo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kstvak 5"/>
          <p:cNvSpPr/>
          <p:nvPr/>
        </p:nvSpPr>
        <p:spPr>
          <a:xfrm>
            <a:off x="249120" y="2236680"/>
            <a:ext cx="5237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bevolking is niet gelijkmatig verspre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zuiden is de bevolkingsdichtheid he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og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olking bestaat uit verschillende volk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15 cultuurgebie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500 verschillende ta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(bijna) iedereen spreekt ook Eng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wee godsdienst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in het noorden wonen vooral mosli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in het zuiden wonen vooral christe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egelmatig gewelddadige conflic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Afbeelding 44" descr="GEO_vm_3_bb_LB_AR_3_1_2.jpg"/>
          <p:cNvPicPr/>
          <p:nvPr/>
        </p:nvPicPr>
        <p:blipFill>
          <a:blip r:embed="rId2"/>
          <a:stretch/>
        </p:blipFill>
        <p:spPr>
          <a:xfrm>
            <a:off x="5686560" y="2236680"/>
            <a:ext cx="407016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58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werd in 1960 onafhankelijk van Groot-Brittannië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ele stammen en volkeren vormden samen het land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Engelse kolo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kstvak 4"/>
          <p:cNvSpPr/>
          <p:nvPr/>
        </p:nvSpPr>
        <p:spPr>
          <a:xfrm>
            <a:off x="249120" y="2789280"/>
            <a:ext cx="96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lie is dé inkomstenbron van Nigeria (80% van het inkom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lie wordt gewonnen in de delta van de Ni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st de overheid verdienen de (buitenlandse) oliebedrijven veel geld aan de ol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kstvak 13"/>
          <p:cNvSpPr/>
          <p:nvPr/>
        </p:nvSpPr>
        <p:spPr>
          <a:xfrm>
            <a:off x="598320" y="232740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Rijk door o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kstvak 13"/>
          <p:cNvSpPr/>
          <p:nvPr/>
        </p:nvSpPr>
        <p:spPr>
          <a:xfrm>
            <a:off x="690480" y="4111560"/>
            <a:ext cx="44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oruitgang in Nig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10"/>
          <p:cNvSpPr/>
          <p:nvPr/>
        </p:nvSpPr>
        <p:spPr>
          <a:xfrm>
            <a:off x="806400" y="4573440"/>
            <a:ext cx="481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NP groeit met 10% per 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st de olie-industrie wil de Nigeriaanse regering andere industrieën stimul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computerindustrie is hiervan een goed voorbe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1" descr="GEO_vm_3_bb_LB_AR_3_1_4.jpg"/>
          <p:cNvPicPr/>
          <p:nvPr/>
        </p:nvPicPr>
        <p:blipFill>
          <a:blip r:embed="rId2"/>
          <a:stretch/>
        </p:blipFill>
        <p:spPr>
          <a:xfrm>
            <a:off x="5621400" y="4162320"/>
            <a:ext cx="41353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67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4"/>
          <p:cNvSpPr/>
          <p:nvPr/>
        </p:nvSpPr>
        <p:spPr>
          <a:xfrm>
            <a:off x="249120" y="154944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wel de regering veel geld verdient aan de oliewinning, leeft ruim de helft van d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olking in armoede. BNP/hoofd is ongeveer 2.100 dollar per 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Toch een arme bevol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12"/>
          <p:cNvSpPr/>
          <p:nvPr/>
        </p:nvSpPr>
        <p:spPr>
          <a:xfrm>
            <a:off x="249120" y="2465280"/>
            <a:ext cx="9659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or corruptie en slecht bestuur komt veel oliegeld terecht bij een kleine, rijke eli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lft van de bevolking werkt in de landbou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zijn niet veel banen in de industrie en in de diensten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rijkste 10 % van de bevolking verdient de helft van al het g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verheid verdeelt de olie-inkomsten sle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onderwijs wordt te weinig geïnvestee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ge werkloosheid (&gt; 20%, en vooral jonger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gebrek aan werk ‘vluchten’ veel mensen naar de informele dienstensector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lucht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7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verbouwen van producten en het houden van vee is afhankelijk van het 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Nigeria komen verschillende klimaten vo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Klimaat en landbou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12"/>
          <p:cNvSpPr/>
          <p:nvPr/>
        </p:nvSpPr>
        <p:spPr>
          <a:xfrm>
            <a:off x="249120" y="2178000"/>
            <a:ext cx="6561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zuiden van Nigeria ligt dicht bij de even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limaat: tropisch regenwoud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kkerbouw van tropische producten, bijv. caca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grootse deel van het land kent het savanne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kkerbouw: yams en cassa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 daarnaast ook veetee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uiterste noorden kent een steppe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ahel (rand van de Saharawoestij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leen (extensieve) veetee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Afbeelding 6" descr="GEO_vm_3_bb_LB_AR_3_2_2b.jpg"/>
          <p:cNvPicPr/>
          <p:nvPr/>
        </p:nvPicPr>
        <p:blipFill>
          <a:blip r:embed="rId2"/>
          <a:stretch/>
        </p:blipFill>
        <p:spPr>
          <a:xfrm>
            <a:off x="6810480" y="2021040"/>
            <a:ext cx="3098520" cy="2082600"/>
          </a:xfrm>
          <a:prstGeom prst="rect">
            <a:avLst/>
          </a:prstGeom>
          <a:ln w="0">
            <a:noFill/>
          </a:ln>
        </p:spPr>
      </p:pic>
      <p:pic>
        <p:nvPicPr>
          <p:cNvPr id="77" name="Afbeelding 7" descr="GEO_vm_3_bb_LB_AR_3_2_1.jpg"/>
          <p:cNvPicPr/>
          <p:nvPr/>
        </p:nvPicPr>
        <p:blipFill>
          <a:blip r:embed="rId3"/>
          <a:stretch/>
        </p:blipFill>
        <p:spPr>
          <a:xfrm>
            <a:off x="6810480" y="4243320"/>
            <a:ext cx="312084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79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grote delen van Nigeria (vooral savanne) kun je prima voedselgewassen verbouw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wordt minder voedsel verbouwd dan de Nigerianen nodig hebb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iervoor zijn een aantal rede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s er genoeg voeds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kstvak 12"/>
          <p:cNvSpPr/>
          <p:nvPr/>
        </p:nvSpPr>
        <p:spPr>
          <a:xfrm>
            <a:off x="249120" y="2565360"/>
            <a:ext cx="9207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bedrijven zijn erg klein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weinig mechanisatie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lage opbrengs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heid investeert weini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de landbou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oms rampen (extreme droogt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f geweld tussen groe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Afbeelding 8" descr="Geo_vm_3_bb_LB_AR_3_2_4.jpg"/>
          <p:cNvPicPr/>
          <p:nvPr/>
        </p:nvPicPr>
        <p:blipFill>
          <a:blip r:embed="rId2"/>
          <a:stretch/>
        </p:blipFill>
        <p:spPr>
          <a:xfrm>
            <a:off x="4770360" y="3162240"/>
            <a:ext cx="513864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85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kstvak 4"/>
          <p:cNvSpPr/>
          <p:nvPr/>
        </p:nvSpPr>
        <p:spPr>
          <a:xfrm>
            <a:off x="249120" y="1449360"/>
            <a:ext cx="96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anks de import van voedingsgewassen is de voedselzekerheid nog steeds nie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garandeerd. 60% van de bevolking heeft wel eens hon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komen twee soorten honger voor in Niger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kstvak 12"/>
          <p:cNvSpPr/>
          <p:nvPr/>
        </p:nvSpPr>
        <p:spPr>
          <a:xfrm>
            <a:off x="249120" y="2948040"/>
            <a:ext cx="6416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wantitatieve honger: je krijgt te weinig voedsel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nnen. Hierdoor heb je te weinig energie om t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rken of te l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walitatieve honger: je krijgt wel voldoende energi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nnen, maar de opbouw van je voedsel is eenzij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e krijgt bijv. te weinig eiwitten en vitamines bin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e bent ondervoed. Je wordt sneller zi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Afbeelding 7" descr="GEO_vm_3_bb_LB_AR_3_2_2a.jpg"/>
          <p:cNvPicPr/>
          <p:nvPr/>
        </p:nvPicPr>
        <p:blipFill>
          <a:blip r:embed="rId2"/>
          <a:stretch/>
        </p:blipFill>
        <p:spPr>
          <a:xfrm>
            <a:off x="6888240" y="2327400"/>
            <a:ext cx="3020760" cy="456084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9" descr="Geo_vm_3_bb_LB_AR_3_2_3.jpg"/>
          <p:cNvPicPr/>
          <p:nvPr/>
        </p:nvPicPr>
        <p:blipFill>
          <a:blip r:embed="rId3"/>
          <a:stretch/>
        </p:blipFill>
        <p:spPr>
          <a:xfrm>
            <a:off x="1177920" y="5583240"/>
            <a:ext cx="21877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9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3 Nigeria in de wereldeconom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kstvak 4"/>
          <p:cNvSpPr/>
          <p:nvPr/>
        </p:nvSpPr>
        <p:spPr>
          <a:xfrm>
            <a:off x="249120" y="130320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voorstander van vrije wereldhan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13"/>
          <p:cNvSpPr/>
          <p:nvPr/>
        </p:nvSpPr>
        <p:spPr>
          <a:xfrm>
            <a:off x="598320" y="8431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rije wereld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kstvak 12"/>
          <p:cNvSpPr/>
          <p:nvPr/>
        </p:nvSpPr>
        <p:spPr>
          <a:xfrm>
            <a:off x="249120" y="170352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handelsbelemmeringen, dus ge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lasting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p geïmporteerde goed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kstvak 13"/>
          <p:cNvSpPr/>
          <p:nvPr/>
        </p:nvSpPr>
        <p:spPr>
          <a:xfrm>
            <a:off x="773280" y="2514600"/>
            <a:ext cx="95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ordelen van vrij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kstvak 4"/>
          <p:cNvSpPr/>
          <p:nvPr/>
        </p:nvSpPr>
        <p:spPr>
          <a:xfrm>
            <a:off x="249120" y="297648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ije wereldhandel heeft een aantal voordelen voor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kstvak 12"/>
          <p:cNvSpPr/>
          <p:nvPr/>
        </p:nvSpPr>
        <p:spPr>
          <a:xfrm>
            <a:off x="249120" y="337644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zelf makkelijk exporteren (bijv. aardoli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kstvak 12"/>
          <p:cNvSpPr/>
          <p:nvPr/>
        </p:nvSpPr>
        <p:spPr>
          <a:xfrm>
            <a:off x="249120" y="371808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kunnen handelsgewassen exporteren (bijv. cacao, palmolie en rubb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kstvak 12"/>
          <p:cNvSpPr/>
          <p:nvPr/>
        </p:nvSpPr>
        <p:spPr>
          <a:xfrm>
            <a:off x="249120" y="408456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makkelijk importeren (bijv. graan uit de V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kstvak 13"/>
          <p:cNvSpPr/>
          <p:nvPr/>
        </p:nvSpPr>
        <p:spPr>
          <a:xfrm>
            <a:off x="773280" y="4640400"/>
            <a:ext cx="92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adelen van vrij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kstvak 4"/>
          <p:cNvSpPr/>
          <p:nvPr/>
        </p:nvSpPr>
        <p:spPr>
          <a:xfrm>
            <a:off x="249120" y="510048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ije wereldhandel heeft ook een nade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kstvak 12"/>
          <p:cNvSpPr/>
          <p:nvPr/>
        </p:nvSpPr>
        <p:spPr>
          <a:xfrm>
            <a:off x="249120" y="580860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 import van voedsel zie je dat er verdring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an de eigen voedselproductie plaatsvind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Afbeelding 16" descr="GEO_vm_3_bb_LB_AR_3_3_4.jpg"/>
          <p:cNvPicPr/>
          <p:nvPr/>
        </p:nvPicPr>
        <p:blipFill>
          <a:blip r:embed="rId2"/>
          <a:stretch/>
        </p:blipFill>
        <p:spPr>
          <a:xfrm>
            <a:off x="5951520" y="1082520"/>
            <a:ext cx="3957480" cy="1893960"/>
          </a:xfrm>
          <a:prstGeom prst="rect">
            <a:avLst/>
          </a:prstGeom>
          <a:ln w="0">
            <a:noFill/>
          </a:ln>
        </p:spPr>
      </p:pic>
      <p:pic>
        <p:nvPicPr>
          <p:cNvPr id="105" name="Afbeelding 17" descr="GEO_vm_3_bb_LB_AR_3_3_1.jpg"/>
          <p:cNvPicPr/>
          <p:nvPr/>
        </p:nvPicPr>
        <p:blipFill>
          <a:blip r:embed="rId3"/>
          <a:stretch/>
        </p:blipFill>
        <p:spPr>
          <a:xfrm>
            <a:off x="6424560" y="4491000"/>
            <a:ext cx="3484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07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3 Nigeria in de wereldeconom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kstvak 4"/>
          <p:cNvSpPr/>
          <p:nvPr/>
        </p:nvSpPr>
        <p:spPr>
          <a:xfrm>
            <a:off x="249120" y="144936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 komt het dat het voedsel uit het buitenland goedkoper is dan voedsel uit Nigeri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Goedkoop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kstvak 12"/>
          <p:cNvSpPr/>
          <p:nvPr/>
        </p:nvSpPr>
        <p:spPr>
          <a:xfrm>
            <a:off x="249120" y="184932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edseloverschotten in andere landen zorgen voor een lage prijs op de wereldmark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dumping)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kstvak 12"/>
          <p:cNvSpPr/>
          <p:nvPr/>
        </p:nvSpPr>
        <p:spPr>
          <a:xfrm>
            <a:off x="249120" y="255744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in VS en EU hebben grote bedrijven en machines. Hierdoor kunnen z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oedkoop produc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kstvak 12"/>
          <p:cNvSpPr/>
          <p:nvPr/>
        </p:nvSpPr>
        <p:spPr>
          <a:xfrm>
            <a:off x="249120" y="329076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in de VS en EU krijgen steun van de reger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oeger exportsubsidies, nu steun voor nieuwe machi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kstvak 2"/>
          <p:cNvSpPr/>
          <p:nvPr/>
        </p:nvSpPr>
        <p:spPr>
          <a:xfrm>
            <a:off x="249120" y="4444920"/>
            <a:ext cx="593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■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goedkoop voedsel inko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unstig voor de consument (goedkoop voedse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gunstig voor de bo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maakt Nigeria afhankelijk van het buitenland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 dat is niet gunsti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Afbeelding 17" descr="GEO_vm_3_bb_LB_AR_3_3_3.jpg"/>
          <p:cNvPicPr/>
          <p:nvPr/>
        </p:nvPicPr>
        <p:blipFill>
          <a:blip r:embed="rId2"/>
          <a:stretch/>
        </p:blipFill>
        <p:spPr>
          <a:xfrm>
            <a:off x="6184800" y="3987720"/>
            <a:ext cx="37242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5:35:07Z</dcterms:created>
  <dc:creator>Gebruiker Office 2004 Test Drive</dc:creator>
  <dc:description/>
  <dc:language>en-US</dc:language>
  <cp:lastModifiedBy>Mariët Bosschers</cp:lastModifiedBy>
  <dcterms:modified xsi:type="dcterms:W3CDTF">2013-06-12T12:34:16Z</dcterms:modified>
  <cp:revision>118</cp:revision>
  <dc:subject/>
  <dc:title>PowerPoint-presentatie</dc:title>
</cp:coreProperties>
</file>