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2063" cy="7599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760" y="685440"/>
            <a:ext cx="457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009AF80F-3DCF-4C0D-AB21-EB4A6D197A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: het aantal jaren dat je waarschijnlijk nog te leven heb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Normaal is deze laag in landen met oorlo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a in op het verschil tussen het sterftecijfer en de zuigelingensterfte. En ook op het begrip “per 1000 inwoners / promil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uigelingensterfte: het aantal kinderen dat sterft voordat ze 1 jaar zijn, per 1000 geboorten (promille 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indexmundi.com 1-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0.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78.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5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ftecij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13,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DAD371C-6530-4D30-ABE2-D32CBBAD40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sendichtheid: het aantal inwoners dat afhankelijk is van één 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163BCAB9-2FCA-447B-8E03-3BC49E5F89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8C0ECB2-CF10-4A7C-8689-4F4DDF6286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ultinational: bedrijf met vestigingen in verschillende landen. Hoofdkantoor vaak in een westers land (VS, EU, Japan) en fabricage in lagelonenland (Ch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ductiekosten: arbeidskosten en andere kosten die gemaakt worden om een product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8A46F42-D28B-48E8-8EC6-8AA2BA6ED6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air trade: een vorm van handel waarbij boeren een eerlijke en hogere prijs voor hun producten krij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urmerk: een bewijs dat een bedrijf rekening houdt met de lonen van de werknemers, het milieu en/of de kinderre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inderrechten: rechten van kinderen over de hele wereld, zoals het recht op leven en op onderwijs. Ook mogen kinderen geen werk doen dat gevaarlijk of schadelijk voor hun gezondhei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597B8DA4-52BD-4153-9A65-FB9089EB15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de afhankelijkheid van Nigeria van de olie-export en de graanimport door in de figuur de percentages van de handel met elkaar te vergelij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 deze scheve verhoudingen dreigt het gevaar van ruilvoetverslechtering voor Nig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586D3D6-1D0D-4BCB-99FC-2BE4F7F722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F5D78C59-49B3-43D7-A7A0-9FB063D117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3D77EFAA-DA49-4D38-8E70-10399BB6D1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uto Nationaal Product per hoofd van de bevolking: de waarde van alle goederen en diensten die in een land worden gemaakt gedurende één jaar gedeeld door het inwoneraa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elijking BNP/hoofd in Nederland (zie ook hoofdstuk 2) ongeveer 48.000 dol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sector: ongeschoold, slecht betaald en tijdelijk werk in de dienstensector. Bij gebrek aan beter werk zijn de mensen naar dit deel van de dienstensector gevlu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9CEE304-239A-4461-8C93-0481F3A1C1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opisch regenwoudklimaat: tropisch klimaat, altijd warm, hele jaar 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vanneklimaat: tropisch klimaat met een droge peri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hel: de steppe aan de rand van de Saharawoest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ppeklimaat: Een droog klimaat. De regenval beperkt zich vaak tot een beperkt aantal maanden bijv. 3 of 4  en deze periode valt er een geringe hoeveelheid neerslag &lt; 250 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585A495-EA1F-42BA-83DC-FDE2CAD6E9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gewassen: gewassen die verbouwd worden om de eigen bevolking te vo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guur laat een structureel tekort aan voedsel z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eren die vluchten voor geweld tussen geloofsgroepen, kunnen hun land niet bewerken waardoor er geen/veel minder geoogs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1AFFB9E5-4D54-4358-B603-DB2BC350AE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voorziening: de hoeveelheid voedsel die beschikbaar is voor de bevolking van een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zekerheid: de zekerheid dat er voldoende voedsel is en dat dit voedsel van voldoende kwalite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ntitatieve honger: mensen hebben te weinig voedsel en krijgen te weinig energie bin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litatieve honger: mensen hebben te weinig voedsel en krijgen te weinig bouwstoffen en beschermende stoffen binnen (eiwitten, vitamines en mineral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voed: te weinig voedsel van goede kwalit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9350488-B61F-4A67-86B8-9CAA4BD24C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rije wereldhandel: een handelssysteem waarbij alle landen in de wereld met elkaar handel kunnen drijven, zonder dat ze elkaar daarin belemm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elsgewassen: gewassen die verbouwd worden voor de ex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dringing van eigen voedselproductie: als geïmporteerde voedsel goedkoper is dan voedsel dat in het eigen land wordt gemaakt. Binnenlandse boeren kunnen hun voedsel niet meer verkopen en gaan failli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 is het voedsel hierdoor goedkoper voor de bevolking. Dat is een voorde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5CE099A-D833-476A-A994-CF72490D77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portsubsidies: geld dat landen aan hun boeren geven om hun producten aan het buitenland te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umping: meer produceren dan nodig is en dan de overschotten voor een lage prijs op de wereldmarkt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guur 10 in het lesboek (pagina 35) laat de eenzijdigheid van de export van Nigeria duidelijk zien. Deze afhankelijkheid heeft veel nadelen. Laat leerlingen bedenken wat de nadelen z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7B72F7AE-8358-457E-B196-02B5024703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AC4-3D8F-4278-A461-D1DA37C6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3EA-E945-4B19-9170-0553630F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7D1-1154-42C5-90FF-0C74996E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086-8692-4989-A998-35F8412E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956-9E1C-419E-BAA4-EC7CBA5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23C-E43B-4EF6-8B82-E34A856D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9B4-0727-465E-ADE8-B74AA3F6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3D8-385F-45BC-A8D7-7231C56A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731-A22D-49E2-A24B-E2153EC0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528-15E5-48AF-9E02-61B727EC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463-BDB4-41BF-AA22-B35A321A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5D4-5754-4BB3-9ACE-04F384A8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480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7043760"/>
            <a:ext cx="23684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7043760"/>
            <a:ext cx="32133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7043760"/>
            <a:ext cx="2368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943574D-7530-438B-ADF4-AEC102354DEB}" type="slidenum">
              <a:rPr b="0" lang="nl-NL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geo_ppt_800x600_vmbo bb 5.pdf"/>
          <p:cNvPicPr/>
          <p:nvPr/>
        </p:nvPicPr>
        <p:blipFill>
          <a:blip r:embed="rId1"/>
          <a:stretch/>
        </p:blipFill>
        <p:spPr>
          <a:xfrm>
            <a:off x="0" y="0"/>
            <a:ext cx="101887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677680"/>
            <a:ext cx="8628120" cy="16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Calibri"/>
              </a:rPr>
              <a:t>Arm en Rijk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440" y="4306680"/>
            <a:ext cx="7105680" cy="1941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Hoofdstuk 3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Arm en rijk in Nige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toestand in Nigeria is niet go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middelde levensverwachting: 48 jaar en sterftecijfer: 16 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gezond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12"/>
          <p:cNvSpPr/>
          <p:nvPr/>
        </p:nvSpPr>
        <p:spPr>
          <a:xfrm>
            <a:off x="249120" y="279576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opische ziektes, zoals mal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te arm om zich goed te beschermen tegen besmettelijke ziekten. Ook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schoon drinkwater en sanitaire voorziening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met hiv/aids (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inig baby's ingeënt in het eerste levens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door zuigelingensterfte van 75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13"/>
          <p:cNvSpPr/>
          <p:nvPr/>
        </p:nvSpPr>
        <p:spPr>
          <a:xfrm>
            <a:off x="598320" y="2333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ziek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4"/>
          <p:cNvSpPr/>
          <p:nvPr/>
        </p:nvSpPr>
        <p:spPr>
          <a:xfrm>
            <a:off x="249120" y="27496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evensverwachting laag en sterftecijfer hoog. Dit komt o.a. do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fbeelding 1" descr=""/>
          <p:cNvPicPr/>
          <p:nvPr/>
        </p:nvPicPr>
        <p:blipFill>
          <a:blip r:embed="rId2"/>
          <a:stretch/>
        </p:blipFill>
        <p:spPr>
          <a:xfrm>
            <a:off x="6316560" y="3867120"/>
            <a:ext cx="3121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2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zorg schiet tek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12"/>
          <p:cNvSpPr/>
          <p:nvPr/>
        </p:nvSpPr>
        <p:spPr>
          <a:xfrm>
            <a:off x="249120" y="1849320"/>
            <a:ext cx="943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tsendichtheid is te laag (1 arts per 2500 inwo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e weinig artsen en ook een oneerlijke verdeling over het 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ekenhuizen onvoldoende uitgerust, artsen verdienen weinig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artsen gaan naar het buiten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te weinig in de gezondheidszorg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598320" y="35686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egionale verschi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49120" y="40305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verschillen tussen noorden en zuid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noorden gaat het slech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12"/>
          <p:cNvSpPr/>
          <p:nvPr/>
        </p:nvSpPr>
        <p:spPr>
          <a:xfrm>
            <a:off x="314280" y="4738680"/>
            <a:ext cx="95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armoede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der gezondheidsvoorzieningen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2"/>
          <p:cNvSpPr/>
          <p:nvPr/>
        </p:nvSpPr>
        <p:spPr>
          <a:xfrm>
            <a:off x="249120" y="55548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k grote verschillen tussen stad en platte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Afbeelding 15" descr="GEO_vm_3_bb_LB_AR_3_4_4.jpg"/>
          <p:cNvPicPr/>
          <p:nvPr/>
        </p:nvPicPr>
        <p:blipFill>
          <a:blip r:embed="rId2"/>
          <a:stretch/>
        </p:blipFill>
        <p:spPr>
          <a:xfrm>
            <a:off x="6537240" y="3330720"/>
            <a:ext cx="33717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onwetendheid rondom gezondheidsz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lichting en onderwijs zijn daarom erg belangrij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ezondheid, onderwijs en 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12"/>
          <p:cNvSpPr/>
          <p:nvPr/>
        </p:nvSpPr>
        <p:spPr>
          <a:xfrm>
            <a:off x="249120" y="215748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nselijke ontwikkeling is te meten met de HDI (Human Development Index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ze index houden ze o.a. rekening m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de kwaliteit van het onderw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gezondheid van de men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Bruto Nationa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scoort niet goe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ntwikkeling is te la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fbeelding 16" descr="GEO_vm_3_bb_LB_AR_3_4_2.jpg"/>
          <p:cNvPicPr/>
          <p:nvPr/>
        </p:nvPicPr>
        <p:blipFill>
          <a:blip r:embed="rId2"/>
          <a:stretch/>
        </p:blipFill>
        <p:spPr>
          <a:xfrm>
            <a:off x="5075280" y="3416400"/>
            <a:ext cx="4681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internationale bedrijven spelen naast landen een belangrijke rol in d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drijven als Nike, Phillips, Toyota enz. noem je multinatio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achtige internationale bedr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kstvak 4"/>
          <p:cNvSpPr/>
          <p:nvPr/>
        </p:nvSpPr>
        <p:spPr>
          <a:xfrm>
            <a:off x="249120" y="2565360"/>
            <a:ext cx="498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beeld Nik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ke is van oorsprong een Amerikaans bedrij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kantoren staan in de VS.  Hier wordt alles geregeld (design, marketing, transport, inkoop materialen, enz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product wordt gemaakt in een land met de laagste productiekosten. Dit zijn de lagelonenlanden in Az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een ander land goedkoper is, verplaatst Nike de product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Afbeelding 11" descr="GEO_vm_3_bb_LB_AR_3_5_bron_3.JPG"/>
          <p:cNvPicPr/>
          <p:nvPr/>
        </p:nvPicPr>
        <p:blipFill>
          <a:blip r:embed="rId2"/>
          <a:stretch/>
        </p:blipFill>
        <p:spPr>
          <a:xfrm>
            <a:off x="5607000" y="3381480"/>
            <a:ext cx="430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249120" y="3778200"/>
            <a:ext cx="93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cacaoboeren hebben weinig invloed op de wereldhandel en d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om bestaat er tegenwoordig fair trade (= eerlijke hand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t is een initiatief van Max Havelaar, om de boeren een eerlij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ijs te betalen voor een eerlijk product (caca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kstvak 13"/>
          <p:cNvSpPr/>
          <p:nvPr/>
        </p:nvSpPr>
        <p:spPr>
          <a:xfrm>
            <a:off x="598320" y="3368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erlijke 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49120" y="5570640"/>
            <a:ext cx="79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ocoladefabrikanten die de cacaobonen fairtrade kopen, kunnen een keurmerk krijgen. Bijv. het Max Havelaarkeurme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ere keurmerken zijn er voor bedrijven die rekening houden met het milieu of met de kinderrech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13"/>
          <p:cNvSpPr/>
          <p:nvPr/>
        </p:nvSpPr>
        <p:spPr>
          <a:xfrm>
            <a:off x="598320" y="5149800"/>
            <a:ext cx="93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eurm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Afbeelding 9" descr="GEO_vm_3_bb_LB_AR_3_5_bron_6.JPG"/>
          <p:cNvPicPr/>
          <p:nvPr/>
        </p:nvPicPr>
        <p:blipFill>
          <a:blip r:embed="rId2"/>
          <a:stretch/>
        </p:blipFill>
        <p:spPr>
          <a:xfrm>
            <a:off x="5956200" y="987480"/>
            <a:ext cx="3952800" cy="279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bcamsterdam.files.wordpress.com/2012/05/fairtrade.jpg"/>
          <p:cNvPicPr/>
          <p:nvPr/>
        </p:nvPicPr>
        <p:blipFill>
          <a:blip r:embed="rId3"/>
          <a:stretch/>
        </p:blipFill>
        <p:spPr>
          <a:xfrm>
            <a:off x="8237520" y="4932360"/>
            <a:ext cx="1650960" cy="232884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13"/>
          <p:cNvSpPr/>
          <p:nvPr/>
        </p:nvSpPr>
        <p:spPr>
          <a:xfrm>
            <a:off x="598320" y="75564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401760" y="1217520"/>
            <a:ext cx="555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internationale cacaohandel hebben Europese en Amerikaanse bedrijven veel (alle)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caoboeren zijn afhankelijk van deze bedrijven en de boeren krijgen dus een lag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mdat in veel landen cacao wordt verbouwd, hebben de boeren geen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vak 4"/>
          <p:cNvSpPr/>
          <p:nvPr/>
        </p:nvSpPr>
        <p:spPr>
          <a:xfrm>
            <a:off x="289080" y="144936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erkoopt vooral olie aan de V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S verkoopt auto’s, benzine, machines en graan a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vak 13"/>
          <p:cNvSpPr/>
          <p:nvPr/>
        </p:nvSpPr>
        <p:spPr>
          <a:xfrm>
            <a:off x="281160" y="98748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andel tussen Nigeria en de V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49120" y="2682720"/>
            <a:ext cx="4672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bonden door olie en gr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en de VS hebben elkaar no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r dat is niet gelijkwaar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is meer afhankelijk van de VS dan dat de VS afhankelijk is v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Afbeelding 12" descr="Geo_vm_3_bb_LB_AR_3_5_bron_1.jpg"/>
          <p:cNvPicPr/>
          <p:nvPr/>
        </p:nvPicPr>
        <p:blipFill>
          <a:blip r:embed="rId2"/>
          <a:stretch/>
        </p:blipFill>
        <p:spPr>
          <a:xfrm>
            <a:off x="4610160" y="1449360"/>
            <a:ext cx="5298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49120" y="1671480"/>
            <a:ext cx="95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leven 155 miljoen mensen, één van de dichtstbevolkte landen van Afr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inwo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5"/>
          <p:cNvSpPr/>
          <p:nvPr/>
        </p:nvSpPr>
        <p:spPr>
          <a:xfrm>
            <a:off x="249120" y="223668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evolking is niet gelijkmatig verspre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zuiden is de bevolkingsdichtheid h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og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bestaat uit verschillende vol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15 cultuurgebi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500 verschillende 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(bijna) iedereen spreekt ook Eng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wee godsdiens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noorden wonen vooral mosl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zuiden wonen vooral christ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elmatig gewelddadige conflic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44" descr="GEO_vm_3_bb_LB_AR_3_1_2.jpg"/>
          <p:cNvPicPr/>
          <p:nvPr/>
        </p:nvPicPr>
        <p:blipFill>
          <a:blip r:embed="rId2"/>
          <a:stretch/>
        </p:blipFill>
        <p:spPr>
          <a:xfrm>
            <a:off x="5686560" y="2236680"/>
            <a:ext cx="40701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8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werd in 1960 onafhankelijk van Groot-Brittann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le stammen en volkeren vormden samen het land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ngelse kolo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4"/>
          <p:cNvSpPr/>
          <p:nvPr/>
        </p:nvSpPr>
        <p:spPr>
          <a:xfrm>
            <a:off x="249120" y="278928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lie is dé inkomstenbron van Nigeria (80% van het inkom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lie wordt gewonnen in de delta van de Ni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verheid verdienen de (buitenlandse) oliebedrijven veel geld aan de ol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13"/>
          <p:cNvSpPr/>
          <p:nvPr/>
        </p:nvSpPr>
        <p:spPr>
          <a:xfrm>
            <a:off x="598320" y="232740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ijk door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13"/>
          <p:cNvSpPr/>
          <p:nvPr/>
        </p:nvSpPr>
        <p:spPr>
          <a:xfrm>
            <a:off x="690480" y="41115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uitgang in Nig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10"/>
          <p:cNvSpPr/>
          <p:nvPr/>
        </p:nvSpPr>
        <p:spPr>
          <a:xfrm>
            <a:off x="806400" y="4573440"/>
            <a:ext cx="48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NP groeit met 10%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lie-industrie wil de Nigeriaanse regering andere industrieën stimu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computerindustrie is hiervan een goed voorbe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1" descr="GEO_vm_3_bb_LB_AR_3_1_4.jpg"/>
          <p:cNvPicPr/>
          <p:nvPr/>
        </p:nvPicPr>
        <p:blipFill>
          <a:blip r:embed="rId2"/>
          <a:stretch/>
        </p:blipFill>
        <p:spPr>
          <a:xfrm>
            <a:off x="5621400" y="416232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6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4"/>
          <p:cNvSpPr/>
          <p:nvPr/>
        </p:nvSpPr>
        <p:spPr>
          <a:xfrm>
            <a:off x="249120" y="154944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wel de regering veel geld verdient aan de oliewinning, leeft ruim de helft van d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in armoede. BNP/hoofd is ongeveer 2.100 dollar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ch een arme bevol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249120" y="2465280"/>
            <a:ext cx="965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or corruptie en slecht bestuur komt veel oliegeld terecht bij een kleine, rijke e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lft van de bevolking werkt in de landbou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zijn niet veel banen in de industrie en in de diensten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rijkste 10 % van de bevolking verdient de helft van al het g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verheid verdeelt de olie-inkomsten sle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onderwijs wordt te weinig geïnvestee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ge werkloosheid (&gt; 20%, en vooral jonger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gebrek aan werk ‘vluchten’ veel mensen naar de informele dienstensector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lucht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verbouwen van producten en het houden van vee is afhankelijk van het 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komen verschillende klimaten v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limaat en landbo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2"/>
          <p:cNvSpPr/>
          <p:nvPr/>
        </p:nvSpPr>
        <p:spPr>
          <a:xfrm>
            <a:off x="249120" y="2178000"/>
            <a:ext cx="656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zuiden van Nigeria ligt dicht bij de even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imaat: tropisch regenwoud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 van tropische producten, bijv. caca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grootse deel van het land kent het savann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: yams en cass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arnaast ook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uiterste noorden kent een stepp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hel (rand van de Saharawoestij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en (extensieve)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6" descr="GEO_vm_3_bb_LB_AR_3_2_2b.jpg"/>
          <p:cNvPicPr/>
          <p:nvPr/>
        </p:nvPicPr>
        <p:blipFill>
          <a:blip r:embed="rId2"/>
          <a:stretch/>
        </p:blipFill>
        <p:spPr>
          <a:xfrm>
            <a:off x="6810480" y="2021040"/>
            <a:ext cx="30985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Afbeelding 7" descr="GEO_vm_3_bb_LB_AR_3_2_1.jpg"/>
          <p:cNvPicPr/>
          <p:nvPr/>
        </p:nvPicPr>
        <p:blipFill>
          <a:blip r:embed="rId3"/>
          <a:stretch/>
        </p:blipFill>
        <p:spPr>
          <a:xfrm>
            <a:off x="6810480" y="4243320"/>
            <a:ext cx="312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grote delen van Nigeria (vooral savanne) kun je prima voedselgewassen verbouw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wordt minder voedsel verbouwd dan de Nigerianen nodig hebb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voor zijn een aantal rede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s er genoeg voeds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12"/>
          <p:cNvSpPr/>
          <p:nvPr/>
        </p:nvSpPr>
        <p:spPr>
          <a:xfrm>
            <a:off x="249120" y="2565360"/>
            <a:ext cx="9207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bedrijven zijn erg klein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weinig mechanisa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lage opbrengs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wei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landbou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 rampen (extreme droog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f geweld tussen groe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8" descr="Geo_vm_3_bb_LB_AR_3_2_4.jpg"/>
          <p:cNvPicPr/>
          <p:nvPr/>
        </p:nvPicPr>
        <p:blipFill>
          <a:blip r:embed="rId2"/>
          <a:stretch/>
        </p:blipFill>
        <p:spPr>
          <a:xfrm>
            <a:off x="4770360" y="3162240"/>
            <a:ext cx="5138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4"/>
          <p:cNvSpPr/>
          <p:nvPr/>
        </p:nvSpPr>
        <p:spPr>
          <a:xfrm>
            <a:off x="249120" y="144936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anks de import van voedingsgewassen is de voedselzekerheid nog steeds ni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arandeerd. 60% van de bevolking heeft wel eens hon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komen twee soorten honger voor in Nige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12"/>
          <p:cNvSpPr/>
          <p:nvPr/>
        </p:nvSpPr>
        <p:spPr>
          <a:xfrm>
            <a:off x="249120" y="2948040"/>
            <a:ext cx="641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ntitatieve honger: je krijgt te weinig voedsel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. Hierdoor heb je te weinig energie om t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en of te 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litatieve honger: je krijgt wel voldoende energi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, maar de opbouw van je voedsel is eenzij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krijgt bijv. te weinig eiwitten en vitamines bin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bent ondervoed. Je wordt sneller zi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7" descr="GEO_vm_3_bb_LB_AR_3_2_2a.jpg"/>
          <p:cNvPicPr/>
          <p:nvPr/>
        </p:nvPicPr>
        <p:blipFill>
          <a:blip r:embed="rId2"/>
          <a:stretch/>
        </p:blipFill>
        <p:spPr>
          <a:xfrm>
            <a:off x="6888240" y="2327400"/>
            <a:ext cx="3020760" cy="45608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9" descr="Geo_vm_3_bb_LB_AR_3_2_3.jpg"/>
          <p:cNvPicPr/>
          <p:nvPr/>
        </p:nvPicPr>
        <p:blipFill>
          <a:blip r:embed="rId3"/>
          <a:stretch/>
        </p:blipFill>
        <p:spPr>
          <a:xfrm>
            <a:off x="1177920" y="5583240"/>
            <a:ext cx="2187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4"/>
          <p:cNvSpPr/>
          <p:nvPr/>
        </p:nvSpPr>
        <p:spPr>
          <a:xfrm>
            <a:off x="249120" y="130320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oorstander van vrij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598320" y="8431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rije wereld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12"/>
          <p:cNvSpPr/>
          <p:nvPr/>
        </p:nvSpPr>
        <p:spPr>
          <a:xfrm>
            <a:off x="249120" y="170352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handelsbelemmeringen, dus ge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lasting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geïmporteerde goed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13"/>
          <p:cNvSpPr/>
          <p:nvPr/>
        </p:nvSpPr>
        <p:spPr>
          <a:xfrm>
            <a:off x="773280" y="251460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249120" y="29764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een aantal voordelen 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249120" y="337644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zelf makkelijk exporteren (bijv. aardol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12"/>
          <p:cNvSpPr/>
          <p:nvPr/>
        </p:nvSpPr>
        <p:spPr>
          <a:xfrm>
            <a:off x="249120" y="371808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kunnen handelsgewassen exporteren (bijv. cacao, palmolie en rubb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12"/>
          <p:cNvSpPr/>
          <p:nvPr/>
        </p:nvSpPr>
        <p:spPr>
          <a:xfrm>
            <a:off x="249120" y="408456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makkelijk importeren (bijv. graan uit de V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13"/>
          <p:cNvSpPr/>
          <p:nvPr/>
        </p:nvSpPr>
        <p:spPr>
          <a:xfrm>
            <a:off x="773280" y="4640400"/>
            <a:ext cx="92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249120" y="510048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ook een nade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12"/>
          <p:cNvSpPr/>
          <p:nvPr/>
        </p:nvSpPr>
        <p:spPr>
          <a:xfrm>
            <a:off x="249120" y="580860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import van voedsel zie je dat er verdri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n de eigen voedselproductie plaatsvind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fbeelding 16" descr="GEO_vm_3_bb_LB_AR_3_3_4.jpg"/>
          <p:cNvPicPr/>
          <p:nvPr/>
        </p:nvPicPr>
        <p:blipFill>
          <a:blip r:embed="rId2"/>
          <a:stretch/>
        </p:blipFill>
        <p:spPr>
          <a:xfrm>
            <a:off x="5951520" y="1082520"/>
            <a:ext cx="3957480" cy="189396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17" descr="GEO_vm_3_bb_LB_AR_3_3_1.jpg"/>
          <p:cNvPicPr/>
          <p:nvPr/>
        </p:nvPicPr>
        <p:blipFill>
          <a:blip r:embed="rId3"/>
          <a:stretch/>
        </p:blipFill>
        <p:spPr>
          <a:xfrm>
            <a:off x="6424560" y="4491000"/>
            <a:ext cx="3484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 komt het dat het voedsel uit het buitenland goedkoper is dan voedsel uit Nige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oedkoop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12"/>
          <p:cNvSpPr/>
          <p:nvPr/>
        </p:nvSpPr>
        <p:spPr>
          <a:xfrm>
            <a:off x="249120" y="184932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edseloverschotten in andere landen zorgen voor een lage prijs op de wereld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dumping)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12"/>
          <p:cNvSpPr/>
          <p:nvPr/>
        </p:nvSpPr>
        <p:spPr>
          <a:xfrm>
            <a:off x="249120" y="255744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VS en EU hebben grote bedrijven en machines. Hierdoor kunnen z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oedkoop produc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kstvak 12"/>
          <p:cNvSpPr/>
          <p:nvPr/>
        </p:nvSpPr>
        <p:spPr>
          <a:xfrm>
            <a:off x="249120" y="329076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de VS en EU krijgen steun van de reg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eger exportsubsidies, nu steun voor nieuwe mach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2"/>
          <p:cNvSpPr/>
          <p:nvPr/>
        </p:nvSpPr>
        <p:spPr>
          <a:xfrm>
            <a:off x="249120" y="4444920"/>
            <a:ext cx="593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goedkoop voedsel ink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unstig voor de consument (goedkoop voeds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gunstig voor de bo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maakt Nigeria afhankelijk van het buitenlan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t is niet gunsti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17" descr="GEO_vm_3_bb_LB_AR_3_3_3.jpg"/>
          <p:cNvPicPr/>
          <p:nvPr/>
        </p:nvPicPr>
        <p:blipFill>
          <a:blip r:embed="rId2"/>
          <a:stretch/>
        </p:blipFill>
        <p:spPr>
          <a:xfrm>
            <a:off x="6184800" y="3987720"/>
            <a:ext cx="3724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5:35:07Z</dcterms:created>
  <dc:creator>Gebruiker Office 2004 Test Drive</dc:creator>
  <dc:description/>
  <dc:language>en-US</dc:language>
  <cp:lastModifiedBy>Mariët Bosschers</cp:lastModifiedBy>
  <dcterms:modified xsi:type="dcterms:W3CDTF">2013-06-12T12:34:16Z</dcterms:modified>
  <cp:revision>118</cp:revision>
  <dc:subject/>
  <dc:title>PowerPoint-presentatie</dc:title>
</cp:coreProperties>
</file>