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152063" cy="75993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760" y="685440"/>
            <a:ext cx="4578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ABF58C47-AE7F-4F3A-ABCD-41609F73E0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: het aantal jaren dat je waarschijnlijk nog te leven heb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Normaal is deze laag in landen met oorlog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Ga in op het verschil tussen het sterftecijfer en de zuigelingensterfte. En ook op het begrip “per 1000 inwoners / promil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uigelingensterfte: het aantal kinderen dat sterft voordat ze 1 jaar zijn, per 1000 geboorten (promille 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indexmundi.com 1-1-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vensverwac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0.9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78.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50.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rftecij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S: 8,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geria: 13,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44AC1923-D8E9-4400-B0C8-F7BF5BA7A4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rtsendichtheid: het aantal inwoners dat afhankelijk is van één 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1B10B07B-9035-4FC9-8BD0-FC01F6BA8A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BAB7D4EA-E9DB-431F-B0EE-C7EC89A91C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ultinational: bedrijf met vestigingen in verschillende landen. Hoofdkantoor vaak in een westers land (VS, EU, Japan) en fabricage in lagelonenland (Ch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oductiekosten: arbeidskosten en andere kosten die gemaakt worden om een product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0307C99-7DA4-41D4-85B3-0D8B5B462F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air trade: een vorm van handel waarbij boeren een eerlijke en hogere prijs voor hun producten krij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eurmerk: een bewijs dat een bedrijf rekening houdt met de lonen van de werknemers, het milieu en/of de kinderrech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inderrechten: rechten van kinderen over de hele wereld, zoals het recht op leven en op onderwijs. Ook mogen kinderen geen werk doen dat gevaarlijk of schadelijk voor hun gezondhei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9C12813D-58AF-46A8-AFCC-3261F459A7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de afhankelijkheid van Nigeria van de olie-export en de graanimport door in de figuur de percentages van de handel met elkaar te vergelij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oor deze scheve verhoudingen dreigt het gevaar van ruilvoetverslechtering voor Niger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8434EDA6-6CB5-436D-ADAE-D3F07755CC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CDB4079D-51C1-4444-9751-5145C281EA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D968D088-BDBF-4798-BDD2-AC3E222F7F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ruto Nationaal Product per hoofd van de bevolking: de waarde van alle goederen en diensten die in een land worden gemaakt gedurende één jaar gedeeld door het inwoneraa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gelijking BNP/hoofd in Nederland (zie ook hoofdstuk 2) ongeveer 48.000 dol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luchtsector: ongeschoold, slecht betaald en tijdelijk werk in de dienstensector. Bij gebrek aan beter werk zijn de mensen naar dit deel van de dienstensector gevluc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A2FC1DA3-E915-4F72-8BB6-B09FF33B3B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ropisch regenwoudklimaat: tropisch klimaat, altijd warm, hele jaar re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vanneklimaat: tropisch klimaat met een droge peri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ahel: de steppe aan de rand van de Saharawoest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ppeklimaat: Een droog klimaat. De regenval beperkt zich vaak tot een beperkt aantal maanden bijv. 3 of 4  en deze periode valt er een geringe hoeveelheid neerslag &lt; 250 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1A3E3659-A177-4D0D-BAA8-944EBF9FCC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gewassen: gewassen die verbouwd worden om de eigen bevolking te vo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guur laat een structureel tekort aan voedsel z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eren die vluchten voor geweld tussen geloofsgroepen, kunnen hun land niet bewerken waardoor er geen/veel minder geoogs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54716D47-1421-491F-A7C2-42B196EAB0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voorziening: de hoeveelheid voedsel die beschikbaar is voor de bevolking van een 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edselzekerheid: de zekerheid dat er voldoende voedsel is en dat dit voedsel van voldoende kwalite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ntitatieve honger: mensen hebben te weinig voedsel en krijgen te weinig energie bin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walitatieve honger: mensen hebben te weinig voedsel en krijgen te weinig bouwstoffen en beschermende stoffen binnen (eiwitten, vitamines en minerale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voed: te weinig voedsel van goede kwalite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FC7F0A11-0F97-4C82-896B-3A7B0ECFEA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rije wereldhandel: een handelssysteem waarbij alle landen in de wereld met elkaar handel kunnen drijven, zonder dat ze elkaar daarin belemm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elsgewassen: gewassen die verbouwd worden voor de ex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dringing van eigen voedselproductie: als geïmporteerde voedsel goedkoper is dan voedsel dat in het eigen land wordt gemaakt. Binnenlandse boeren kunnen hun voedsel niet meer verkopen en gaan failli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 is het voedsel hierdoor goedkoper voor de bevolking. Dat is een voorde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F7DAD4B1-88A8-45AE-A438-5ECAB4CC04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84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xportsubsidies: geld dat landen aan hun boeren geven om hun producten aan het buitenland te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umping: meer produceren dan nodig is en dan de overschotten voor een lage prijs op de wereldmarkt verko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guur 10 in het lesboek (pagina 35) laat de eenzijdigheid van de export van Nigeria duidelijk zien. Deze afhankelijkheid heeft veel nadelen. Laat leerlingen bedenken wat de nadelen zij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E4E93BE1-6C33-4BC5-9FF8-A731594FFD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E28-8FE6-419C-A0E3-36A95440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A3B-9E75-4437-9405-7804DF25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79F-F4D2-4602-B93C-B5A9CFE3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676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5200" y="177336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676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5200" y="4392720"/>
            <a:ext cx="294120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383-F61E-4E3F-950A-EC458901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2B2-F07F-424E-BADE-93F04870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616-ECE7-4F50-9F50-E15C4E17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6DB-CB31-47EE-B0E4-4048C431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FB4-CA52-4AF8-B56E-C1129748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4560"/>
            <a:ext cx="91346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50B-D2AE-44C0-AB11-C870A23D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566C-688A-4400-8A13-9BFF8EBA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8680" y="439272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FFF-5CE7-4283-8618-A0A7899A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8680" y="1773360"/>
            <a:ext cx="445752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392720"/>
            <a:ext cx="9134640" cy="239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705-152C-4427-AB02-901CC0CD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4560"/>
            <a:ext cx="9134640" cy="126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73360"/>
            <a:ext cx="9134640" cy="5014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3160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6684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7480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8132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600" y="7043760"/>
            <a:ext cx="236844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7043760"/>
            <a:ext cx="32133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7043760"/>
            <a:ext cx="2368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  <a:defRPr b="0" lang="nl-NL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fld id="{7C5E4A7B-0AAA-45C9-9031-BC934A5D405D}" type="slidenum">
              <a:rPr b="0" lang="nl-NL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geo_ppt_800x600_vmbo bb 5.pdf"/>
          <p:cNvPicPr/>
          <p:nvPr/>
        </p:nvPicPr>
        <p:blipFill>
          <a:blip r:embed="rId1"/>
          <a:stretch/>
        </p:blipFill>
        <p:spPr>
          <a:xfrm>
            <a:off x="0" y="0"/>
            <a:ext cx="101887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3400" y="2677680"/>
            <a:ext cx="8628120" cy="1629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4900" spc="-1" strike="noStrike">
                <a:solidFill>
                  <a:srgbClr val="000000"/>
                </a:solidFill>
                <a:latin typeface="Calibri"/>
              </a:rPr>
              <a:t>Arm en Rijk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440" y="4306680"/>
            <a:ext cx="7105680" cy="1941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Hoofdstuk 3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3500" spc="-1" strike="noStrike">
                <a:solidFill>
                  <a:srgbClr val="898989"/>
                </a:solidFill>
                <a:latin typeface="Calibri"/>
              </a:rPr>
              <a:t>Arm en rijk in Nigeri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1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toestand in Nigeria is niet go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middelde levensverwachting: 48 jaar en sterftecijfer: 16 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gezondhe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kstvak 12"/>
          <p:cNvSpPr/>
          <p:nvPr/>
        </p:nvSpPr>
        <p:spPr>
          <a:xfrm>
            <a:off x="249120" y="279576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opische ziektes, zoals mal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te arm om zich goed te beschermen tegen besmettelijke ziekten. Ook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schoon drinkwater en sanitaire voorziening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mensen met hiv/aids (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inig baby's ingeënt in het eerste levens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door zuigelingensterfte van 75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kstvak 13"/>
          <p:cNvSpPr/>
          <p:nvPr/>
        </p:nvSpPr>
        <p:spPr>
          <a:xfrm>
            <a:off x="598320" y="2333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ziek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kstvak 4"/>
          <p:cNvSpPr/>
          <p:nvPr/>
        </p:nvSpPr>
        <p:spPr>
          <a:xfrm>
            <a:off x="249120" y="27496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evensverwachting laag en sterftecijfer hoog. Dit komt o.a. do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Afbeelding 1" descr=""/>
          <p:cNvPicPr/>
          <p:nvPr/>
        </p:nvPicPr>
        <p:blipFill>
          <a:blip r:embed="rId2"/>
          <a:stretch/>
        </p:blipFill>
        <p:spPr>
          <a:xfrm>
            <a:off x="6316560" y="3867120"/>
            <a:ext cx="3121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2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zondheidszorg schiet teko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echte 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kstvak 12"/>
          <p:cNvSpPr/>
          <p:nvPr/>
        </p:nvSpPr>
        <p:spPr>
          <a:xfrm>
            <a:off x="249120" y="1849320"/>
            <a:ext cx="943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rtsendichtheid is te laag (1 arts per 2500 inwo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e weinig artsen en ook een oneerlijke verdeling over het 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ekenhuizen onvoldoende uitgerust, artsen verdienen weinig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artsen gaan naar het buiten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te weinig in de gezondheidszorg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598320" y="35686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egionale verschi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kstvak 4"/>
          <p:cNvSpPr/>
          <p:nvPr/>
        </p:nvSpPr>
        <p:spPr>
          <a:xfrm>
            <a:off x="249120" y="40305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verschillen tussen noorden en zuid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noorden gaat het slech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kstvak 12"/>
          <p:cNvSpPr/>
          <p:nvPr/>
        </p:nvSpPr>
        <p:spPr>
          <a:xfrm>
            <a:off x="314280" y="4738680"/>
            <a:ext cx="95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er armoede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inder gezondheidsvoorzieningen in het no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kstvak 2"/>
          <p:cNvSpPr/>
          <p:nvPr/>
        </p:nvSpPr>
        <p:spPr>
          <a:xfrm>
            <a:off x="249120" y="5554800"/>
            <a:ext cx="59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ok grote verschillen tussen stad en platte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Afbeelding 15" descr="GEO_vm_3_bb_LB_AR_3_4_4.jpg"/>
          <p:cNvPicPr/>
          <p:nvPr/>
        </p:nvPicPr>
        <p:blipFill>
          <a:blip r:embed="rId2"/>
          <a:stretch/>
        </p:blipFill>
        <p:spPr>
          <a:xfrm>
            <a:off x="6537240" y="3330720"/>
            <a:ext cx="337176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34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4 Gezondheid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onwetendheid rondom gezondheidszo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lichting en onderwijs zijn daarom erg belangrij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ezondheid, onderwijs en 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kstvak 12"/>
          <p:cNvSpPr/>
          <p:nvPr/>
        </p:nvSpPr>
        <p:spPr>
          <a:xfrm>
            <a:off x="249120" y="2157480"/>
            <a:ext cx="9436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enselijke ontwikkeling is te meten met de HDI (Human Development Index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ze index houden ze o.a. rekening m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de kwaliteit van het onderwi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gezondheid van de men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Bruto Nationa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scoort niet goe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ntwikkeling is te la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Afbeelding 16" descr="GEO_vm_3_bb_LB_AR_3_4_2.jpg"/>
          <p:cNvPicPr/>
          <p:nvPr/>
        </p:nvPicPr>
        <p:blipFill>
          <a:blip r:embed="rId2"/>
          <a:stretch/>
        </p:blipFill>
        <p:spPr>
          <a:xfrm>
            <a:off x="5075280" y="3416400"/>
            <a:ext cx="4681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0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kstvak 4"/>
          <p:cNvSpPr/>
          <p:nvPr/>
        </p:nvSpPr>
        <p:spPr>
          <a:xfrm>
            <a:off x="249120" y="144936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internationale bedrijven spelen naast landen een belangrijke rol in d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drijven als Nike, Phillips, Toyota enz. noem je multination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achtige internationale bedr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kstvak 4"/>
          <p:cNvSpPr/>
          <p:nvPr/>
        </p:nvSpPr>
        <p:spPr>
          <a:xfrm>
            <a:off x="249120" y="2565360"/>
            <a:ext cx="4984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beeld Nik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ke is van oorsprong een Amerikaans bedrij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kantoren staan in de VS.  Hier wordt alles geregeld (design, marketing, transport, inkoop materialen, enz.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product wordt gemaakt in een land met de laagste productiekosten. Dit zijn de lagelonenlanden in Az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s een ander land goedkoper is, verplaatst Nike de product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Afbeelding 11" descr="GEO_vm_3_bb_LB_AR_3_5_bron_3.JPG"/>
          <p:cNvPicPr/>
          <p:nvPr/>
        </p:nvPicPr>
        <p:blipFill>
          <a:blip r:embed="rId2"/>
          <a:stretch/>
        </p:blipFill>
        <p:spPr>
          <a:xfrm>
            <a:off x="5607000" y="3381480"/>
            <a:ext cx="430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4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kstvak 4"/>
          <p:cNvSpPr/>
          <p:nvPr/>
        </p:nvSpPr>
        <p:spPr>
          <a:xfrm>
            <a:off x="249120" y="3778200"/>
            <a:ext cx="936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el cacaoboeren hebben weinig invloed op de wereldhandel en d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aarom bestaat er tegenwoordig fair trade (= eerlijke hand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t is een initiatief van Max Havelaar, om de boeren een eerlij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rijs te betalen voor een eerlijk product (caca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kstvak 13"/>
          <p:cNvSpPr/>
          <p:nvPr/>
        </p:nvSpPr>
        <p:spPr>
          <a:xfrm>
            <a:off x="598320" y="33685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erlijke 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kstvak 4"/>
          <p:cNvSpPr/>
          <p:nvPr/>
        </p:nvSpPr>
        <p:spPr>
          <a:xfrm>
            <a:off x="249120" y="5570640"/>
            <a:ext cx="79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hocoladefabrikanten die de cacaobonen fairtrade kopen, kunnen een keurmerk krijgen. Bijv. het Max Havelaarkeurme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ndere keurmerken zijn er voor bedrijven die rekening houden met het milieu of met de kinderrech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kstvak 13"/>
          <p:cNvSpPr/>
          <p:nvPr/>
        </p:nvSpPr>
        <p:spPr>
          <a:xfrm>
            <a:off x="598320" y="5149800"/>
            <a:ext cx="93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eurm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Afbeelding 9" descr="GEO_vm_3_bb_LB_AR_3_5_bron_6.JPG"/>
          <p:cNvPicPr/>
          <p:nvPr/>
        </p:nvPicPr>
        <p:blipFill>
          <a:blip r:embed="rId2"/>
          <a:stretch/>
        </p:blipFill>
        <p:spPr>
          <a:xfrm>
            <a:off x="5956200" y="987480"/>
            <a:ext cx="3952800" cy="279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abcamsterdam.files.wordpress.com/2012/05/fairtrade.jpg"/>
          <p:cNvPicPr/>
          <p:nvPr/>
        </p:nvPicPr>
        <p:blipFill>
          <a:blip r:embed="rId3"/>
          <a:stretch/>
        </p:blipFill>
        <p:spPr>
          <a:xfrm>
            <a:off x="8237520" y="4932360"/>
            <a:ext cx="1650960" cy="2328840"/>
          </a:xfrm>
          <a:prstGeom prst="rect">
            <a:avLst/>
          </a:prstGeom>
          <a:ln w="0">
            <a:noFill/>
          </a:ln>
        </p:spPr>
      </p:pic>
      <p:sp>
        <p:nvSpPr>
          <p:cNvPr id="153" name="Tekstvak 13"/>
          <p:cNvSpPr/>
          <p:nvPr/>
        </p:nvSpPr>
        <p:spPr>
          <a:xfrm>
            <a:off x="598320" y="75564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Cac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kstvak 4"/>
          <p:cNvSpPr/>
          <p:nvPr/>
        </p:nvSpPr>
        <p:spPr>
          <a:xfrm>
            <a:off x="401760" y="1217520"/>
            <a:ext cx="5554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internationale cacaohandel hebben Europese en Amerikaanse bedrijven veel (alle)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caoboeren zijn afhankelijk van deze bedrijven en de boeren krijgen dus een lage prij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mdat in veel landen cacao wordt verbouwd, hebben de boeren geen ma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5 Bronnen: Nigeria en de VS in de wer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kstvak 4"/>
          <p:cNvSpPr/>
          <p:nvPr/>
        </p:nvSpPr>
        <p:spPr>
          <a:xfrm>
            <a:off x="289080" y="1449360"/>
            <a:ext cx="41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erkoopt vooral olie aan de V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S verkoopt auto’s, benzine, machines en graan a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kstvak 13"/>
          <p:cNvSpPr/>
          <p:nvPr/>
        </p:nvSpPr>
        <p:spPr>
          <a:xfrm>
            <a:off x="281160" y="98748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andel tussen Nigeria en de V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kstvak 4"/>
          <p:cNvSpPr/>
          <p:nvPr/>
        </p:nvSpPr>
        <p:spPr>
          <a:xfrm>
            <a:off x="249120" y="2682720"/>
            <a:ext cx="46720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bonden door olie en gr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en de VS hebben elkaar no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Maar dat is niet gelijkwaar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is meer afhankelijk van de VS dan dat de VS afhankelijk is van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Afbeelding 12" descr="Geo_vm_3_bb_LB_AR_3_5_bron_1.jpg"/>
          <p:cNvPicPr/>
          <p:nvPr/>
        </p:nvPicPr>
        <p:blipFill>
          <a:blip r:embed="rId2"/>
          <a:stretch/>
        </p:blipFill>
        <p:spPr>
          <a:xfrm>
            <a:off x="4610160" y="1449360"/>
            <a:ext cx="529884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49120" y="1671480"/>
            <a:ext cx="95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leven 155 miljoen mensen, één van de dichtstbevolkte landen van Afri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el verschillende inwo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kstvak 5"/>
          <p:cNvSpPr/>
          <p:nvPr/>
        </p:nvSpPr>
        <p:spPr>
          <a:xfrm>
            <a:off x="249120" y="2236680"/>
            <a:ext cx="5237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evolking is niet gelijkmatig verspre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zuiden is de bevolkingsdichtheid h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og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bestaat uit verschillende volk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15 cultuurgebied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500 verschillende 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(bijna) iedereen spreekt ook Eng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wee godsdiens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noorden wonen vooral mosl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- in het zuiden wonen vooral christen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elmatig gewelddadige conflic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Afbeelding 44" descr="GEO_vm_3_bb_LB_AR_3_1_2.jpg"/>
          <p:cNvPicPr/>
          <p:nvPr/>
        </p:nvPicPr>
        <p:blipFill>
          <a:blip r:embed="rId2"/>
          <a:stretch/>
        </p:blipFill>
        <p:spPr>
          <a:xfrm>
            <a:off x="5686560" y="2236680"/>
            <a:ext cx="40701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58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werd in 1960 onafhankelijk van Groot-Brittannië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vele stammen en volkeren vormden samen het land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Engelse kolo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kstvak 4"/>
          <p:cNvSpPr/>
          <p:nvPr/>
        </p:nvSpPr>
        <p:spPr>
          <a:xfrm>
            <a:off x="249120" y="278928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lie is dé inkomstenbron van Nigeria (80% van het inkom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lie wordt gewonnen in de delta van de Ni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verheid verdienen de (buitenlandse) oliebedrijven veel geld aan de ol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kstvak 13"/>
          <p:cNvSpPr/>
          <p:nvPr/>
        </p:nvSpPr>
        <p:spPr>
          <a:xfrm>
            <a:off x="598320" y="232740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Rijk door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kstvak 13"/>
          <p:cNvSpPr/>
          <p:nvPr/>
        </p:nvSpPr>
        <p:spPr>
          <a:xfrm>
            <a:off x="690480" y="411156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uitgang in Nig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10"/>
          <p:cNvSpPr/>
          <p:nvPr/>
        </p:nvSpPr>
        <p:spPr>
          <a:xfrm>
            <a:off x="806400" y="4573440"/>
            <a:ext cx="481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NP groeit met 10%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st de olie-industrie wil de Nigeriaanse regering andere industrieën stimu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computerindustrie is hiervan een goed voorbe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1" descr="GEO_vm_3_bb_LB_AR_3_1_4.jpg"/>
          <p:cNvPicPr/>
          <p:nvPr/>
        </p:nvPicPr>
        <p:blipFill>
          <a:blip r:embed="rId2"/>
          <a:stretch/>
        </p:blipFill>
        <p:spPr>
          <a:xfrm>
            <a:off x="5621400" y="4162320"/>
            <a:ext cx="41353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6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1 Bevolking en welvaart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4"/>
          <p:cNvSpPr/>
          <p:nvPr/>
        </p:nvSpPr>
        <p:spPr>
          <a:xfrm>
            <a:off x="249120" y="154944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wel de regering veel geld verdient aan de oliewinning, leeft ruim de helft van d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volking in armoede. BNP/hoofd is ongeveer 2.100 dollar per j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ch een arme bevol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249120" y="2465280"/>
            <a:ext cx="9659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or corruptie en slecht bestuur komt veel oliegeld terecht bij een kleine, rijke eli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lft van de bevolking werkt in de landbou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zijn niet veel banen in de industrie en in de diensten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rijkste 10 % van de bevolking verdient de helft van al het g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overheid verdeelt de olie-inkomsten sle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het onderwijs wordt te weinig geïnvestee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ge werkloosheid (&gt; 20%, en vooral jongere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gebrek aan werk ‘vluchten’ veel mensen naar de informele dienstensector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luchtsec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verbouwen van producten en het houden van vee is afhankelijk van het 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Nigeria komen verschillende klimaten vo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Klimaat en landbo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2"/>
          <p:cNvSpPr/>
          <p:nvPr/>
        </p:nvSpPr>
        <p:spPr>
          <a:xfrm>
            <a:off x="249120" y="2178000"/>
            <a:ext cx="6561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zuiden van Nigeria ligt dicht bij de evena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imaat: tropisch regenwoud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 van tropische producten, bijv. caca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grootse deel van het land kent het savann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kkerbouw: yams en cass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arnaast ook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uiterste noorden kent een steppeklima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ahel (rand van de Saharawoestij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lleen (extensieve) veeteel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Afbeelding 6" descr="GEO_vm_3_bb_LB_AR_3_2_2b.jpg"/>
          <p:cNvPicPr/>
          <p:nvPr/>
        </p:nvPicPr>
        <p:blipFill>
          <a:blip r:embed="rId2"/>
          <a:stretch/>
        </p:blipFill>
        <p:spPr>
          <a:xfrm>
            <a:off x="6810480" y="2021040"/>
            <a:ext cx="3098520" cy="2082600"/>
          </a:xfrm>
          <a:prstGeom prst="rect">
            <a:avLst/>
          </a:prstGeom>
          <a:ln w="0">
            <a:noFill/>
          </a:ln>
        </p:spPr>
      </p:pic>
      <p:pic>
        <p:nvPicPr>
          <p:cNvPr id="77" name="Afbeelding 7" descr="GEO_vm_3_bb_LB_AR_3_2_1.jpg"/>
          <p:cNvPicPr/>
          <p:nvPr/>
        </p:nvPicPr>
        <p:blipFill>
          <a:blip r:embed="rId3"/>
          <a:stretch/>
        </p:blipFill>
        <p:spPr>
          <a:xfrm>
            <a:off x="6810480" y="4243320"/>
            <a:ext cx="312084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kstvak 4"/>
          <p:cNvSpPr/>
          <p:nvPr/>
        </p:nvSpPr>
        <p:spPr>
          <a:xfrm>
            <a:off x="249120" y="1449360"/>
            <a:ext cx="965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grote delen van Nigeria (vooral savanne) kun je prima voedselgewassen verbouw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wordt minder voedsel verbouwd dan de Nigerianen nodig hebb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iervoor zijn een aantal rede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s er genoeg voeds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kstvak 12"/>
          <p:cNvSpPr/>
          <p:nvPr/>
        </p:nvSpPr>
        <p:spPr>
          <a:xfrm>
            <a:off x="249120" y="2565360"/>
            <a:ext cx="9207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bedrijven zijn erg klein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weinig mechanisa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lage opbrengst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verheid investeert wei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de landbou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oms rampen (extreme droogt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f geweld tussen groe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Afbeelding 8" descr="Geo_vm_3_bb_LB_AR_3_2_4.jpg"/>
          <p:cNvPicPr/>
          <p:nvPr/>
        </p:nvPicPr>
        <p:blipFill>
          <a:blip r:embed="rId2"/>
          <a:stretch/>
        </p:blipFill>
        <p:spPr>
          <a:xfrm>
            <a:off x="4770360" y="3162240"/>
            <a:ext cx="513864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85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2 Voedselvoorziening in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kstvak 4"/>
          <p:cNvSpPr/>
          <p:nvPr/>
        </p:nvSpPr>
        <p:spPr>
          <a:xfrm>
            <a:off x="249120" y="1449360"/>
            <a:ext cx="965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anks de import van voedingsgewassen is de voedselzekerheid nog steeds nie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arandeerd. 60% van de bevolking heeft wel eens hong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r komen twee soorten honger voor in Niger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kstvak 12"/>
          <p:cNvSpPr/>
          <p:nvPr/>
        </p:nvSpPr>
        <p:spPr>
          <a:xfrm>
            <a:off x="249120" y="2948040"/>
            <a:ext cx="6416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ntitatieve honger: je krijgt te weinig voedsel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. Hierdoor heb je te weinig energie om t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rken of te l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walitatieve honger: je krijgt wel voldoende energi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nnen, maar de opbouw van je voedsel is eenzijdi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krijgt bijv. te weinig eiwitten en vitamines binn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Je bent ondervoed. Je wordt sneller zi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7" descr="GEO_vm_3_bb_LB_AR_3_2_2a.jpg"/>
          <p:cNvPicPr/>
          <p:nvPr/>
        </p:nvPicPr>
        <p:blipFill>
          <a:blip r:embed="rId2"/>
          <a:stretch/>
        </p:blipFill>
        <p:spPr>
          <a:xfrm>
            <a:off x="6888240" y="2327400"/>
            <a:ext cx="3020760" cy="45608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9" descr="Geo_vm_3_bb_LB_AR_3_2_3.jpg"/>
          <p:cNvPicPr/>
          <p:nvPr/>
        </p:nvPicPr>
        <p:blipFill>
          <a:blip r:embed="rId3"/>
          <a:stretch/>
        </p:blipFill>
        <p:spPr>
          <a:xfrm>
            <a:off x="1177920" y="5583240"/>
            <a:ext cx="21877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92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kstvak 4"/>
          <p:cNvSpPr/>
          <p:nvPr/>
        </p:nvSpPr>
        <p:spPr>
          <a:xfrm>
            <a:off x="249120" y="130320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voorstander van vrije wereldhande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598320" y="84312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rije wereld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kstvak 12"/>
          <p:cNvSpPr/>
          <p:nvPr/>
        </p:nvSpPr>
        <p:spPr>
          <a:xfrm>
            <a:off x="249120" y="170352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en handelsbelemmeringen, dus ge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elasting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p geïmporteerde goed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kstvak 13"/>
          <p:cNvSpPr/>
          <p:nvPr/>
        </p:nvSpPr>
        <p:spPr>
          <a:xfrm>
            <a:off x="773280" y="2514600"/>
            <a:ext cx="95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or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4"/>
          <p:cNvSpPr/>
          <p:nvPr/>
        </p:nvSpPr>
        <p:spPr>
          <a:xfrm>
            <a:off x="249120" y="297648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een aantal voordelen 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249120" y="337644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zelf makkelijk exporteren (bijv. aardoli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kstvak 12"/>
          <p:cNvSpPr/>
          <p:nvPr/>
        </p:nvSpPr>
        <p:spPr>
          <a:xfrm>
            <a:off x="249120" y="371808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kunnen handelsgewassen exporteren (bijv. cacao, palmolie en rubb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kstvak 12"/>
          <p:cNvSpPr/>
          <p:nvPr/>
        </p:nvSpPr>
        <p:spPr>
          <a:xfrm>
            <a:off x="249120" y="408456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makkelijk importeren (bijv. graan uit de V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kstvak 13"/>
          <p:cNvSpPr/>
          <p:nvPr/>
        </p:nvSpPr>
        <p:spPr>
          <a:xfrm>
            <a:off x="773280" y="4640400"/>
            <a:ext cx="92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delen van vrijhan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kstvak 4"/>
          <p:cNvSpPr/>
          <p:nvPr/>
        </p:nvSpPr>
        <p:spPr>
          <a:xfrm>
            <a:off x="249120" y="5100480"/>
            <a:ext cx="965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ije wereldhandel heeft ook een nadee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or Nige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kstvak 12"/>
          <p:cNvSpPr/>
          <p:nvPr/>
        </p:nvSpPr>
        <p:spPr>
          <a:xfrm>
            <a:off x="249120" y="580860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 de import van voedsel zie je dat er verdring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an de eigen voedselproductie plaatsvind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Afbeelding 16" descr="GEO_vm_3_bb_LB_AR_3_3_4.jpg"/>
          <p:cNvPicPr/>
          <p:nvPr/>
        </p:nvPicPr>
        <p:blipFill>
          <a:blip r:embed="rId2"/>
          <a:stretch/>
        </p:blipFill>
        <p:spPr>
          <a:xfrm>
            <a:off x="5951520" y="1082520"/>
            <a:ext cx="3957480" cy="1893960"/>
          </a:xfrm>
          <a:prstGeom prst="rect">
            <a:avLst/>
          </a:prstGeom>
          <a:ln w="0">
            <a:noFill/>
          </a:ln>
        </p:spPr>
      </p:pic>
      <p:pic>
        <p:nvPicPr>
          <p:cNvPr id="105" name="Afbeelding 17" descr="GEO_vm_3_bb_LB_AR_3_3_1.jpg"/>
          <p:cNvPicPr/>
          <p:nvPr/>
        </p:nvPicPr>
        <p:blipFill>
          <a:blip r:embed="rId3"/>
          <a:stretch/>
        </p:blipFill>
        <p:spPr>
          <a:xfrm>
            <a:off x="6424560" y="4491000"/>
            <a:ext cx="3484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5" descr="geo_ppt_800x600_vmbo bb_blanco.jpg"/>
          <p:cNvPicPr/>
          <p:nvPr/>
        </p:nvPicPr>
        <p:blipFill>
          <a:blip r:embed="rId1"/>
          <a:stretch/>
        </p:blipFill>
        <p:spPr>
          <a:xfrm>
            <a:off x="0" y="0"/>
            <a:ext cx="10132920" cy="759924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8320" y="128520"/>
            <a:ext cx="75949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3 Nigeria in de wereldeconom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kstvak 4"/>
          <p:cNvSpPr/>
          <p:nvPr/>
        </p:nvSpPr>
        <p:spPr>
          <a:xfrm>
            <a:off x="249120" y="1449360"/>
            <a:ext cx="965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 3" charset="2"/>
              <a:buChar char="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 komt het dat het voedsel uit het buitenland goedkoper is dan voedsel uit Nigeri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kstvak 13"/>
          <p:cNvSpPr/>
          <p:nvPr/>
        </p:nvSpPr>
        <p:spPr>
          <a:xfrm>
            <a:off x="598320" y="987480"/>
            <a:ext cx="9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Goedkoop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kstvak 12"/>
          <p:cNvSpPr/>
          <p:nvPr/>
        </p:nvSpPr>
        <p:spPr>
          <a:xfrm>
            <a:off x="249120" y="1849320"/>
            <a:ext cx="943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edseloverschotten in andere landen zorgen voor een lage prijs op de wereldmar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dumping).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kstvak 12"/>
          <p:cNvSpPr/>
          <p:nvPr/>
        </p:nvSpPr>
        <p:spPr>
          <a:xfrm>
            <a:off x="249120" y="255744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VS en EU hebben grote bedrijven en machines. Hierdoor kunnen z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oedkoop produc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kstvak 12"/>
          <p:cNvSpPr/>
          <p:nvPr/>
        </p:nvSpPr>
        <p:spPr>
          <a:xfrm>
            <a:off x="249120" y="3290760"/>
            <a:ext cx="943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alibri"/>
              <a:buChar char="●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eren in de VS en EU krijgen steun van de reg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roeger exportsubsidies, nu steun voor nieuwe machi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kstvak 2"/>
          <p:cNvSpPr/>
          <p:nvPr/>
        </p:nvSpPr>
        <p:spPr>
          <a:xfrm>
            <a:off x="249120" y="4444920"/>
            <a:ext cx="593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■"/>
              <a:tabLst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igeria kan goedkoop voedsel inkop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unstig voor de consument (goedkoop voedsel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gunstig voor de boe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06520"/>
                <a:tab algn="l" pos="1012680"/>
                <a:tab algn="l" pos="1519200"/>
                <a:tab algn="l" pos="2025720"/>
                <a:tab algn="l" pos="2532240"/>
                <a:tab algn="l" pos="3038400"/>
                <a:tab algn="l" pos="3544920"/>
                <a:tab algn="l" pos="4051440"/>
                <a:tab algn="l" pos="4557600"/>
                <a:tab algn="l" pos="5064120"/>
                <a:tab algn="l" pos="5570640"/>
                <a:tab algn="l" pos="6076800"/>
                <a:tab algn="l" pos="6583320"/>
                <a:tab algn="l" pos="7089840"/>
                <a:tab algn="l" pos="7596360"/>
                <a:tab algn="l" pos="8102520"/>
                <a:tab algn="l" pos="8609040"/>
                <a:tab algn="l" pos="9115560"/>
                <a:tab algn="l" pos="9621720"/>
                <a:tab algn="l" pos="10128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maakt Nigeria afhankelijk van het buitenlan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 dat is niet gunsti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Afbeelding 17" descr="GEO_vm_3_bb_LB_AR_3_3_3.jpg"/>
          <p:cNvPicPr/>
          <p:nvPr/>
        </p:nvPicPr>
        <p:blipFill>
          <a:blip r:embed="rId2"/>
          <a:stretch/>
        </p:blipFill>
        <p:spPr>
          <a:xfrm>
            <a:off x="6184800" y="3987720"/>
            <a:ext cx="37242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5:35:07Z</dcterms:created>
  <dc:creator>Gebruiker Office 2004 Test Drive</dc:creator>
  <dc:description/>
  <dc:language>en-US</dc:language>
  <cp:lastModifiedBy>Mariët Bosschers</cp:lastModifiedBy>
  <dcterms:modified xsi:type="dcterms:W3CDTF">2013-06-12T12:34:16Z</dcterms:modified>
  <cp:revision>118</cp:revision>
  <dc:subject/>
  <dc:title>PowerPoint-presentatie</dc:title>
</cp:coreProperties>
</file>