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FFC-6AB7-4557-8F8D-BF11235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708-CA98-4B74-B70B-89492F0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CE8-631A-4A25-87A0-D0DF231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547-F0FC-42B5-BCAF-5990C31D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FD2-043D-46DF-8CDC-C754BF2F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7D6-2773-45D2-B5E4-A9BF07B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F52-1F1D-4589-83EF-EB97F5A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FE1-32EB-43CD-B7C3-CAC11F01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8D0-627B-4D92-A97F-6D738739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F6A-2A91-453A-BC72-BB790AD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268-817F-4EC2-A2EF-344B692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87B-A9F5-4510-9320-75A7D11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A2F-F5B7-49CC-AD65-086E80E1DE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d4d4d"/>
                </a:solidFill>
                <a:latin typeface="Arial"/>
              </a:rPr>
              <a:t>Een stijl in beeld brenge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2565000"/>
            <a:ext cx="88390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AFSTEMMEN VAN DE STIJL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VISU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WERKT H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3" descr="martix uitleg"/>
          <p:cNvPicPr/>
          <p:nvPr/>
        </p:nvPicPr>
        <p:blipFill>
          <a:blip r:embed="rId1"/>
          <a:stretch/>
        </p:blipFill>
        <p:spPr>
          <a:xfrm>
            <a:off x="82440" y="1197000"/>
            <a:ext cx="89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KUNNEN WE DE MATRIX GEBRUI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fstemming van de stijl-ele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rkennen van jou thema/ stijl/ doelgro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" name="Picture 4" descr="m2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539640"/>
            <a:ext cx="822960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3"/>
          <p:cNvPicPr/>
          <p:nvPr/>
        </p:nvPicPr>
        <p:blipFill>
          <a:blip r:embed="rId2"/>
          <a:stretch/>
        </p:blipFill>
        <p:spPr>
          <a:xfrm>
            <a:off x="1301760" y="1492200"/>
            <a:ext cx="170820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oconmaken2"/>
          <p:cNvPicPr/>
          <p:nvPr/>
        </p:nvPicPr>
        <p:blipFill>
          <a:blip r:embed="rId3"/>
          <a:stretch/>
        </p:blipFill>
        <p:spPr>
          <a:xfrm>
            <a:off x="5651640" y="1484280"/>
            <a:ext cx="18666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11"/>
          <p:cNvPicPr/>
          <p:nvPr/>
        </p:nvPicPr>
        <p:blipFill>
          <a:blip r:embed="rId4"/>
          <a:stretch/>
        </p:blipFill>
        <p:spPr>
          <a:xfrm>
            <a:off x="6372360" y="4221000"/>
            <a:ext cx="693720" cy="170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18"/>
          <p:cNvPicPr/>
          <p:nvPr/>
        </p:nvPicPr>
        <p:blipFill>
          <a:blip r:embed="rId5"/>
          <a:stretch/>
        </p:blipFill>
        <p:spPr>
          <a:xfrm>
            <a:off x="3708360" y="2973240"/>
            <a:ext cx="1408320" cy="172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13"/>
          <p:cNvPicPr/>
          <p:nvPr/>
        </p:nvPicPr>
        <p:blipFill>
          <a:blip r:embed="rId6"/>
          <a:stretch/>
        </p:blipFill>
        <p:spPr>
          <a:xfrm>
            <a:off x="1528920" y="4076640"/>
            <a:ext cx="14810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295280"/>
            <a:ext cx="6934320" cy="4953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648320" y="1295280"/>
            <a:ext cx="38160" cy="495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143000" y="3809880"/>
            <a:ext cx="6934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" name="Picture 7" descr="Peugeot_moovie_02"/>
          <p:cNvPicPr/>
          <p:nvPr/>
        </p:nvPicPr>
        <p:blipFill>
          <a:blip r:embed="rId1"/>
          <a:stretch/>
        </p:blipFill>
        <p:spPr>
          <a:xfrm>
            <a:off x="6062760" y="1444680"/>
            <a:ext cx="240012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457200" y="457200"/>
            <a:ext cx="884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92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9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9936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709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2932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3925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4903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" name="Afbeelding 1" descr=""/>
          <p:cNvPicPr/>
          <p:nvPr/>
        </p:nvPicPr>
        <p:blipFill>
          <a:blip r:embed="rId2"/>
          <a:stretch/>
        </p:blipFill>
        <p:spPr>
          <a:xfrm>
            <a:off x="3130560" y="2827440"/>
            <a:ext cx="28828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2" descr=""/>
          <p:cNvPicPr/>
          <p:nvPr/>
        </p:nvPicPr>
        <p:blipFill>
          <a:blip r:embed="rId3"/>
          <a:stretch/>
        </p:blipFill>
        <p:spPr>
          <a:xfrm>
            <a:off x="949320" y="1044720"/>
            <a:ext cx="218448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3" descr=""/>
          <p:cNvPicPr/>
          <p:nvPr/>
        </p:nvPicPr>
        <p:blipFill>
          <a:blip r:embed="rId4"/>
          <a:stretch/>
        </p:blipFill>
        <p:spPr>
          <a:xfrm>
            <a:off x="6496200" y="4270320"/>
            <a:ext cx="2157120" cy="224640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Schermopname"/>
          <p:cNvPicPr/>
          <p:nvPr/>
        </p:nvPicPr>
        <p:blipFill>
          <a:blip r:embed="rId5"/>
          <a:stretch/>
        </p:blipFill>
        <p:spPr>
          <a:xfrm>
            <a:off x="949320" y="4795920"/>
            <a:ext cx="25621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9:30:03Z</dcterms:created>
  <dc:creator>adrie</dc:creator>
  <dc:description/>
  <dc:language>en-US</dc:language>
  <cp:lastModifiedBy>Annoeschka Turksema</cp:lastModifiedBy>
  <dcterms:modified xsi:type="dcterms:W3CDTF">2019-11-12T09:27:34Z</dcterms:modified>
  <cp:revision>37</cp:revision>
  <dc:subject/>
  <dc:title>VISUALISING A THEME</dc:title>
</cp:coreProperties>
</file>