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7.png" ContentType="image/png"/>
  <Override PartName="/ppt/media/image16.wmf" ContentType="image/x-wmf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CFCD-BA3C-4846-9141-C936F2D87C8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62CB-A58C-48E6-B37C-1DEF189174D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en doelmarktsegment ontstaat door eerst te onderkennen dat verschillende groepen, of segmenten, van de markt verschillende behoeften en wensen hebb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8156-EE74-4D3D-8F9E-95809F280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AB27-1A09-4075-934E-01C409A4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A3E0-B475-455A-9765-850AF4498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7BE1-EDF4-4A2A-80C5-A66E324B2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5A4E5-F861-444A-ACF8-4C8C2DAF5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B4B5-D4E4-4045-AAFC-FFF758CA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55E4-E353-4BAC-9659-7F1A6ED5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85A7D-695F-4243-8D87-B142C2CB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8D2EE-CD18-4654-AD63-E0B0D2F6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A2D4-5C62-4C87-B65F-B4A6545D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541F-FC8F-4114-B2A9-A7C2936E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C210-7CCE-4EAC-AA76-198EE4D7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8E08-680F-42D4-9AE3-759A4B24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5CB5-D8A7-4B6D-8F71-0B46BE73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A3961-774B-4B44-9333-4E5CF438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8B527-E2FC-41BC-A3B9-7037737EE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1B16-1474-41D1-966B-BD6B5649A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C742-6488-47E7-A07B-31E21498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B9BB-DE77-4B5C-BABE-A23B0C9B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F35D-8E6C-45D6-86F3-28FA5FF2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97D1-1257-4480-B1D9-BDC0F8CE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EB0E-71D7-42D7-847D-AF3F31EC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24D7-BED1-4DAB-BF7A-63815AF6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30F4-B8A6-4E43-B984-BAEA6103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E185-2FD1-4540-B58B-5B940A18437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1964-39ED-4D7A-99D5-44FB530C386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68Vf53-nAiE&amp;feature=related" TargetMode="External"/><Relationship Id="rId2" Type="http://schemas.openxmlformats.org/officeDocument/2006/relationships/hyperlink" Target="http://nl.wikipedia.org/wiki/Nichemarkt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joule4jou.blogspot.com/2015/03/quest-3-swot-met-verwerking-van-feedback.html" TargetMode="External"/><Relationship Id="rId2" Type="http://schemas.openxmlformats.org/officeDocument/2006/relationships/hyperlink" Target="https://creativecommons.org/licenses/by-sa/4.0/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z-to9_CJQQ&amp;feature=related" TargetMode="External"/><Relationship Id="rId2" Type="http://schemas.openxmlformats.org/officeDocument/2006/relationships/hyperlink" Target="http://www.allesvoorniks.nl/?p=search&amp;zoekwoord=proefmonster&amp;gclid=CMzJlpXm_5YCFQL91AodjlNaWg" TargetMode="External"/><Relationship Id="rId3" Type="http://schemas.openxmlformats.org/officeDocument/2006/relationships/hyperlink" Target="http://www.youtube.com/watch?v=LIBnvGavwWY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Qa33CFgh6qg&amp;feature=related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les 4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76520" y="3885840"/>
            <a:ext cx="632448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opgedrag en marktaand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. Kamphu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OC Oost 20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33080"/>
            <a:ext cx="685800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-185760" y="2408400"/>
            <a:ext cx="1424160" cy="16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Afbeeldingsresultaat voor ns"/>
          <p:cNvPicPr/>
          <p:nvPr/>
        </p:nvPicPr>
        <p:blipFill>
          <a:blip r:embed="rId1"/>
          <a:stretch/>
        </p:blipFill>
        <p:spPr>
          <a:xfrm>
            <a:off x="1143000" y="2290680"/>
            <a:ext cx="3297240" cy="1478160"/>
          </a:xfrm>
          <a:prstGeom prst="rect">
            <a:avLst/>
          </a:prstGeom>
          <a:ln w="0">
            <a:noFill/>
          </a:ln>
        </p:spPr>
      </p:pic>
      <p:sp>
        <p:nvSpPr>
          <p:cNvPr id="133" name="Tekstvak 3"/>
          <p:cNvSpPr/>
          <p:nvPr/>
        </p:nvSpPr>
        <p:spPr>
          <a:xfrm>
            <a:off x="4722840" y="2228760"/>
            <a:ext cx="36478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1 aanbied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Dit bedrijf kan veel winst mak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prijs wordt bepaald door dit bedrij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kstvak 4"/>
          <p:cNvSpPr/>
          <p:nvPr/>
        </p:nvSpPr>
        <p:spPr>
          <a:xfrm>
            <a:off x="2128680" y="4608360"/>
            <a:ext cx="5872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Monopol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Times New Roman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Tekstvak 3"/>
          <p:cNvSpPr/>
          <p:nvPr/>
        </p:nvSpPr>
        <p:spPr>
          <a:xfrm>
            <a:off x="1476360" y="198900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In welke van de vier marktvormen zit de belevingsboerderij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taandee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e groot ben je in verhouding tot je concurrent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t uitgerekend per productcategori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mzet in je verzorgingsgebied =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antal klanten </a:t>
            </a:r>
            <a:r>
              <a:rPr b="0" lang="en-US" sz="26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gemiddelde besteding per ja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4"/>
              <p:cNvSpPr txBox="1"/>
              <p:nvPr/>
            </p:nvSpPr>
            <p:spPr>
              <a:xfrm>
                <a:off x="1590840" y="3809880"/>
                <a:ext cx="661500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igen omze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e omzet in je verzorgingsgebied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oelen voor marktaandee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ter marktaandeel = voordelen van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schaalvergro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s://www.youtube.com/watch?v=68Vf53-nAiE&amp;feature=rel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tlei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n de prijs bepa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einer bedrijf (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nic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ak stabieler bij economische tegenw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RODUCT-LEVENS-CYCLU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066320" y="1752480"/>
            <a:ext cx="7620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Boston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Tekstvak 5"/>
          <p:cNvSpPr/>
          <p:nvPr/>
        </p:nvSpPr>
        <p:spPr>
          <a:xfrm>
            <a:off x="1692360" y="5867280"/>
            <a:ext cx="640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Deze foto</a:t>
            </a: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van Onbekende auteur is gelicentieerd onder </a:t>
            </a: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CC BY-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2" descr="http://gtwebmarque.com/wikis/gtwm/images/9/9d/Boston_Matrix.gif"/>
          <p:cNvPicPr/>
          <p:nvPr/>
        </p:nvPicPr>
        <p:blipFill>
          <a:blip r:embed="rId3"/>
          <a:stretch/>
        </p:blipFill>
        <p:spPr>
          <a:xfrm>
            <a:off x="1258920" y="1401840"/>
            <a:ext cx="6985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www.fractal.org/Bewustzijns-Besturings-Model/Pres-BBM-A/img055.GIF"/>
          <p:cNvPicPr/>
          <p:nvPr/>
        </p:nvPicPr>
        <p:blipFill>
          <a:blip r:embed="rId1"/>
          <a:stretch/>
        </p:blipFill>
        <p:spPr>
          <a:xfrm>
            <a:off x="395280" y="333360"/>
            <a:ext cx="8137440" cy="61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ortfolio matr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Sterren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Cash Cow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weinig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Melkkoeien  </a:t>
            </a:r>
            <a:r>
              <a:rPr b="0" lang="nl-NL" sz="2900" spc="-1" strike="noStrike">
                <a:solidFill>
                  <a:srgbClr val="ff0000"/>
                </a:solidFill>
                <a:latin typeface="Times New Roman"/>
              </a:rPr>
              <a:t>+++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Dog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veel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00240" y="1904760"/>
            <a:ext cx="38098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Vraagtekens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900" spc="-1" strike="noStrike">
                <a:solidFill>
                  <a:srgbClr val="ff0000"/>
                </a:solidFill>
                <a:latin typeface="Times New Roman"/>
              </a:rPr>
              <a:t>–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Star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kosten gel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Dogs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krijgen nauwelijks aandacht en verdwijnen op den duu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weinig of geen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roductlevenscyclus en wins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2" name="Picture 2" descr="http://www.percent.nl/onlineleren/onlinelerenfiles/encyclopedie/images/meno/CDM037.JPG"/>
          <p:cNvPicPr/>
          <p:nvPr/>
        </p:nvPicPr>
        <p:blipFill>
          <a:blip r:embed="rId1"/>
          <a:stretch/>
        </p:blipFill>
        <p:spPr>
          <a:xfrm>
            <a:off x="1547640" y="157968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oduct-levens-cyclu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54" name="Object 6"/>
          <p:cNvGraphicFramePr/>
          <p:nvPr/>
        </p:nvGraphicFramePr>
        <p:xfrm>
          <a:off x="1676520" y="2057400"/>
          <a:ext cx="5715000" cy="36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057400"/>
                    <a:ext cx="571500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Text Box 7"/>
          <p:cNvSpPr/>
          <p:nvPr/>
        </p:nvSpPr>
        <p:spPr>
          <a:xfrm>
            <a:off x="2088720" y="4003560"/>
            <a:ext cx="1442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21304"/>
                </a:solidFill>
                <a:latin typeface="Tahoma"/>
              </a:rPr>
              <a:t>Introducti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3628440" y="322884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o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4352040" y="223848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ahoma"/>
              </a:rPr>
              <a:t>Volwassenh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6152040" y="3228840"/>
            <a:ext cx="9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1bd69"/>
                </a:solidFill>
                <a:latin typeface="Tahoma"/>
              </a:rPr>
              <a:t>Ver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04920" y="5867280"/>
          <a:ext cx="7315200" cy="432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rategi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ionier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urrer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ndhav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Wat gaan we doen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Tekstvak 2"/>
          <p:cNvSpPr/>
          <p:nvPr/>
        </p:nvSpPr>
        <p:spPr>
          <a:xfrm>
            <a:off x="1258920" y="1893960"/>
            <a:ext cx="7427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uiswerk bespr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oopgedrag en marktaand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ionier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nten inform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Feiten opsom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Gratis proefmonster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stre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3"/>
              </a:rPr>
              <a:t>Demo’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wink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js is minder belangrij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eurs zoe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kelpersoneel informeren/instru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ncurrer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druk op de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voordel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.o.v. concur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wal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j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ansprekende merkidentit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leugje hum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verbet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andhav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nten behou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e met klant verstev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innerings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verbeteringen doorvo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nnovatietheorie van Roger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629400" y="3581280"/>
            <a:ext cx="23623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6097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975"/>
                </a:solidFill>
                <a:latin typeface="Times New Roman"/>
              </a:rPr>
              <a:t>Omz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db9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b921"/>
                </a:solidFill>
                <a:latin typeface="Times New Roman"/>
              </a:rPr>
              <a:t>Verzadi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7" descr="File:Diffusionofideas.PNG"/>
          <p:cNvPicPr/>
          <p:nvPr/>
        </p:nvPicPr>
        <p:blipFill>
          <a:blip r:embed="rId1"/>
          <a:stretch/>
        </p:blipFill>
        <p:spPr>
          <a:xfrm>
            <a:off x="1116000" y="1700280"/>
            <a:ext cx="594360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ositioneringsstrateg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773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plaatsing van het product in de gedachten van de k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eer je klantengro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lmarkt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twerp je positioneringsstrate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ordelen voor de k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P. (unique selling po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wijs en ondersch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of je klanten het sn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schrijf je positioneringsstrate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3" dur="1" fill="hold"/>
                                  <p:tgtEl>
                                    <p:spTgt spid="17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pdracht voor volgende 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schrijf wat de volgende woorden beteken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koopcombin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ijwillig filiaalbedrij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ssion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nchi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öper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Tekstvak 2"/>
          <p:cNvSpPr/>
          <p:nvPr/>
        </p:nvSpPr>
        <p:spPr>
          <a:xfrm>
            <a:off x="1066680" y="1989000"/>
            <a:ext cx="7392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dracht 3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 welke behoefte wordt voorzien met het product dat je in je opdracht hebt gebruik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ar staat het product in de behoeftenpiramide van Masl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oor welk product kan de wens naar jouw product worden verva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k een SWOT-Analyse van jouw product (kan dus je stagebedrijf zij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asen in het kooppro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Communicatiegedra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wustwording van de behoef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eken naar inform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Koopgedra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gelijken van alternatie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aank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t gebru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voelens na de aank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Koopinspann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uls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unsought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ine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convenience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rgvuldige 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shopping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ogeen (prijs is belangrijk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terogeen (eigenschappen zijn belangrijk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zonderlijke 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specialty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10"/>
          <p:cNvGrpSpPr/>
          <p:nvPr/>
        </p:nvGrpSpPr>
        <p:grpSpPr>
          <a:xfrm>
            <a:off x="1295280" y="5105520"/>
            <a:ext cx="7162920" cy="1428480"/>
            <a:chOff x="1295280" y="5105520"/>
            <a:chExt cx="7162920" cy="1428480"/>
          </a:xfrm>
        </p:grpSpPr>
        <p:pic>
          <p:nvPicPr>
            <p:cNvPr id="108" name="Picture 4" descr="rolex_masterpiece_watches01-face"/>
            <p:cNvPicPr/>
            <p:nvPr/>
          </p:nvPicPr>
          <p:blipFill>
            <a:blip r:embed="rId1"/>
            <a:stretch/>
          </p:blipFill>
          <p:spPr>
            <a:xfrm>
              <a:off x="6934320" y="5257800"/>
              <a:ext cx="15238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6" descr="pindakaas_116282d"/>
            <p:cNvPicPr/>
            <p:nvPr/>
          </p:nvPicPr>
          <p:blipFill>
            <a:blip r:embed="rId2"/>
            <a:stretch/>
          </p:blipFill>
          <p:spPr>
            <a:xfrm>
              <a:off x="3505320" y="5257800"/>
              <a:ext cx="955440" cy="120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7" descr="Wasmachine"/>
            <p:cNvPicPr/>
            <p:nvPr/>
          </p:nvPicPr>
          <p:blipFill>
            <a:blip r:embed="rId3"/>
            <a:stretch/>
          </p:blipFill>
          <p:spPr>
            <a:xfrm>
              <a:off x="5105520" y="5181480"/>
              <a:ext cx="129528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9" descr="ballLollies-thumb"/>
            <p:cNvPicPr/>
            <p:nvPr/>
          </p:nvPicPr>
          <p:blipFill>
            <a:blip r:embed="rId4"/>
            <a:stretch/>
          </p:blipFill>
          <p:spPr>
            <a:xfrm>
              <a:off x="1295280" y="5105520"/>
              <a:ext cx="1352520" cy="1428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tvorm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rktvor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a1bd69"/>
                </a:solidFill>
                <a:uFillTx/>
                <a:latin typeface="Times New Roman"/>
              </a:rPr>
              <a:t>Aantal aanbied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opol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igopol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pa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opolistische concurrent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v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schillende wensen, dezelfde behoef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ijzondering o.b.v. kwaliteit, me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ledige concurrent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v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spcBef>
                <a:spcPts val="499"/>
              </a:spcBef>
              <a:buNone/>
              <a:tabLst>
                <a:tab algn="l" pos="0"/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volledige mededin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vrijwel) identieke produc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Afbeeldingsresultaat voor bloemkool"/>
          <p:cNvPicPr/>
          <p:nvPr/>
        </p:nvPicPr>
        <p:blipFill>
          <a:blip r:embed="rId1"/>
          <a:stretch/>
        </p:blipFill>
        <p:spPr>
          <a:xfrm>
            <a:off x="681120" y="2305080"/>
            <a:ext cx="2143080" cy="1436760"/>
          </a:xfrm>
          <a:prstGeom prst="rect">
            <a:avLst/>
          </a:prstGeom>
          <a:ln w="0">
            <a:noFill/>
          </a:ln>
        </p:spPr>
      </p:pic>
      <p:sp>
        <p:nvSpPr>
          <p:cNvPr id="115" name="Tekstvak 1"/>
          <p:cNvSpPr/>
          <p:nvPr/>
        </p:nvSpPr>
        <p:spPr>
          <a:xfrm>
            <a:off x="4157640" y="3022560"/>
            <a:ext cx="371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Veel aanbied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Homogeen produc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kstvak 2"/>
          <p:cNvSpPr/>
          <p:nvPr/>
        </p:nvSpPr>
        <p:spPr>
          <a:xfrm>
            <a:off x="1017720" y="1309680"/>
            <a:ext cx="6906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kstvak 3"/>
          <p:cNvSpPr/>
          <p:nvPr/>
        </p:nvSpPr>
        <p:spPr>
          <a:xfrm>
            <a:off x="622440" y="4349880"/>
            <a:ext cx="7953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Volkomen concurrent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758880"/>
            <a:ext cx="6858000" cy="15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085400" y="3541680"/>
            <a:ext cx="190188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Afbeeldingsresultaat voor spelcomputers"/>
          <p:cNvPicPr/>
          <p:nvPr/>
        </p:nvPicPr>
        <p:blipFill>
          <a:blip r:embed="rId1"/>
          <a:stretch/>
        </p:blipFill>
        <p:spPr>
          <a:xfrm>
            <a:off x="2050920" y="2133720"/>
            <a:ext cx="2638440" cy="1798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Afbeeldingsresultaat voor nintendo"/>
          <p:cNvPicPr/>
          <p:nvPr/>
        </p:nvPicPr>
        <p:blipFill>
          <a:blip r:embed="rId2"/>
          <a:stretch/>
        </p:blipFill>
        <p:spPr>
          <a:xfrm>
            <a:off x="2025720" y="4251240"/>
            <a:ext cx="2663640" cy="1498680"/>
          </a:xfrm>
          <a:prstGeom prst="rect">
            <a:avLst/>
          </a:prstGeom>
          <a:ln w="0">
            <a:noFill/>
          </a:ln>
        </p:spPr>
      </p:pic>
      <p:sp>
        <p:nvSpPr>
          <p:cNvPr id="122" name="Tekstvak 4"/>
          <p:cNvSpPr/>
          <p:nvPr/>
        </p:nvSpPr>
        <p:spPr>
          <a:xfrm>
            <a:off x="5040360" y="2681280"/>
            <a:ext cx="39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een paar aanbie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ze beheersen de ma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ze houden elkaar goed  in de ga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kstvak 5"/>
          <p:cNvSpPr/>
          <p:nvPr/>
        </p:nvSpPr>
        <p:spPr>
          <a:xfrm>
            <a:off x="5212080" y="4802040"/>
            <a:ext cx="2937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Oligopol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928800"/>
            <a:ext cx="68580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5200" y="1796760"/>
            <a:ext cx="75610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ff0000"/>
                </a:solidFill>
                <a:latin typeface="Lucida Sans"/>
              </a:rPr>
              <a:t>Amaliaplein Almelo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2" descr="Afbeeldingsresultaat voor amalia plein almelo"/>
          <p:cNvPicPr/>
          <p:nvPr/>
        </p:nvPicPr>
        <p:blipFill>
          <a:blip r:embed="rId1"/>
          <a:stretch/>
        </p:blipFill>
        <p:spPr>
          <a:xfrm>
            <a:off x="1143000" y="2546280"/>
            <a:ext cx="2916360" cy="1822680"/>
          </a:xfrm>
          <a:prstGeom prst="rect">
            <a:avLst/>
          </a:prstGeom>
          <a:ln w="0">
            <a:noFill/>
          </a:ln>
        </p:spPr>
      </p:pic>
      <p:sp>
        <p:nvSpPr>
          <p:cNvPr id="127" name="Tekstvak 3"/>
          <p:cNvSpPr/>
          <p:nvPr/>
        </p:nvSpPr>
        <p:spPr>
          <a:xfrm>
            <a:off x="4284720" y="2546280"/>
            <a:ext cx="406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Willem de Vierd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‘</a:t>
            </a: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t Hookho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Shamroc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kstvak 5"/>
          <p:cNvSpPr/>
          <p:nvPr/>
        </p:nvSpPr>
        <p:spPr>
          <a:xfrm>
            <a:off x="1336680" y="4842000"/>
            <a:ext cx="328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Veel aanbie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heterogene   produc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kstvak 6"/>
          <p:cNvSpPr/>
          <p:nvPr/>
        </p:nvSpPr>
        <p:spPr>
          <a:xfrm>
            <a:off x="4624560" y="4165560"/>
            <a:ext cx="4063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nl-NL" sz="3000" spc="-1" strike="noStrike">
                <a:solidFill>
                  <a:srgbClr val="ff0000"/>
                </a:solidFill>
                <a:latin typeface="Lucida Sans"/>
              </a:rPr>
              <a:t>Monopolistische concurrenti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4:05:46Z</dcterms:created>
  <dc:creator>Robbert Oosterom</dc:creator>
  <dc:description/>
  <dc:language>en-US</dc:language>
  <cp:lastModifiedBy>José Kamphuis</cp:lastModifiedBy>
  <dcterms:modified xsi:type="dcterms:W3CDTF">2017-11-20T06:16:04Z</dcterms:modified>
  <cp:revision>28</cp:revision>
  <dc:subject/>
  <dc:title>Marketing les 1</dc:title>
</cp:coreProperties>
</file>