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8187-49A9-4B36-B941-1FEAD182132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D8FE-F5A2-4665-A156-F9024A01B2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9005-F6FC-4FEF-97FA-8D2D1C98AB9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3F43-4B82-4E02-9FDE-2D5542B7C00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6E0-39C0-4547-A8EC-1E287624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D5A-A96E-403C-B65B-0A529572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575-91B9-4543-83B1-4EED5135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B92-54A4-49A1-A71A-0011ED24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5F97-0903-4E59-826A-1348E4D4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4E83-F36D-4221-8FF1-C6D7525A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7980-5CC1-4700-A515-9DDDEF72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56B8-0F67-4620-BE8B-BC5A5CB5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A7D7-D32A-4E6B-8A88-F14C4B9C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29D8-7E73-41AD-B39A-89BCC815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B92D-B69E-47C8-9953-C16303C5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A4F-41DF-4C33-9480-3CBC756C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556F-3A2B-40B8-91F4-B22F9E9A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A384-D33C-4347-BB3D-B660320D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2E65-5A0D-47BF-AAC6-814F0D27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F360-A502-4394-AEC5-BF64CD9C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9637-E6D9-4381-AE98-2138BF05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DAE-85FB-4E1C-9845-3ABDD45C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F4D-B4CB-4257-9B73-DB6157CF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FBE-B050-4E50-93BA-7E27C4FB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97B-77D9-469A-9C7E-A0E40EC6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244-62B7-4CA6-BD7A-75C7172A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BA4-E251-45DD-8ECF-4C2467F5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B79-3C5C-4396-9226-CFFA081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102C-07CD-47AF-B81D-BB923D8AC8E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2CD9-7D0A-409C-B1FC-D496BBABDAC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C –Oost 20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slow 2"/>
          <p:cNvPicPr/>
          <p:nvPr/>
        </p:nvPicPr>
        <p:blipFill>
          <a:blip r:embed="rId1"/>
          <a:stretch/>
        </p:blipFill>
        <p:spPr>
          <a:xfrm>
            <a:off x="4800600" y="31240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58920" y="2637000"/>
            <a:ext cx="50292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Tekstvak 2"/>
          <p:cNvSpPr/>
          <p:nvPr/>
        </p:nvSpPr>
        <p:spPr>
          <a:xfrm>
            <a:off x="1109520" y="170028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e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ov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Tekstvak 2"/>
          <p:cNvSpPr/>
          <p:nvPr/>
        </p:nvSpPr>
        <p:spPr>
          <a:xfrm>
            <a:off x="1258920" y="1893960"/>
            <a:ext cx="74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12T21:09:46Z</dcterms:modified>
  <cp:revision>39</cp:revision>
  <dc:subject/>
  <dc:title>Marketing les 1</dc:title>
</cp:coreProperties>
</file>