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B6F5-661E-4FB0-A561-B4658A3107D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183B-605D-4720-BB79-BC930B188F6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490-E463-4E44-A1D9-85E56BEA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A8E-2670-4731-86BB-D62E89B0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46A-4DDC-405B-BA91-B70AFDB1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C22-9725-4CBB-BDBB-F897AC89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5C7B-D7C0-4826-8D92-F28B01E7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1C10-B4BB-4F6D-9F83-44FD61E9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CEC8-AD2C-4FA0-AC1A-20D166AD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9C30-B0F0-4A05-8A6D-5B2B57EE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D4ED-FDED-4E58-A5C0-1EF1FB7C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EEC9-CA77-4655-A6A1-5C01FC96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F815-4A5C-4B7E-B1F4-088CC293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40D-8A81-4857-B6D9-0D4EBD2D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71A6-568D-49D6-8F6A-0B323509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F504-A491-4973-8E5D-8D38D399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9A7B-5BA8-4C44-BF57-D01CF7C3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EB18-A87A-4034-8B27-4C906FF6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1054-05B7-42F9-BDD8-0D0B4E7D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E6E-DF35-477D-8055-6438EC42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95F-84CB-40AC-8626-0B1CB120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E0F-C95E-44BF-8A6E-4C345A94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BA3-3F74-4E35-9C28-0AC36EFE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159-0313-453B-B267-B74E35C1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631-30DE-4A20-87BF-E56676D0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1C9B-6482-4483-A1EC-A52549F4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A7FE-3DB7-4F1E-AF76-FF0AD4FE1C0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937B-6C2F-4983-9656-731C19BDF86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185760" y="2408400"/>
            <a:ext cx="1424160" cy="16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de belevings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2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Tekstvak 2"/>
          <p:cNvSpPr/>
          <p:nvPr/>
        </p:nvSpPr>
        <p:spPr>
          <a:xfrm>
            <a:off x="1258920" y="1893960"/>
            <a:ext cx="742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108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681120" y="2305080"/>
            <a:ext cx="2143080" cy="1436760"/>
          </a:xfrm>
          <a:prstGeom prst="rect">
            <a:avLst/>
          </a:prstGeom>
          <a:ln w="0">
            <a:noFill/>
          </a:ln>
        </p:spPr>
      </p:pic>
      <p:sp>
        <p:nvSpPr>
          <p:cNvPr id="115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1017720" y="1309680"/>
            <a:ext cx="690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kstvak 3"/>
          <p:cNvSpPr/>
          <p:nvPr/>
        </p:nvSpPr>
        <p:spPr>
          <a:xfrm>
            <a:off x="622440" y="4349880"/>
            <a:ext cx="7953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122" name="Tekstvak 4"/>
          <p:cNvSpPr/>
          <p:nvPr/>
        </p:nvSpPr>
        <p:spPr>
          <a:xfrm>
            <a:off x="5040360" y="268128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127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kstvak 5"/>
          <p:cNvSpPr/>
          <p:nvPr/>
        </p:nvSpPr>
        <p:spPr>
          <a:xfrm>
            <a:off x="1336680" y="4842000"/>
            <a:ext cx="32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 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20T06:16:04Z</dcterms:modified>
  <cp:revision>28</cp:revision>
  <dc:subject/>
  <dc:title>Marketing les 1</dc:title>
</cp:coreProperties>
</file>