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BF08-76E9-4E87-AA8F-E5A1E825A7B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B7AD-7A3A-4209-978D-C451F000B11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23A5-8C7B-4CA6-8F70-F66DFB1C214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5FA6-50C9-4056-8648-A8D9B770E41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2908-54FC-4112-84B5-B02ABB3F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9948-E997-4121-B6D7-EF2A9F3A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5C3D-4429-4575-821F-269330F6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13A3-3334-4F51-8049-1A350309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76FC-9D82-4272-9C8C-BEE32C31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4284-6A53-444B-B3BD-96551FFD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2E2B-B9C8-4A01-9D5A-DAA03625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EA8D-5453-4DBC-AF89-2F0704AA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79AC-FF5B-4699-9E7A-3A949611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9C8D-58DB-4E8E-8851-960D5AAF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3303-C5B2-4E76-9A75-FF48632D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A4EC-896B-4D63-BF1C-EFE5B37F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67C5-C393-46FD-8EBE-7F6272F6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CE34-388C-432E-9B3C-0AA1C11D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DCB7-6456-44DA-8155-B83501B8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44B2-9CA1-423C-8959-8747D4F4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E730-85CE-43CD-A2F9-858E539B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83DD-3AB1-4119-BCF6-093A2F7A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B398-3769-4B65-BAA4-416A1C19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3E3C-AF1E-41DB-AD82-EDEE40FB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255B-791D-40CE-98A3-5F0075FF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856E-8366-4E2D-A62C-57E2CFB0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1DEE-3B4E-4D5B-A46D-EE8FAC4E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9059-71DF-41CA-968C-6D445626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A1AD-DC00-45F9-90AA-BA2391D5B42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7C81-D0F8-4ADE-9B59-F9480B80C18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OC –Oost 20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ramide van Maslow (19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Maslow 2"/>
          <p:cNvPicPr/>
          <p:nvPr/>
        </p:nvPicPr>
        <p:blipFill>
          <a:blip r:embed="rId1"/>
          <a:stretch/>
        </p:blipFill>
        <p:spPr>
          <a:xfrm>
            <a:off x="4800600" y="3124080"/>
            <a:ext cx="3886200" cy="33624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258920" y="2637000"/>
            <a:ext cx="502920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Zelfverwerkelij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Schoo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Kennis en begr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Waa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Liefde en genegen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imaire levensbehoe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ens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sen hebben meer wensen dan behoe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uit de behoefte aan afwisseling, wensen mensen verschillende manieren om basisbehoeften te bevred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ze wensen zijn onbeperkt: dat biedt marketeers veel ruimte voor creativ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vs. Wens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 in een behoefte niet wordt voorzien, ontstaat e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k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efdesverdr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erwaardigheids-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 aan een wens niet kan worden voldaan, ontstaat e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ere we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 is geen patat, dus wil ik een loempia, en als die er ook niet is, wil ik een boterham, en als die er ook niet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H="1" flipV="1">
            <a:off x="2971440" y="4114440"/>
            <a:ext cx="2514600" cy="762120"/>
          </a:xfrm>
          <a:prstGeom prst="line">
            <a:avLst/>
          </a:prstGeom>
          <a:ln w="76320">
            <a:solidFill>
              <a:srgbClr val="a1bd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ISEN VAN EEN GOEDE MARKETING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Tekstvak 2"/>
          <p:cNvSpPr/>
          <p:nvPr/>
        </p:nvSpPr>
        <p:spPr>
          <a:xfrm>
            <a:off x="1109520" y="1700280"/>
            <a:ext cx="806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rie eis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heldere keuze heb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ositie neem je in op j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goede aansluiting hebben op de omgevingssituatie en de omgevingsontwikke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nel gaan de ontwikkelingen op in je markt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hoe flexibel moet je zij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positief worden ontvangen door de belangrijkste ste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TAKEHOLD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Tekstvak 2"/>
          <p:cNvSpPr/>
          <p:nvPr/>
        </p:nvSpPr>
        <p:spPr>
          <a:xfrm>
            <a:off x="1476360" y="2133720"/>
            <a:ext cx="7210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keholders zijn díe partijen die direct dan wel indirect de activiteiten van een organisatie kunnen beïnvloeden of er door beïnvloed wo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x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inanc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f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De 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WOT staat voor Strengths, Weaknesses, Opportunities en Threa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gewoon Nederlands: sterkten, zwakten, kansen en bedreigingen onderzoek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4" name="Picture 2" descr="SWOT analyse"/>
          <p:cNvPicPr/>
          <p:nvPr/>
        </p:nvPicPr>
        <p:blipFill>
          <a:blip r:embed="rId1"/>
          <a:stretch/>
        </p:blipFill>
        <p:spPr>
          <a:xfrm>
            <a:off x="1332000" y="1773360"/>
            <a:ext cx="69850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22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Tekstvak 2"/>
          <p:cNvSpPr/>
          <p:nvPr/>
        </p:nvSpPr>
        <p:spPr>
          <a:xfrm>
            <a:off x="1066680" y="1523880"/>
            <a:ext cx="7898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IN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direct invloed op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ster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oede prijs, niet te duur tov de concurre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loper op ICT geb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el productinnov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zwa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en goede 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egatief im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lechte klachtenaf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51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Tekstvak 2"/>
          <p:cNvSpPr/>
          <p:nvPr/>
        </p:nvSpPr>
        <p:spPr>
          <a:xfrm>
            <a:off x="1187280" y="162864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EX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geen directe invloed op; de kansen en bedreigingen voor de hele markt en bran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kans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blemen bij de con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ag naar specialistische dien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 economie gro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bedreigi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mografische verand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adelige verandering in de wet- en regel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inig vertrouwen in de b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Tekstvak 2"/>
          <p:cNvSpPr/>
          <p:nvPr/>
        </p:nvSpPr>
        <p:spPr>
          <a:xfrm>
            <a:off x="1066680" y="1700280"/>
            <a:ext cx="7826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Je sluit de SWOT-Analyse af met een conclusi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denk je met behulp van deze gegevens een plekje in de markt te kunnen verov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kun je aan het eind van dez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7600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weet wat een PMC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marketingmix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ent de eisen van een goede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beschrij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Volgend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Tekstvak 2"/>
          <p:cNvSpPr/>
          <p:nvPr/>
        </p:nvSpPr>
        <p:spPr>
          <a:xfrm>
            <a:off x="1258920" y="1893960"/>
            <a:ext cx="742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erhaling van vorig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doelgroep is een min of meer homogene klanten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wordt zo nauw mogelijk omschreven aan de hand van 5 specifieke kenmerk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al-econom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opge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ij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5410080" y="3962520"/>
            <a:ext cx="2514600" cy="1904760"/>
          </a:xfrm>
          <a:prstGeom prst="leftArrowCallout">
            <a:avLst>
              <a:gd name="adj1" fmla="val 25002"/>
              <a:gd name="adj2" fmla="val 25000"/>
              <a:gd name="adj3" fmla="val 22003"/>
              <a:gd name="adj4" fmla="val 6667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schrij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ij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ze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m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(Product-Markt-Combinatie) is een combinatie van één van je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or iedere PMC stel je een apart marketingplan 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Afbeeldingsresultaat voor kok die kookt"/>
          <p:cNvPicPr/>
          <p:nvPr/>
        </p:nvPicPr>
        <p:blipFill>
          <a:blip r:embed="rId1"/>
          <a:stretch/>
        </p:blipFill>
        <p:spPr>
          <a:xfrm>
            <a:off x="4876920" y="4149720"/>
            <a:ext cx="29937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van McCarthy: de 4 P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ats / Distribu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e extra P’s, z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Marketingmix 4 P's"/>
          <p:cNvPicPr/>
          <p:nvPr/>
        </p:nvPicPr>
        <p:blipFill>
          <a:blip r:embed="rId1"/>
          <a:stretch/>
        </p:blipFill>
        <p:spPr>
          <a:xfrm>
            <a:off x="1042920" y="450720"/>
            <a:ext cx="77058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Tekstvak 2"/>
          <p:cNvSpPr/>
          <p:nvPr/>
        </p:nvSpPr>
        <p:spPr>
          <a:xfrm>
            <a:off x="1187280" y="1773360"/>
            <a:ext cx="71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ERSONE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 het personeel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 doen om ons product te verkrij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de klant niet 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levertijden hebben we en wanneer communiceren we dit met de kl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; Maak een Marketing Mix voor Ike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1660680" y="1778040"/>
          <a:ext cx="643068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1778040"/>
                    <a:ext cx="643068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asisstrategie van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w toekomst hangt af van hoe goed je de wensen en behoeften van de klant begrij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angrijkste strategische ta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m goed na te denken over wat klanten nodig hebben en wat ze wens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denk een product of dienst waar klanten graag voor willen beta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" dur="1" fill="hold"/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7-11-12T21:09:46Z</dcterms:modified>
  <cp:revision>39</cp:revision>
  <dc:subject/>
  <dc:title>Marketing les 1</dc:title>
</cp:coreProperties>
</file>