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8D52-098B-4759-B993-7B9DBF44532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DBB9-2166-4713-821E-E1714D4BD2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46DD-5017-4F7D-A791-5B2052F3CA9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6C3C-C4AC-4D82-9C56-AF41A4CF29C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739-5B2B-427E-B096-438D98E5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1ED-E761-4F12-B1F4-C31BE7A8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E8BB-881F-4010-9F77-CA7CF008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12C-DB8E-4D7F-A4F9-495A6111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6795-06AC-40F4-9110-8EFDF16F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5CFE-DE7E-4654-A8C9-184FECDC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9658-66CD-4CA0-A02C-0A2387CE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DE72-37C0-4B5A-A1B6-7340B48E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7E3B-C90B-4B58-A3F6-A7019723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1A3C-F2A2-4351-8D78-A83FD273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9B6E-FC15-4887-933C-3D648C03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AB2D-E6A0-4257-AB76-B483212E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1616-C800-4B29-927A-A8ED55B5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01F7-E5DA-44C5-9CB3-A352C612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9900-513D-4F6B-98DE-22A293D4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63B4-5E54-42AB-AF8D-466C6DA5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EBA4-1CBA-4F2E-8249-A242B953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2CA8-791D-4E6F-9F86-F18A6B1C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BA0-2722-485D-8C3A-900505E6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B0D-3F3B-4BE3-8DE9-67BD28C2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5D7-298C-4446-8E46-162A8EDB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079-F410-4C4A-961E-636FBAD2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BD5E-F34E-4723-94E0-E417AE6E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B7A-B4FD-42C2-9749-A0E537FD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2248-AD24-4644-A329-CDF660EC20A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7399-92BF-4BA3-B696-7A51EEB9134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C –Oost 20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Maslow 2"/>
          <p:cNvPicPr/>
          <p:nvPr/>
        </p:nvPicPr>
        <p:blipFill>
          <a:blip r:embed="rId1"/>
          <a:stretch/>
        </p:blipFill>
        <p:spPr>
          <a:xfrm>
            <a:off x="4800600" y="31240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258920" y="2637000"/>
            <a:ext cx="50292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Tekstvak 2"/>
          <p:cNvSpPr/>
          <p:nvPr/>
        </p:nvSpPr>
        <p:spPr>
          <a:xfrm>
            <a:off x="1109520" y="170028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e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ov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Tekstvak 2"/>
          <p:cNvSpPr/>
          <p:nvPr/>
        </p:nvSpPr>
        <p:spPr>
          <a:xfrm>
            <a:off x="1258920" y="1893960"/>
            <a:ext cx="742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12T21:09:46Z</dcterms:modified>
  <cp:revision>39</cp:revision>
  <dc:subject/>
  <dc:title>Marketing les 1</dc:title>
</cp:coreProperties>
</file>