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17.png" ContentType="image/png"/>
  <Override PartName="/ppt/media/image16.wmf" ContentType="image/x-wmf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10364-C578-4E19-B331-0EA0ACBEBC5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38907-FA03-42E0-9D82-C630D76792D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en doelmarktsegment ontstaat door eerst te onderkennen dat verschillende groepen, of segmenten, van de markt verschillende behoeften en wensen hebb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F837-90D1-4B60-ADD1-B3A9C5ADB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9AE9-93E4-4D4B-BCF4-139D1623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D3C3-C0D2-4BE2-9287-3844BE888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4DFD-7B29-4B70-B557-5E4FB11F8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81DE2-7F3A-41F4-B549-DD5320973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59D27-D492-425E-9CFF-3A3583B8D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5C2A3-AEB3-46E0-A61C-AE7191FC5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E3956-E824-418A-8566-084B956DF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17624-7688-4C47-B4DC-1D19F0FA1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F2C7F-E589-4A65-87E1-1C36674B1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1D48B-C2FB-4CF2-8F4C-C2C3439BC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63E6-ECFF-412C-B51B-A7A49DFBA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7F5E7-B5AB-4029-8676-4C112E12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7B810-F89F-4AF1-AADD-96433AD1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5419C-FAA1-411E-9843-7E57FDE6A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848BA-8934-43D5-B3AF-3F4D4CFD7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B7E2C-7BCB-4F17-A45B-FC6AC3498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B287-12D5-43FE-96CC-1EB2ABE1B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420E-8D32-4859-BEEE-34EE2A33F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8165-6E64-4447-BC14-E9EE6A4DA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BA22-B325-4740-824C-D4660C5D6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B812-1B89-4C0A-8A00-A3D0B345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4809-1055-4C7F-8EBE-0F935F1A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2828-F24C-4ECF-8B30-B19B9211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2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649CF-6B19-4EA4-A43C-6CD0FD80C28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191C2-9C3F-47AC-8461-EB3C49D4F44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68Vf53-nAiE&amp;feature=related" TargetMode="External"/><Relationship Id="rId2" Type="http://schemas.openxmlformats.org/officeDocument/2006/relationships/hyperlink" Target="http://nl.wikipedia.org/wiki/Nichemarkt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joule4jou.blogspot.com/2015/03/quest-3-swot-met-verwerking-van-feedback.html" TargetMode="External"/><Relationship Id="rId2" Type="http://schemas.openxmlformats.org/officeDocument/2006/relationships/hyperlink" Target="https://creativecommons.org/licenses/by-sa/4.0/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xz-to9_CJQQ&amp;feature=related" TargetMode="External"/><Relationship Id="rId2" Type="http://schemas.openxmlformats.org/officeDocument/2006/relationships/hyperlink" Target="http://www.allesvoorniks.nl/?p=search&amp;zoekwoord=proefmonster&amp;gclid=CMzJlpXm_5YCFQL91AodjlNaWg" TargetMode="External"/><Relationship Id="rId3" Type="http://schemas.openxmlformats.org/officeDocument/2006/relationships/hyperlink" Target="http://www.youtube.com/watch?v=LIBnvGavwWY" TargetMode="Externa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Qa33CFgh6qg&amp;feature=related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eting les 4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76520" y="3885840"/>
            <a:ext cx="632448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opgedrag en marktaand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-levens-cycl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. Kamphu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OC Oost 20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33080"/>
            <a:ext cx="6858000" cy="15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Lucida Sans"/>
              </a:rPr>
              <a:t>Welke marktvor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-185760" y="2408400"/>
            <a:ext cx="1424160" cy="16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" descr="Afbeeldingsresultaat voor ns"/>
          <p:cNvPicPr/>
          <p:nvPr/>
        </p:nvPicPr>
        <p:blipFill>
          <a:blip r:embed="rId1"/>
          <a:stretch/>
        </p:blipFill>
        <p:spPr>
          <a:xfrm>
            <a:off x="1143000" y="2290680"/>
            <a:ext cx="3297240" cy="1478160"/>
          </a:xfrm>
          <a:prstGeom prst="rect">
            <a:avLst/>
          </a:prstGeom>
          <a:ln w="0">
            <a:noFill/>
          </a:ln>
        </p:spPr>
      </p:pic>
      <p:sp>
        <p:nvSpPr>
          <p:cNvPr id="133" name="Tekstvak 3"/>
          <p:cNvSpPr/>
          <p:nvPr/>
        </p:nvSpPr>
        <p:spPr>
          <a:xfrm>
            <a:off x="4722840" y="2228760"/>
            <a:ext cx="36478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-1 aanbied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-Dit bedrijf kan veel winst make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-prijs wordt bepaald door dit bedrij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kstvak 4"/>
          <p:cNvSpPr/>
          <p:nvPr/>
        </p:nvSpPr>
        <p:spPr>
          <a:xfrm>
            <a:off x="2128680" y="4608360"/>
            <a:ext cx="5872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ff0000"/>
                </a:solidFill>
                <a:latin typeface="Lucida Sans"/>
              </a:rPr>
              <a:t>Monopoli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Times New Roman"/>
              </a:rPr>
              <a:t>Welke marktvor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6" name="Tekstvak 3"/>
          <p:cNvSpPr/>
          <p:nvPr/>
        </p:nvSpPr>
        <p:spPr>
          <a:xfrm>
            <a:off x="1476360" y="1989000"/>
            <a:ext cx="71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In welke van de vier marktvormen zit de belevingsboerderij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taandeel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e groot ben je in verhouding tot je concurrent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t uitgerekend per productcategori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mzet in je verzorgingsgebied =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antal klanten </a:t>
            </a:r>
            <a:r>
              <a:rPr b="0" lang="en-US" sz="2600" spc="-1" strike="noStrike">
                <a:solidFill>
                  <a:srgbClr val="000000"/>
                </a:solidFill>
                <a:latin typeface="Wingdings 2"/>
                <a:ea typeface="Wingdings 2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gemiddelde besteding per ja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4"/>
              <p:cNvSpPr txBox="1"/>
              <p:nvPr/>
            </p:nvSpPr>
            <p:spPr>
              <a:xfrm>
                <a:off x="1590840" y="3809880"/>
                <a:ext cx="661500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igen omze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e omzet in je verzorgingsgebied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Doelen voor marktaandeel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ter marktaandeel = voordelen van 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schaalvergro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s://www.youtube.com/watch?v=68Vf53-nAiE&amp;feature=rel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tlei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n de prijs bepa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einer bedrijf (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nic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ak stabieler bij economische tegenw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PRODUCT-LEVENS-CYCLU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066320" y="1752480"/>
            <a:ext cx="7620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Boston-Analy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Tekstvak 5"/>
          <p:cNvSpPr/>
          <p:nvPr/>
        </p:nvSpPr>
        <p:spPr>
          <a:xfrm>
            <a:off x="1692360" y="5867280"/>
            <a:ext cx="640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Deze foto</a:t>
            </a:r>
            <a:r>
              <a:rPr b="0" lang="nl-NL" sz="900" spc="-1" strike="noStrike">
                <a:solidFill>
                  <a:srgbClr val="000000"/>
                </a:solidFill>
                <a:latin typeface="Times New Roman"/>
              </a:rPr>
              <a:t> van Onbekende auteur is gelicentieerd onder </a:t>
            </a:r>
            <a:r>
              <a:rPr b="0" lang="nl-NL" sz="9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CC BY-S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2" descr="http://gtwebmarque.com/wikis/gtwm/images/9/9d/Boston_Matrix.gif"/>
          <p:cNvPicPr/>
          <p:nvPr/>
        </p:nvPicPr>
        <p:blipFill>
          <a:blip r:embed="rId3"/>
          <a:stretch/>
        </p:blipFill>
        <p:spPr>
          <a:xfrm>
            <a:off x="1258920" y="1401840"/>
            <a:ext cx="698508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www.fractal.org/Bewustzijns-Besturings-Model/Pres-BBM-A/img055.GIF"/>
          <p:cNvPicPr/>
          <p:nvPr/>
        </p:nvPicPr>
        <p:blipFill>
          <a:blip r:embed="rId1"/>
          <a:stretch/>
        </p:blipFill>
        <p:spPr>
          <a:xfrm>
            <a:off x="395280" y="333360"/>
            <a:ext cx="8137440" cy="61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Portfolio matrix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0066"/>
                </a:solidFill>
                <a:latin typeface="Times New Roman"/>
              </a:rPr>
              <a:t>Sterren</a:t>
            </a:r>
            <a:r>
              <a:rPr b="0" lang="nl-NL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ontwikkelen zich tot Cash Cow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leveren weinig geld 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0066"/>
                </a:solidFill>
                <a:latin typeface="Times New Roman"/>
              </a:rPr>
              <a:t>Melkkoeien  </a:t>
            </a:r>
            <a:r>
              <a:rPr b="0" lang="nl-NL" sz="2900" spc="-1" strike="noStrike">
                <a:solidFill>
                  <a:srgbClr val="ff0000"/>
                </a:solidFill>
                <a:latin typeface="Times New Roman"/>
              </a:rPr>
              <a:t>+++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ontwikkelen zich tot Dog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leveren veel geld 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00240" y="1904760"/>
            <a:ext cx="380988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0066"/>
                </a:solidFill>
                <a:latin typeface="Times New Roman"/>
              </a:rPr>
              <a:t>Vraagtekens</a:t>
            </a:r>
            <a:r>
              <a:rPr b="0" lang="nl-NL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900" spc="-1" strike="noStrike">
                <a:solidFill>
                  <a:srgbClr val="ff0000"/>
                </a:solidFill>
                <a:latin typeface="Times New Roman"/>
              </a:rPr>
              <a:t>–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ontwikkelen zich tot Star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kosten gel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0066"/>
                </a:solidFill>
                <a:latin typeface="Times New Roman"/>
              </a:rPr>
              <a:t>Dogs</a:t>
            </a:r>
            <a:r>
              <a:rPr b="0" lang="nl-NL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krijgen nauwelijks aandacht en verdwijnen op den duu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leveren weinig of geen geld 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Productlevenscyclus en wins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52" name="Picture 2" descr="http://www.percent.nl/onlineleren/onlinelerenfiles/encyclopedie/images/meno/CDM037.JPG"/>
          <p:cNvPicPr/>
          <p:nvPr/>
        </p:nvPicPr>
        <p:blipFill>
          <a:blip r:embed="rId1"/>
          <a:stretch/>
        </p:blipFill>
        <p:spPr>
          <a:xfrm>
            <a:off x="1547640" y="1579680"/>
            <a:ext cx="684072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roduct-levens-cyclu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54" name="Object 6"/>
          <p:cNvGraphicFramePr/>
          <p:nvPr/>
        </p:nvGraphicFramePr>
        <p:xfrm>
          <a:off x="1676520" y="2057400"/>
          <a:ext cx="5715000" cy="361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057400"/>
                    <a:ext cx="571500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Text Box 7"/>
          <p:cNvSpPr/>
          <p:nvPr/>
        </p:nvSpPr>
        <p:spPr>
          <a:xfrm>
            <a:off x="2088720" y="4003560"/>
            <a:ext cx="14425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21304"/>
                </a:solidFill>
                <a:latin typeface="Tahoma"/>
              </a:rPr>
              <a:t>Introducti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3628440" y="3228840"/>
            <a:ext cx="83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o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4352040" y="223848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Tahoma"/>
              </a:rPr>
              <a:t>Volwassenhe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6152040" y="3228840"/>
            <a:ext cx="91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1bd69"/>
                </a:solidFill>
                <a:latin typeface="Tahoma"/>
              </a:rPr>
              <a:t>Ver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304920" y="5867280"/>
          <a:ext cx="7315200" cy="4320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rategi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ionier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currer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ndhav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Wat gaan we doen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Tekstvak 2"/>
          <p:cNvSpPr/>
          <p:nvPr/>
        </p:nvSpPr>
        <p:spPr>
          <a:xfrm>
            <a:off x="1258920" y="1893960"/>
            <a:ext cx="7427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uiswerk bespr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oopgedrag en marktaand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RODUCT-LEVENS-CYC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ionierende marke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anten inform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Feiten opsom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Gratis proefmonster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strek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3"/>
              </a:rPr>
              <a:t>Demo’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wink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js is minder belangrij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ributeurs zoe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kelpersoneel informeren/instru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oncurrerende marke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druk op de 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voordele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.o.v. concur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walit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j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ansprekende merkidentit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leugje hum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verbet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Handhavende marke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anten behou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e met klant verstev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inneringsmark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verbeteringen doorvo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Innovatietheorie van Roger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629400" y="3581280"/>
            <a:ext cx="236232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6097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975"/>
                </a:solidFill>
                <a:latin typeface="Times New Roman"/>
              </a:rPr>
              <a:t>Omz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db9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b921"/>
                </a:solidFill>
                <a:latin typeface="Times New Roman"/>
              </a:rPr>
              <a:t>Verzadi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7" descr="File:Diffusionofideas.PNG"/>
          <p:cNvPicPr/>
          <p:nvPr/>
        </p:nvPicPr>
        <p:blipFill>
          <a:blip r:embed="rId1"/>
          <a:stretch/>
        </p:blipFill>
        <p:spPr>
          <a:xfrm>
            <a:off x="1116000" y="1700280"/>
            <a:ext cx="594360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ositioneringsstrateg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77300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plaatsing van het product in de gedachten van de kl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eer je klantengro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lmarktse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twerp je positioneringsstrateg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ordelen voor de k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.S.P. (unique selling po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wijs en ondersch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of je klanten het sna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schrijf je positioneringsstrate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3" dur="1" fill="hold"/>
                                  <p:tgtEl>
                                    <p:spTgt spid="171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pdracht voor volgende l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schrijf wat de volgende woorden beteken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koopcombin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rijwillig filiaalbedrij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ssion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nchi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öper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OPDRACH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Tekstvak 2"/>
          <p:cNvSpPr/>
          <p:nvPr/>
        </p:nvSpPr>
        <p:spPr>
          <a:xfrm>
            <a:off x="1066680" y="1989000"/>
            <a:ext cx="73929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Opdracht 3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 welke behoefte wordt voorzien met het product dat je in je opdracht hebt gebruik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ar staat het product in de behoeftenpiramide van Masl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oor welk product kan de wens naar jouw product worden vervang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aak een SWOT-Analyse van jouw product (kan dus je stagebedrijf zij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Fasen in het koopproc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Communicatiegedra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wustwording van de behoef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oeken naar inform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Koopgedra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gelijken van alternatie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aanko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t gebrui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voelens na de aanko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Koopinspann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ulsaank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(unsought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ineaank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(convenience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orgvuldige aank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(shopping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ogeen (prijs is belangrijk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terogeen (eigenschappen zijn belangrijk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itzonderlijke aank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(specialty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Group 10"/>
          <p:cNvGrpSpPr/>
          <p:nvPr/>
        </p:nvGrpSpPr>
        <p:grpSpPr>
          <a:xfrm>
            <a:off x="1295280" y="5105520"/>
            <a:ext cx="7162920" cy="1428480"/>
            <a:chOff x="1295280" y="5105520"/>
            <a:chExt cx="7162920" cy="1428480"/>
          </a:xfrm>
        </p:grpSpPr>
        <p:pic>
          <p:nvPicPr>
            <p:cNvPr id="108" name="Picture 4" descr="rolex_masterpiece_watches01-face"/>
            <p:cNvPicPr/>
            <p:nvPr/>
          </p:nvPicPr>
          <p:blipFill>
            <a:blip r:embed="rId1"/>
            <a:stretch/>
          </p:blipFill>
          <p:spPr>
            <a:xfrm>
              <a:off x="6934320" y="5257800"/>
              <a:ext cx="152388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6" descr="pindakaas_116282d"/>
            <p:cNvPicPr/>
            <p:nvPr/>
          </p:nvPicPr>
          <p:blipFill>
            <a:blip r:embed="rId2"/>
            <a:stretch/>
          </p:blipFill>
          <p:spPr>
            <a:xfrm>
              <a:off x="3505320" y="5257800"/>
              <a:ext cx="955440" cy="120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7" descr="Wasmachine"/>
            <p:cNvPicPr/>
            <p:nvPr/>
          </p:nvPicPr>
          <p:blipFill>
            <a:blip r:embed="rId3"/>
            <a:stretch/>
          </p:blipFill>
          <p:spPr>
            <a:xfrm>
              <a:off x="5105520" y="5181480"/>
              <a:ext cx="129528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9" descr="ballLollies-thumb"/>
            <p:cNvPicPr/>
            <p:nvPr/>
          </p:nvPicPr>
          <p:blipFill>
            <a:blip r:embed="rId4"/>
            <a:stretch/>
          </p:blipFill>
          <p:spPr>
            <a:xfrm>
              <a:off x="1295280" y="5105520"/>
              <a:ext cx="1352520" cy="1428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tvorm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rktvorm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a1bd69"/>
                </a:solidFill>
                <a:uFillTx/>
                <a:latin typeface="Times New Roman"/>
              </a:rPr>
              <a:t>Aantal aanbied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opoli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igopoli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pa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opolistische concurrenti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v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schillende wensen, dezelfde behoef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bijzondering o.b.v. kwaliteit, me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lledige concurrenti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v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0">
              <a:spcBef>
                <a:spcPts val="499"/>
              </a:spcBef>
              <a:buNone/>
              <a:tabLst>
                <a:tab algn="l" pos="0"/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volledige mededin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vrijwel) identieke produc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Afbeeldingsresultaat voor bloemkool"/>
          <p:cNvPicPr/>
          <p:nvPr/>
        </p:nvPicPr>
        <p:blipFill>
          <a:blip r:embed="rId1"/>
          <a:stretch/>
        </p:blipFill>
        <p:spPr>
          <a:xfrm>
            <a:off x="681120" y="2305080"/>
            <a:ext cx="2143080" cy="1436760"/>
          </a:xfrm>
          <a:prstGeom prst="rect">
            <a:avLst/>
          </a:prstGeom>
          <a:ln w="0">
            <a:noFill/>
          </a:ln>
        </p:spPr>
      </p:pic>
      <p:sp>
        <p:nvSpPr>
          <p:cNvPr id="115" name="Tekstvak 1"/>
          <p:cNvSpPr/>
          <p:nvPr/>
        </p:nvSpPr>
        <p:spPr>
          <a:xfrm>
            <a:off x="4157640" y="3022560"/>
            <a:ext cx="371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00000"/>
              </a:lnSpc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Veel aanbied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14200" indent="-214200">
              <a:lnSpc>
                <a:spcPct val="100000"/>
              </a:lnSpc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Homogeen produc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kstvak 2"/>
          <p:cNvSpPr/>
          <p:nvPr/>
        </p:nvSpPr>
        <p:spPr>
          <a:xfrm>
            <a:off x="1017720" y="1309680"/>
            <a:ext cx="69069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ff0000"/>
                </a:solidFill>
                <a:latin typeface="Lucida Sans"/>
              </a:rPr>
              <a:t>Welke marktvorm?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kstvak 3"/>
          <p:cNvSpPr/>
          <p:nvPr/>
        </p:nvSpPr>
        <p:spPr>
          <a:xfrm>
            <a:off x="622440" y="4349880"/>
            <a:ext cx="7953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ff0000"/>
                </a:solidFill>
                <a:latin typeface="Lucida Sans"/>
              </a:rPr>
              <a:t>Volkomen concurrenti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758880"/>
            <a:ext cx="6858000" cy="15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Lucida Sans"/>
              </a:rPr>
              <a:t>Welke marktvor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085400" y="3541680"/>
            <a:ext cx="190188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Afbeeldingsresultaat voor spelcomputers"/>
          <p:cNvPicPr/>
          <p:nvPr/>
        </p:nvPicPr>
        <p:blipFill>
          <a:blip r:embed="rId1"/>
          <a:stretch/>
        </p:blipFill>
        <p:spPr>
          <a:xfrm>
            <a:off x="2050920" y="2133720"/>
            <a:ext cx="2638440" cy="1798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Afbeeldingsresultaat voor nintendo"/>
          <p:cNvPicPr/>
          <p:nvPr/>
        </p:nvPicPr>
        <p:blipFill>
          <a:blip r:embed="rId2"/>
          <a:stretch/>
        </p:blipFill>
        <p:spPr>
          <a:xfrm>
            <a:off x="2025720" y="4251240"/>
            <a:ext cx="2663640" cy="1498680"/>
          </a:xfrm>
          <a:prstGeom prst="rect">
            <a:avLst/>
          </a:prstGeom>
          <a:ln w="0">
            <a:noFill/>
          </a:ln>
        </p:spPr>
      </p:pic>
      <p:sp>
        <p:nvSpPr>
          <p:cNvPr id="122" name="Tekstvak 4"/>
          <p:cNvSpPr/>
          <p:nvPr/>
        </p:nvSpPr>
        <p:spPr>
          <a:xfrm>
            <a:off x="5040360" y="2681280"/>
            <a:ext cx="39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een paar aanbie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ze beheersen de mar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ze houden elkaar goed  in de ga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kstvak 5"/>
          <p:cNvSpPr/>
          <p:nvPr/>
        </p:nvSpPr>
        <p:spPr>
          <a:xfrm>
            <a:off x="5212080" y="4802040"/>
            <a:ext cx="29376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ff0000"/>
                </a:solidFill>
                <a:latin typeface="Lucida Sans"/>
              </a:rPr>
              <a:t>Oligopoli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928800"/>
            <a:ext cx="68580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Lucida Sans"/>
              </a:rPr>
              <a:t>Welke marktvor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5200" y="1796760"/>
            <a:ext cx="756108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ff0000"/>
                </a:solidFill>
                <a:latin typeface="Lucida Sans"/>
              </a:rPr>
              <a:t>Amaliaplein Almelo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2" descr="Afbeeldingsresultaat voor amalia plein almelo"/>
          <p:cNvPicPr/>
          <p:nvPr/>
        </p:nvPicPr>
        <p:blipFill>
          <a:blip r:embed="rId1"/>
          <a:stretch/>
        </p:blipFill>
        <p:spPr>
          <a:xfrm>
            <a:off x="1143000" y="2546280"/>
            <a:ext cx="2916360" cy="1822680"/>
          </a:xfrm>
          <a:prstGeom prst="rect">
            <a:avLst/>
          </a:prstGeom>
          <a:ln w="0">
            <a:noFill/>
          </a:ln>
        </p:spPr>
      </p:pic>
      <p:sp>
        <p:nvSpPr>
          <p:cNvPr id="127" name="Tekstvak 3"/>
          <p:cNvSpPr/>
          <p:nvPr/>
        </p:nvSpPr>
        <p:spPr>
          <a:xfrm>
            <a:off x="4284720" y="2546280"/>
            <a:ext cx="4064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Willem de Vierd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‘</a:t>
            </a: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t Hookho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Shamroc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kstvak 5"/>
          <p:cNvSpPr/>
          <p:nvPr/>
        </p:nvSpPr>
        <p:spPr>
          <a:xfrm>
            <a:off x="1336680" y="4842000"/>
            <a:ext cx="3287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Veel aanbie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heterogene   produc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kstvak 6"/>
          <p:cNvSpPr/>
          <p:nvPr/>
        </p:nvSpPr>
        <p:spPr>
          <a:xfrm>
            <a:off x="4624560" y="4165560"/>
            <a:ext cx="4063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nl-NL" sz="3000" spc="-1" strike="noStrike">
                <a:solidFill>
                  <a:srgbClr val="ff0000"/>
                </a:solidFill>
                <a:latin typeface="Lucida Sans"/>
              </a:rPr>
              <a:t>Monopolistische concurrenti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14:05:46Z</dcterms:created>
  <dc:creator>Robbert Oosterom</dc:creator>
  <dc:description/>
  <dc:language>en-US</dc:language>
  <cp:lastModifiedBy>José Kamphuis</cp:lastModifiedBy>
  <dcterms:modified xsi:type="dcterms:W3CDTF">2017-11-20T06:16:04Z</dcterms:modified>
  <cp:revision>28</cp:revision>
  <dc:subject/>
  <dc:title>Marketing les 1</dc:title>
</cp:coreProperties>
</file>