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7.png" ContentType="image/png"/>
  <Override PartName="/ppt/media/image16.wmf" ContentType="image/x-wmf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8932-AFA9-4FEB-9957-4ACCDE537A8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4AC2-9FB6-46F9-8BF8-649A8D96FDC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en doelmarktsegment ontstaat door eerst te onderkennen dat verschillende groepen, of segmenten, van de markt verschillende behoeften en wensen heb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199F-D6C4-437D-9646-215E3C60C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AA45-CEB6-4631-B31B-46077B27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DC3A-A69F-483F-8684-9F264D8D0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D7E0-25EB-4E01-950E-CB093F15D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46B7-BC88-452E-859B-48B83FCC3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28A8-3338-43E9-9380-1F34B6A1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D8A7-E7D2-449D-B7E8-5EE9031B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B9CC-0DB4-4CE8-BAA2-8347A806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0C29-5673-4723-9404-664F88F6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F25D-7E97-4D58-93DB-6B492E4C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23F4-08F1-43D6-8E5A-25EDAFBB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E738-506C-478D-B87F-98FA1308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6D3E-FC3E-44AB-A4F6-CA140715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B459-B31E-47FA-8BE4-DD91B6D6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03AB-DDE0-450C-BE47-80E1BC4C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8D2C-1060-40E9-B410-10C2B06B2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112F-6AFE-4FDA-BCFE-CB3E82498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426B-89BF-4082-A5C3-B943CF5F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3618-36CF-43D7-BBE2-F458853B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9309-4828-4D1E-96AB-91CB0D96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6CEC-5FB6-487E-BFFA-3D3C73DC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5DB5-E2D4-4C68-883F-45E89BF5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3DBE-935B-43A8-BCAB-69A17EC0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3E4D-DA10-4677-B881-B07CC2A3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6427-4D0B-4A52-9BC6-3183F601C3B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B573-1D60-4226-B3F7-011721BBE5B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68Vf53-nAiE&amp;feature=related" TargetMode="External"/><Relationship Id="rId2" Type="http://schemas.openxmlformats.org/officeDocument/2006/relationships/hyperlink" Target="http://nl.wikipedia.org/wiki/Nichemarkt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joule4jou.blogspot.com/2015/03/quest-3-swot-met-verwerking-van-feedback.html" TargetMode="External"/><Relationship Id="rId2" Type="http://schemas.openxmlformats.org/officeDocument/2006/relationships/hyperlink" Target="https://creativecommons.org/licenses/by-sa/4.0/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z-to9_CJQQ&amp;feature=related" TargetMode="External"/><Relationship Id="rId2" Type="http://schemas.openxmlformats.org/officeDocument/2006/relationships/hyperlink" Target="http://www.allesvoorniks.nl/?p=search&amp;zoekwoord=proefmonster&amp;gclid=CMzJlpXm_5YCFQL91AodjlNaWg" TargetMode="External"/><Relationship Id="rId3" Type="http://schemas.openxmlformats.org/officeDocument/2006/relationships/hyperlink" Target="http://www.youtube.com/watch?v=LIBnvGavwWY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a33CFgh6qg&amp;feature=related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4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32448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. Kamph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OC Oost 20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33080"/>
            <a:ext cx="68580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-185760" y="2408400"/>
            <a:ext cx="1424160" cy="16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Afbeeldingsresultaat voor ns"/>
          <p:cNvPicPr/>
          <p:nvPr/>
        </p:nvPicPr>
        <p:blipFill>
          <a:blip r:embed="rId1"/>
          <a:stretch/>
        </p:blipFill>
        <p:spPr>
          <a:xfrm>
            <a:off x="1143000" y="2290680"/>
            <a:ext cx="3297240" cy="1478160"/>
          </a:xfrm>
          <a:prstGeom prst="rect">
            <a:avLst/>
          </a:prstGeom>
          <a:ln w="0">
            <a:noFill/>
          </a:ln>
        </p:spPr>
      </p:pic>
      <p:sp>
        <p:nvSpPr>
          <p:cNvPr id="133" name="Tekstvak 3"/>
          <p:cNvSpPr/>
          <p:nvPr/>
        </p:nvSpPr>
        <p:spPr>
          <a:xfrm>
            <a:off x="4722840" y="2228760"/>
            <a:ext cx="36478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1 aanbied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Dit bedrijf kan veel winst mak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prijs wordt bepaald door dit bedrij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kstvak 4"/>
          <p:cNvSpPr/>
          <p:nvPr/>
        </p:nvSpPr>
        <p:spPr>
          <a:xfrm>
            <a:off x="2128680" y="4608360"/>
            <a:ext cx="5872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Mon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Times New Roman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Tekstvak 3"/>
          <p:cNvSpPr/>
          <p:nvPr/>
        </p:nvSpPr>
        <p:spPr>
          <a:xfrm>
            <a:off x="1476360" y="198900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In welke van de vier marktvormen zit de belevingsboerderij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 groot ben je in verhouding tot je concurrent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t uitgerekend per productcategor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mzet in je verzorgingsgebied =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antal klanten </a:t>
            </a:r>
            <a:r>
              <a:rPr b="0" lang="en-US" sz="26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gemiddelde besteding per ja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4"/>
              <p:cNvSpPr txBox="1"/>
              <p:nvPr/>
            </p:nvSpPr>
            <p:spPr>
              <a:xfrm>
                <a:off x="1590840" y="3809880"/>
                <a:ext cx="661500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igen omze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e omzet in je verzorgingsgebied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oelen voor 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ter marktaandeel = voordelen van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schaalvergro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s://www.youtube.com/watch?v=68Vf53-nAiE&amp;feature=re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tlei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n de prijs bepa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einer bedrijf (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nic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ak stabieler bij economische tegenw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066320" y="1752480"/>
            <a:ext cx="762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Boston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Tekstvak 5"/>
          <p:cNvSpPr/>
          <p:nvPr/>
        </p:nvSpPr>
        <p:spPr>
          <a:xfrm>
            <a:off x="1692360" y="586728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Deze foto</a:t>
            </a: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van Onbekende auteur is gelicentieerd onder </a:t>
            </a: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CC BY-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2" descr="http://gtwebmarque.com/wikis/gtwm/images/9/9d/Boston_Matrix.gif"/>
          <p:cNvPicPr/>
          <p:nvPr/>
        </p:nvPicPr>
        <p:blipFill>
          <a:blip r:embed="rId3"/>
          <a:stretch/>
        </p:blipFill>
        <p:spPr>
          <a:xfrm>
            <a:off x="1258920" y="1401840"/>
            <a:ext cx="6985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www.fractal.org/Bewustzijns-Besturings-Model/Pres-BBM-A/img055.GIF"/>
          <p:cNvPicPr/>
          <p:nvPr/>
        </p:nvPicPr>
        <p:blipFill>
          <a:blip r:embed="rId1"/>
          <a:stretch/>
        </p:blipFill>
        <p:spPr>
          <a:xfrm>
            <a:off x="395280" y="333360"/>
            <a:ext cx="813744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ortfolio matr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Sterren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Cash Cow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Melkkoeien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+++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Dog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veel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00240" y="1904760"/>
            <a:ext cx="38098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Vraagteken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–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Sta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osten gel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Dog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rijgen nauwelijks aandacht en verdwijnen op den duu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of geen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levenscyclus en wins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2" name="Picture 2" descr="http://www.percent.nl/onlineleren/onlinelerenfiles/encyclopedie/images/meno/CDM037.JPG"/>
          <p:cNvPicPr/>
          <p:nvPr/>
        </p:nvPicPr>
        <p:blipFill>
          <a:blip r:embed="rId1"/>
          <a:stretch/>
        </p:blipFill>
        <p:spPr>
          <a:xfrm>
            <a:off x="1547640" y="157968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54" name="Object 6"/>
          <p:cNvGraphicFramePr/>
          <p:nvPr/>
        </p:nvGraphicFramePr>
        <p:xfrm>
          <a:off x="1676520" y="2057400"/>
          <a:ext cx="5715000" cy="36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7400"/>
                    <a:ext cx="571500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Text Box 7"/>
          <p:cNvSpPr/>
          <p:nvPr/>
        </p:nvSpPr>
        <p:spPr>
          <a:xfrm>
            <a:off x="2088720" y="4003560"/>
            <a:ext cx="1442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21304"/>
                </a:solidFill>
                <a:latin typeface="Tahoma"/>
              </a:rPr>
              <a:t>Introducti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3628440" y="322884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4352040" y="22384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ahoma"/>
              </a:rPr>
              <a:t>Volwassenh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6152040" y="3228840"/>
            <a:ext cx="9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1bd69"/>
                </a:solidFill>
                <a:latin typeface="Tahoma"/>
              </a:rPr>
              <a:t>Ver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04920" y="5867280"/>
          <a:ext cx="7315200" cy="432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ategi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oni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r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dhav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Wat gaan we doen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Tekstvak 2"/>
          <p:cNvSpPr/>
          <p:nvPr/>
        </p:nvSpPr>
        <p:spPr>
          <a:xfrm>
            <a:off x="1258920" y="1893960"/>
            <a:ext cx="7427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uiswerk bespr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ioni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nten inform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Feiten opsom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Gratis proefmonster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stre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3"/>
              </a:rPr>
              <a:t>Demo’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wink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js is minder belangrij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urs zoe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kelpersoneel informeren/instru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curr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druk op de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voordel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.o.v. con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wa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j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ansprekende merkidentit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leugje hu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verbet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andhav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nten behou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e met klant verstev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innerings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verbeteringen doorvo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novatietheorie van Roge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629400" y="3581280"/>
            <a:ext cx="23623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6097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975"/>
                </a:solidFill>
                <a:latin typeface="Times New Roman"/>
              </a:rPr>
              <a:t>Omz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b9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b921"/>
                </a:solidFill>
                <a:latin typeface="Times New Roman"/>
              </a:rPr>
              <a:t>Verzadi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7" descr="File:Diffusionofideas.PNG"/>
          <p:cNvPicPr/>
          <p:nvPr/>
        </p:nvPicPr>
        <p:blipFill>
          <a:blip r:embed="rId1"/>
          <a:stretch/>
        </p:blipFill>
        <p:spPr>
          <a:xfrm>
            <a:off x="1116000" y="1700280"/>
            <a:ext cx="59436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ositioneringsstrateg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773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plaatsing van het product in de gedachten van de k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eer je klantengro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lmarkt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twerp je positioneringsstrate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ordelen voor de k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P. (unique selling po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wijs en ondersch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of je klanten het sn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schrijf je positioneringsstrate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3" dur="1" fill="hold"/>
                                  <p:tgtEl>
                                    <p:spTgt spid="17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pdracht voor volgende 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schrijf wat de volgende woorden beteken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koopcombin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ijwillig filiaalbedrij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ssion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nchi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öper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Tekstvak 2"/>
          <p:cNvSpPr/>
          <p:nvPr/>
        </p:nvSpPr>
        <p:spPr>
          <a:xfrm>
            <a:off x="1066680" y="1989000"/>
            <a:ext cx="7392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dracht 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welke behoefte wordt voorzien met het product dat je in je opdracht hebt gebruik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ar staat het product in de behoeftenpiramide van Mas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or welk product kan de wens naar jouw product worden verva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een SWOT-Analyse van jouw product (kan dus je stagebedrijf zij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asen in het kooppro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Communicatie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wustwording van de behoef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eken naar inform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Koop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gelijken van alternati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t gebru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voelens na 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Koopinspann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ls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unsought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ine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convenience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rgvuldig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hopping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ogeen (prijs is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erogeen (eigenschappen zijn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zonderlijk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pecialty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10"/>
          <p:cNvGrpSpPr/>
          <p:nvPr/>
        </p:nvGrpSpPr>
        <p:grpSpPr>
          <a:xfrm>
            <a:off x="1295280" y="5105520"/>
            <a:ext cx="7162920" cy="1428480"/>
            <a:chOff x="1295280" y="5105520"/>
            <a:chExt cx="7162920" cy="1428480"/>
          </a:xfrm>
        </p:grpSpPr>
        <p:pic>
          <p:nvPicPr>
            <p:cNvPr id="108" name="Picture 4" descr="rolex_masterpiece_watches01-face"/>
            <p:cNvPicPr/>
            <p:nvPr/>
          </p:nvPicPr>
          <p:blipFill>
            <a:blip r:embed="rId1"/>
            <a:stretch/>
          </p:blipFill>
          <p:spPr>
            <a:xfrm>
              <a:off x="6934320" y="5257800"/>
              <a:ext cx="1523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6" descr="pindakaas_116282d"/>
            <p:cNvPicPr/>
            <p:nvPr/>
          </p:nvPicPr>
          <p:blipFill>
            <a:blip r:embed="rId2"/>
            <a:stretch/>
          </p:blipFill>
          <p:spPr>
            <a:xfrm>
              <a:off x="3505320" y="5257800"/>
              <a:ext cx="955440" cy="12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7" descr="Wasmachine"/>
            <p:cNvPicPr/>
            <p:nvPr/>
          </p:nvPicPr>
          <p:blipFill>
            <a:blip r:embed="rId3"/>
            <a:stretch/>
          </p:blipFill>
          <p:spPr>
            <a:xfrm>
              <a:off x="5105520" y="5181480"/>
              <a:ext cx="129528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9" descr="ballLollies-thumb"/>
            <p:cNvPicPr/>
            <p:nvPr/>
          </p:nvPicPr>
          <p:blipFill>
            <a:blip r:embed="rId4"/>
            <a:stretch/>
          </p:blipFill>
          <p:spPr>
            <a:xfrm>
              <a:off x="1295280" y="5105520"/>
              <a:ext cx="1352520" cy="1428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vorm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rktvor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a1bd69"/>
                </a:solidFill>
                <a:uFillTx/>
                <a:latin typeface="Times New Roman"/>
              </a:rPr>
              <a:t>Aantal aanbied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opol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igopol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p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opolistische concurrent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schillende wensen, dezelfde behoef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ijzondering o.b.v. kwaliteit, m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ledige concurrent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spcBef>
                <a:spcPts val="499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volledige mededin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vrijwel) identieke produc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Afbeeldingsresultaat voor bloemkool"/>
          <p:cNvPicPr/>
          <p:nvPr/>
        </p:nvPicPr>
        <p:blipFill>
          <a:blip r:embed="rId1"/>
          <a:stretch/>
        </p:blipFill>
        <p:spPr>
          <a:xfrm>
            <a:off x="681120" y="2305080"/>
            <a:ext cx="2143080" cy="1436760"/>
          </a:xfrm>
          <a:prstGeom prst="rect">
            <a:avLst/>
          </a:prstGeom>
          <a:ln w="0">
            <a:noFill/>
          </a:ln>
        </p:spPr>
      </p:pic>
      <p:sp>
        <p:nvSpPr>
          <p:cNvPr id="115" name="Tekstvak 1"/>
          <p:cNvSpPr/>
          <p:nvPr/>
        </p:nvSpPr>
        <p:spPr>
          <a:xfrm>
            <a:off x="4157640" y="3022560"/>
            <a:ext cx="37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Veel aanbied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Homogeen produ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kstvak 2"/>
          <p:cNvSpPr/>
          <p:nvPr/>
        </p:nvSpPr>
        <p:spPr>
          <a:xfrm>
            <a:off x="1017720" y="1309680"/>
            <a:ext cx="690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kstvak 3"/>
          <p:cNvSpPr/>
          <p:nvPr/>
        </p:nvSpPr>
        <p:spPr>
          <a:xfrm>
            <a:off x="622440" y="4349880"/>
            <a:ext cx="7953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Volkomen concurrent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758880"/>
            <a:ext cx="6858000" cy="15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085400" y="3541680"/>
            <a:ext cx="19018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Afbeeldingsresultaat voor spelcomputers"/>
          <p:cNvPicPr/>
          <p:nvPr/>
        </p:nvPicPr>
        <p:blipFill>
          <a:blip r:embed="rId1"/>
          <a:stretch/>
        </p:blipFill>
        <p:spPr>
          <a:xfrm>
            <a:off x="2050920" y="2133720"/>
            <a:ext cx="2638440" cy="1798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Afbeeldingsresultaat voor nintendo"/>
          <p:cNvPicPr/>
          <p:nvPr/>
        </p:nvPicPr>
        <p:blipFill>
          <a:blip r:embed="rId2"/>
          <a:stretch/>
        </p:blipFill>
        <p:spPr>
          <a:xfrm>
            <a:off x="2025720" y="4251240"/>
            <a:ext cx="2663640" cy="1498680"/>
          </a:xfrm>
          <a:prstGeom prst="rect">
            <a:avLst/>
          </a:prstGeom>
          <a:ln w="0">
            <a:noFill/>
          </a:ln>
        </p:spPr>
      </p:pic>
      <p:sp>
        <p:nvSpPr>
          <p:cNvPr id="122" name="Tekstvak 4"/>
          <p:cNvSpPr/>
          <p:nvPr/>
        </p:nvSpPr>
        <p:spPr>
          <a:xfrm>
            <a:off x="5040360" y="2681280"/>
            <a:ext cx="39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een paar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beheersen de ma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houden elkaar goed  in de g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kstvak 5"/>
          <p:cNvSpPr/>
          <p:nvPr/>
        </p:nvSpPr>
        <p:spPr>
          <a:xfrm>
            <a:off x="5212080" y="4802040"/>
            <a:ext cx="293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Olig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928800"/>
            <a:ext cx="68580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5200" y="1796760"/>
            <a:ext cx="75610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ff0000"/>
                </a:solidFill>
                <a:latin typeface="Lucida Sans"/>
              </a:rPr>
              <a:t>Amaliaplein Almel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" descr="Afbeeldingsresultaat voor amalia plein almelo"/>
          <p:cNvPicPr/>
          <p:nvPr/>
        </p:nvPicPr>
        <p:blipFill>
          <a:blip r:embed="rId1"/>
          <a:stretch/>
        </p:blipFill>
        <p:spPr>
          <a:xfrm>
            <a:off x="1143000" y="2546280"/>
            <a:ext cx="2916360" cy="1822680"/>
          </a:xfrm>
          <a:prstGeom prst="rect">
            <a:avLst/>
          </a:prstGeom>
          <a:ln w="0">
            <a:noFill/>
          </a:ln>
        </p:spPr>
      </p:pic>
      <p:sp>
        <p:nvSpPr>
          <p:cNvPr id="127" name="Tekstvak 3"/>
          <p:cNvSpPr/>
          <p:nvPr/>
        </p:nvSpPr>
        <p:spPr>
          <a:xfrm>
            <a:off x="4284720" y="2546280"/>
            <a:ext cx="406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Willem de Vierd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‘</a:t>
            </a: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t Hookho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Shamro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kstvak 5"/>
          <p:cNvSpPr/>
          <p:nvPr/>
        </p:nvSpPr>
        <p:spPr>
          <a:xfrm>
            <a:off x="1336680" y="4842000"/>
            <a:ext cx="328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Veel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heterogene   produc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kstvak 6"/>
          <p:cNvSpPr/>
          <p:nvPr/>
        </p:nvSpPr>
        <p:spPr>
          <a:xfrm>
            <a:off x="4624560" y="4165560"/>
            <a:ext cx="4063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nl-NL" sz="3000" spc="-1" strike="noStrike">
                <a:solidFill>
                  <a:srgbClr val="ff0000"/>
                </a:solidFill>
                <a:latin typeface="Lucida Sans"/>
              </a:rPr>
              <a:t>Monopolistische concurrenti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José Kamphuis</cp:lastModifiedBy>
  <dcterms:modified xsi:type="dcterms:W3CDTF">2017-11-20T06:16:04Z</dcterms:modified>
  <cp:revision>28</cp:revision>
  <dc:subject/>
  <dc:title>Marketing les 1</dc:title>
</cp:coreProperties>
</file>