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jpeg" ContentType="image/jpeg"/>
  <Override PartName="/ppt/media/image23.wmf" ContentType="image/x-wmf"/>
  <Override PartName="/ppt/media/image27.jpeg" ContentType="image/jpeg"/>
  <Override PartName="/ppt/media/image21.jpeg" ContentType="image/jpeg"/>
  <Override PartName="/ppt/media/image20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8.png" ContentType="image/png"/>
  <Override PartName="/ppt/media/image14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26.jpeg" ContentType="image/jpeg"/>
  <Override PartName="/ppt/media/image17.jpeg" ContentType="image/jpeg"/>
  <Override PartName="/ppt/media/image5.jpeg" ContentType="image/jpeg"/>
  <Override PartName="/ppt/media/image11.wmf" ContentType="image/x-wmf"/>
  <Override PartName="/ppt/media/image33.jpeg" ContentType="image/jpeg"/>
  <Override PartName="/ppt/media/image12.jpeg" ContentType="image/jpeg"/>
  <Override PartName="/ppt/media/image34.wmf" ContentType="image/x-wmf"/>
  <Override PartName="/ppt/media/image31.jpeg" ContentType="image/jpeg"/>
  <Override PartName="/ppt/media/image10.wmf" ContentType="image/x-wmf"/>
  <Override PartName="/ppt/media/image4.jpeg" ContentType="image/jpeg"/>
  <Override PartName="/ppt/media/image25.jpeg" ContentType="image/jpeg"/>
  <Override PartName="/ppt/media/image6.png" ContentType="image/png"/>
  <Override PartName="/ppt/media/image2.jpeg" ContentType="image/jpeg"/>
  <Override PartName="/ppt/media/image15.jpeg" ContentType="image/jpeg"/>
  <Override PartName="/ppt/media/image35.wmf" ContentType="image/x-wmf"/>
  <Override PartName="/ppt/media/image16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D0F9-C0A0-4477-B0D2-FB3B02043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B572-B8E8-41BB-8652-E3CF0ACC3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0A07-445C-437B-A4BB-1F7080710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B08B-BAFA-43A1-8EA8-CE37E400A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8FAC-BC23-4D7B-B258-644F9D58F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B6DE-700F-41EF-9879-483B3DB5F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AEA4-CA6E-4902-ADE6-4160B4302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9E66-239F-4EB1-94A3-3F13F03A5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BE71-1CED-42B5-A313-0AF5BC453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D093-A5D4-4FF7-BC8F-76402508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0087-1AD5-4653-83F8-B61D97AF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B83E-39D5-4D2B-A3B7-CB27EFAB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AF07D-76DF-4ED5-8C05-D5B4B610945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dezeure.be/img/fotos/beertonnen/Dec11_03.jpg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m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755964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rdringer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835280" y="1468440"/>
            <a:ext cx="550836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ifugaal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6516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ifugaal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84360" y="1484280"/>
            <a:ext cx="784836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t- en regelge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deling per 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eluchting grasz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nder vervlieging van voedingsstoffen, minder kunstm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een versmering van gewa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nder geuroverl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me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denbeme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uwland-injec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odenbeme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952640"/>
            <a:ext cx="822960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odenbeme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3168360" cy="3132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50920" y="5013360"/>
            <a:ext cx="324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Doorsnee van 250 mm en een dikte v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2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572000" y="1557360"/>
            <a:ext cx="4105440" cy="26668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4284720" y="4292640"/>
            <a:ext cx="45352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land-inject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26920" y="1401840"/>
            <a:ext cx="752508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land-inject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4643280" cy="3095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643280" y="3857760"/>
            <a:ext cx="45007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land-injecteu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4572000" cy="3316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572000" y="3543480"/>
            <a:ext cx="457200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oorten giert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m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ject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me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leepsl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derne techni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almeststroo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eepsl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55640" y="1401840"/>
            <a:ext cx="752472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eepsl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4500720" cy="3264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500720" y="3490920"/>
            <a:ext cx="464328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rne technie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pdrukcili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55640" y="1351080"/>
            <a:ext cx="7596360" cy="55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ndendrukwisselsyste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68360" y="1557360"/>
            <a:ext cx="460872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ele tankin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Optifill tank"/>
          <p:cNvPicPr/>
          <p:nvPr/>
        </p:nvPicPr>
        <p:blipFill>
          <a:blip r:embed="rId1"/>
          <a:stretch/>
        </p:blipFill>
        <p:spPr>
          <a:xfrm>
            <a:off x="755640" y="1916280"/>
            <a:ext cx="7632720" cy="38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ndeng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79280" y="1268280"/>
            <a:ext cx="5040360" cy="2167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643280" y="3594240"/>
            <a:ext cx="4500720" cy="3263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0" y="3543480"/>
            <a:ext cx="457200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ur-achterw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9280" y="1700280"/>
            <a:ext cx="590400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26920" y="1214280"/>
            <a:ext cx="752508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716360" y="3500280"/>
            <a:ext cx="4032360" cy="28101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3492360" cy="34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orten giert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kel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andem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idem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 -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3960720" cy="2970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076720" y="4202280"/>
            <a:ext cx="406728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 rot="5400000">
            <a:off x="1158120" y="2233080"/>
            <a:ext cx="2554200" cy="32180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 rot="5400000">
            <a:off x="5319360" y="2391840"/>
            <a:ext cx="28242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kel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26920" y="1365120"/>
            <a:ext cx="759636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dem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8360" y="1409760"/>
            <a:ext cx="817236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ridem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8360" y="1362240"/>
            <a:ext cx="824400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 -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8360" y="1379520"/>
            <a:ext cx="817236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m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cuümp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dringerp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entrifugaalp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cuüm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26920" y="1285920"/>
            <a:ext cx="742968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15:46:13Z</dcterms:created>
  <dc:creator>Harm v Eijck</dc:creator>
  <dc:description/>
  <dc:language>en-US</dc:language>
  <cp:lastModifiedBy>eme</cp:lastModifiedBy>
  <dcterms:modified xsi:type="dcterms:W3CDTF">2010-03-11T14:57:16Z</dcterms:modified>
  <cp:revision>3</cp:revision>
  <dc:subject/>
  <dc:title>Bemesting</dc:title>
</cp:coreProperties>
</file>