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23.wmf" ContentType="image/x-wmf"/>
  <Override PartName="/ppt/media/image27.jpeg" ContentType="image/jpeg"/>
  <Override PartName="/ppt/media/image21.jpeg" ContentType="image/jpeg"/>
  <Override PartName="/ppt/media/image20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26.jpeg" ContentType="image/jpeg"/>
  <Override PartName="/ppt/media/image17.jpeg" ContentType="image/jpeg"/>
  <Override PartName="/ppt/media/image5.jpeg" ContentType="image/jpeg"/>
  <Override PartName="/ppt/media/image11.wmf" ContentType="image/x-wmf"/>
  <Override PartName="/ppt/media/image33.jpeg" ContentType="image/jpeg"/>
  <Override PartName="/ppt/media/image12.jpeg" ContentType="image/jpeg"/>
  <Override PartName="/ppt/media/image34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6.png" ContentType="image/png"/>
  <Override PartName="/ppt/media/image2.jpeg" ContentType="image/jpeg"/>
  <Override PartName="/ppt/media/image15.jpeg" ContentType="image/jpeg"/>
  <Override PartName="/ppt/media/image35.wmf" ContentType="image/x-wmf"/>
  <Override PartName="/ppt/media/image16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4A95-4410-4072-9976-D2AD9FE7C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58A9-D74C-49F2-B457-D81DF491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E21D-88ED-4343-A130-22CA848D9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AC83-4566-4A7F-83E9-363AEFE73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15EE-1A22-4B95-8BDA-A458A797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B88D-2E35-4FE2-9C90-1FB3F062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D24D-052B-434E-872B-5172CD50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1C98-681B-463B-B53C-647706DE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DFCB-53C5-49BE-8DD5-89D7FE0E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C70F-FD83-431A-883E-B6A3B355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59F0-8D6D-4529-84C3-E1861834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67B9-66FD-4631-922A-B59A9A02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C1A5-036D-48CE-9391-4DE1943F23A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dezeure.be/img/fotos/beertonnen/Dec11_03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m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55964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dringer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35280" y="1468440"/>
            <a:ext cx="550836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651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784836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t- en regelg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eling per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luchting grasz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der vervlieging van voedingsstoffen, minder kunstm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en versmering van gew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der geurover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m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952640"/>
            <a:ext cx="822960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3168360" cy="3132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0920" y="5013360"/>
            <a:ext cx="324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Doorsnee van 250 mm en een dikte v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2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572000" y="1557360"/>
            <a:ext cx="4105440" cy="2666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4284720" y="4292640"/>
            <a:ext cx="45352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26920" y="1401840"/>
            <a:ext cx="752508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4643280" cy="3095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643280" y="3857760"/>
            <a:ext cx="45007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4572000" cy="3316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572000" y="3543480"/>
            <a:ext cx="45720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orten giert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m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ject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me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derne techni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lmeststroo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55640" y="1401840"/>
            <a:ext cx="752472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4500720" cy="3264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500720" y="3490920"/>
            <a:ext cx="464328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rne technie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pdrukcil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55640" y="1351080"/>
            <a:ext cx="759636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ndendrukwisselsyste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68360" y="1557360"/>
            <a:ext cx="460872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ele tankin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Optifill tank"/>
          <p:cNvPicPr/>
          <p:nvPr/>
        </p:nvPicPr>
        <p:blipFill>
          <a:blip r:embed="rId1"/>
          <a:stretch/>
        </p:blipFill>
        <p:spPr>
          <a:xfrm>
            <a:off x="755640" y="1916280"/>
            <a:ext cx="7632720" cy="38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ndeng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5040360" cy="2167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643280" y="3594240"/>
            <a:ext cx="4500720" cy="3263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0" y="3543480"/>
            <a:ext cx="45720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ur-achterw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1700280"/>
            <a:ext cx="590400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6920" y="1214280"/>
            <a:ext cx="752508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716360" y="3500280"/>
            <a:ext cx="4032360" cy="2810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349236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orten giert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kel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ndem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idem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 -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076720" y="4202280"/>
            <a:ext cx="406728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 rot="5400000">
            <a:off x="1158120" y="2233080"/>
            <a:ext cx="2554200" cy="3218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 rot="5400000">
            <a:off x="5319360" y="2391840"/>
            <a:ext cx="28242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kel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6920" y="1365120"/>
            <a:ext cx="759636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dem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1409760"/>
            <a:ext cx="81723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idem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1362240"/>
            <a:ext cx="824400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-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360" y="1379520"/>
            <a:ext cx="817236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m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cuüm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ringer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uüm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6920" y="1285920"/>
            <a:ext cx="74296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15:46:13Z</dcterms:created>
  <dc:creator>Harm v Eijck</dc:creator>
  <dc:description/>
  <dc:language>en-US</dc:language>
  <cp:lastModifiedBy>eme</cp:lastModifiedBy>
  <dcterms:modified xsi:type="dcterms:W3CDTF">2010-03-11T14:57:16Z</dcterms:modified>
  <cp:revision>3</cp:revision>
  <dc:subject/>
  <dc:title>Bemesting</dc:title>
</cp:coreProperties>
</file>