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jpeg" ContentType="image/jpeg"/>
  <Override PartName="/ppt/media/image28.jpeg" ContentType="image/jpeg"/>
  <Override PartName="/ppt/media/image23.wmf" ContentType="image/x-wmf"/>
  <Override PartName="/ppt/media/image27.jpeg" ContentType="image/jpeg"/>
  <Override PartName="/ppt/media/image21.jpeg" ContentType="image/jpeg"/>
  <Override PartName="/ppt/media/image20.jpeg" ContentType="image/jpeg"/>
  <Override PartName="/ppt/media/image1.jpeg" ContentType="image/jpeg"/>
  <Override PartName="/ppt/media/image7.png" ContentType="image/png"/>
  <Override PartName="/ppt/media/image22.jpeg" ContentType="image/jpeg"/>
  <Override PartName="/ppt/media/image8.png" ContentType="image/png"/>
  <Override PartName="/ppt/media/image14.jpeg" ContentType="image/jpeg"/>
  <Override PartName="/ppt/media/image13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2.jpeg" ContentType="image/jpeg"/>
  <Override PartName="/ppt/media/image26.jpeg" ContentType="image/jpeg"/>
  <Override PartName="/ppt/media/image17.jpeg" ContentType="image/jpeg"/>
  <Override PartName="/ppt/media/image5.jpeg" ContentType="image/jpeg"/>
  <Override PartName="/ppt/media/image11.wmf" ContentType="image/x-wmf"/>
  <Override PartName="/ppt/media/image33.jpeg" ContentType="image/jpeg"/>
  <Override PartName="/ppt/media/image12.jpeg" ContentType="image/jpeg"/>
  <Override PartName="/ppt/media/image34.wmf" ContentType="image/x-wmf"/>
  <Override PartName="/ppt/media/image31.jpeg" ContentType="image/jpeg"/>
  <Override PartName="/ppt/media/image10.wmf" ContentType="image/x-wmf"/>
  <Override PartName="/ppt/media/image4.jpeg" ContentType="image/jpeg"/>
  <Override PartName="/ppt/media/image25.jpeg" ContentType="image/jpeg"/>
  <Override PartName="/ppt/media/image6.png" ContentType="image/png"/>
  <Override PartName="/ppt/media/image2.jpeg" ContentType="image/jpeg"/>
  <Override PartName="/ppt/media/image15.jpeg" ContentType="image/jpeg"/>
  <Override PartName="/ppt/media/image35.wmf" ContentType="image/x-wmf"/>
  <Override PartName="/ppt/media/image16.jpeg" ContentType="image/jpeg"/>
  <Override PartName="/ppt/media/image18.jpeg" ContentType="image/jpeg"/>
  <Override PartName="/ppt/media/image19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BE6DB-98F6-4EE6-9693-14660F68D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7E55A-B9E9-4884-A839-695FC8437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9FDC5-DC3B-48D8-B759-FA861B2C8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89162-8579-4D73-9CDD-E4BA6BBAA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4721F-115C-44DE-9C27-FC3155934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19587-B83F-4D88-B43A-4FD38FD31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AC3AE-8DDD-4F05-9C52-4C3192B21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7564A-9756-4C0C-8729-4AEF67106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53FDA-5BD3-4EBF-94BC-3B632D310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39BD7-1028-4FB9-BFF9-EF2B10970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782D0-C5AE-4AA1-A960-0BE8F39C2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9B9A1-FFA1-44EB-8C02-D86BF5CE7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D4057-9767-460E-B72B-58971857A061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1.wmf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ww.dezeure.be/img/fotos/beertonnen/Dec11_03.jpg" TargetMode="External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m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55640" y="1557360"/>
            <a:ext cx="7559640" cy="50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Verdringerpom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835280" y="1468440"/>
            <a:ext cx="5508360" cy="538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ifugaalpom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763640" y="1413000"/>
            <a:ext cx="565164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ifugaalpom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684360" y="1484280"/>
            <a:ext cx="7848360" cy="501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jecter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et- en regelge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rdeling per 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eluchting graszo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inder vervlieging van voedingsstoffen, minder kunstm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Geen versmering van gewass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inder geuroverl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emest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odenbeme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ouwland-injecte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Zodenbemes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457200" y="1952640"/>
            <a:ext cx="8229600" cy="38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Zodenbemes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324000" y="1557360"/>
            <a:ext cx="3168360" cy="31320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250920" y="5013360"/>
            <a:ext cx="3241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800" spc="-1" strike="noStrike">
                <a:solidFill>
                  <a:srgbClr val="000000"/>
                </a:solidFill>
                <a:latin typeface="Arial"/>
              </a:rPr>
              <a:t>Doorsnee van 250 mm en een dikte va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800" spc="-1" strike="noStrike">
                <a:solidFill>
                  <a:srgbClr val="000000"/>
                </a:solidFill>
                <a:latin typeface="Arial"/>
              </a:rPr>
              <a:t>20 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4572000" y="1557360"/>
            <a:ext cx="4105440" cy="266688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4"/>
          <a:stretch/>
        </p:blipFill>
        <p:spPr>
          <a:xfrm>
            <a:off x="4284720" y="4292640"/>
            <a:ext cx="453528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ouwland-injecteu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826920" y="1401840"/>
            <a:ext cx="7525080" cy="54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ouwland-injecteu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0" y="1413000"/>
            <a:ext cx="4643280" cy="309564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4643280" y="3857760"/>
            <a:ext cx="450072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ouwland-injecteu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0" y="1484280"/>
            <a:ext cx="4572000" cy="33163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4572000" y="3543480"/>
            <a:ext cx="4572000" cy="33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hou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oorten giertan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omp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njecte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mes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leepsla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oderne technie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talmeststrooi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eepsla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755640" y="1401840"/>
            <a:ext cx="7524720" cy="54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eepsla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0" y="1341360"/>
            <a:ext cx="4500720" cy="32641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500720" y="3490920"/>
            <a:ext cx="4643280" cy="33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erne techniek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opdrukcilin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755640" y="1351080"/>
            <a:ext cx="7596360" cy="550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andendrukwisselsyste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268360" y="1557360"/>
            <a:ext cx="4608720" cy="455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riabele tankinhou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Optifill tank"/>
          <p:cNvPicPr/>
          <p:nvPr/>
        </p:nvPicPr>
        <p:blipFill>
          <a:blip r:embed="rId1"/>
          <a:stretch/>
        </p:blipFill>
        <p:spPr>
          <a:xfrm>
            <a:off x="755640" y="1916280"/>
            <a:ext cx="7632720" cy="389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ndenga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179280" y="1268280"/>
            <a:ext cx="5040360" cy="21672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4643280" y="3594240"/>
            <a:ext cx="4500720" cy="32637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4"/>
          <a:stretch/>
        </p:blipFill>
        <p:spPr>
          <a:xfrm>
            <a:off x="0" y="3543480"/>
            <a:ext cx="4572000" cy="33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Deur-achterw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619280" y="1700280"/>
            <a:ext cx="5904000" cy="44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lmeststrooi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826920" y="1214280"/>
            <a:ext cx="7525080" cy="564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lmeststrooi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4716360" y="3500280"/>
            <a:ext cx="4032360" cy="28101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324000" y="1413000"/>
            <a:ext cx="3492360" cy="345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orten giert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nkel Ass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andem Ass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ridem Ass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4 - Ass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lmeststrooi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50920" y="1484280"/>
            <a:ext cx="3960720" cy="297036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5076720" y="4202280"/>
            <a:ext cx="4067280" cy="26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lmeststrooi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 rot="5400000">
            <a:off x="1158120" y="2233080"/>
            <a:ext cx="2554200" cy="321804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 rot="5400000">
            <a:off x="5319360" y="2391840"/>
            <a:ext cx="282420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kel Ass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826920" y="1365120"/>
            <a:ext cx="7596360" cy="549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dem Ass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68360" y="1409760"/>
            <a:ext cx="8172360" cy="54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ridem Ass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68360" y="1362240"/>
            <a:ext cx="8244000" cy="54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 - Ass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68360" y="1379520"/>
            <a:ext cx="8172360" cy="547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mp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acuümpom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rdringerpom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entrifugaalpom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cuümpom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826920" y="1285920"/>
            <a:ext cx="742968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0T15:46:13Z</dcterms:created>
  <dc:creator>Harm v Eijck</dc:creator>
  <dc:description/>
  <dc:language>en-US</dc:language>
  <cp:lastModifiedBy>eme</cp:lastModifiedBy>
  <dcterms:modified xsi:type="dcterms:W3CDTF">2010-03-11T14:57:16Z</dcterms:modified>
  <cp:revision>3</cp:revision>
  <dc:subject/>
  <dc:title>Bemesting</dc:title>
</cp:coreProperties>
</file>