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60E3-DA36-4C18-A968-BE2EC6904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8B7C-F008-40AD-9B60-AF3389A0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691F-0D52-4C83-89E5-C289E0678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6AFE-98CE-43FF-842B-D03AE9009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EA40-E4F3-4E41-8465-865B51E0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E0DE-FD17-4438-8112-A58D910B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645C-53A9-4C39-8E3A-3236D494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57B4-F4E1-47DA-8559-742B1C02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4F35-58E1-4BFA-9593-777F2D69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10F0-0613-44ED-A557-1171C3C0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6077-59C4-4EA4-8900-F9169B30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4FCD-AD9A-4968-96D8-10EF713F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B87D-6387-4A10-B7B7-345940BD372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ascisme en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tionaal-social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menvatting 4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itl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33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tler wordt rijkskanse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34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 dood van president  Vo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ndenburg wordt Hitler Füh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hitler460"/>
          <p:cNvPicPr/>
          <p:nvPr/>
        </p:nvPicPr>
        <p:blipFill>
          <a:blip r:embed="rId1"/>
          <a:stretch/>
        </p:blipFill>
        <p:spPr>
          <a:xfrm>
            <a:off x="1258920" y="3573360"/>
            <a:ext cx="4381560" cy="28576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5867280" y="5157720"/>
            <a:ext cx="25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Der F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ührer (de leider): Adolf Hitl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litiek van Hit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rreur = tegenstanders met geweld te lijf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(S.A. en concentratiekamp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chaffing democratie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Duitsland wordt totalitaire dictat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lijkschakeling dmv indoctrinatie, censuur en propag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ntisemitisme = Jodenvervol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chaffing van Verdrag van Versai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Uitvoering van Lebensraum en Heim ins Re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lijkschak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litiek van Hitler in Duitsland = gelijkschakeling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Alle organisaties en media zijn in handen van de Nazi”s, zodat zij de Nazi-ideeën overal kunnen overbren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part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vak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een Nazi-jeugdbeweg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nsu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wijs volgens Nazi-ideeën = indoctrin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Fascisme/nationaal-socialisme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in Neder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xtreemrechts in NL geen grote aanhang omd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nsen hun eigen zuil trouw blev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in NL tijdens het interbellum rustig 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Anton%20Mussert"/>
          <p:cNvPicPr/>
          <p:nvPr/>
        </p:nvPicPr>
        <p:blipFill>
          <a:blip r:embed="rId1"/>
          <a:stretch/>
        </p:blipFill>
        <p:spPr>
          <a:xfrm>
            <a:off x="1332000" y="3860640"/>
            <a:ext cx="2952720" cy="26384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4643280" y="5300640"/>
            <a:ext cx="273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Leider van de N.S.B. : Anton Mus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Nederland en de 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conomische cri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35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00.000 werklozen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 x per dag stemp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geringsmaatregel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verschaffingsprojec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passingspolitiek van regering Colijn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bezuinigingspolitiek: niet meer geld uitgeven dan er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hendrik-colijn"/>
          <p:cNvPicPr/>
          <p:nvPr/>
        </p:nvPicPr>
        <p:blipFill>
          <a:blip r:embed="rId1"/>
          <a:stretch/>
        </p:blipFill>
        <p:spPr>
          <a:xfrm>
            <a:off x="6372360" y="1413000"/>
            <a:ext cx="2590560" cy="26654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7093080" y="429264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Hendrik Colij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.S.B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tionaal Socialistische Beweging olv Anton Mussert was geen succes omdat: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na 1936 met de economie beter 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lijn als sterke leider gezien werd door het volk; dus geen behoefte aan Muss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el mensen de ideeën van de NSB gevaarlijk vo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zui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derland wil in naderende oorlog weer neutraal bl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asc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ascisme = politieke str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aan in Italië na 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Wereldoorlog olv Benito Mussol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zaken ontstaan Fascisme: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conomische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evredenheid over Vrede van Versai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pulair bij rijken en christelijken (anticommunistis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enmerken fasc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ional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-leiderprinc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schaffing democ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munisme = aartsvij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eld toegestaan om doel te bere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ussoli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2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ussolini premier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schaffing democ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ussolini moet macht delen met koning en pa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mussolini"/>
          <p:cNvPicPr/>
          <p:nvPr/>
        </p:nvPicPr>
        <p:blipFill>
          <a:blip r:embed="rId1"/>
          <a:stretch/>
        </p:blipFill>
        <p:spPr>
          <a:xfrm>
            <a:off x="5724360" y="4076640"/>
            <a:ext cx="2095560" cy="23050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2700360" y="5373720"/>
            <a:ext cx="26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Il Duce (de leider): Benito Mussol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conomische crisis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19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risis begint in VS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elen op Wall Street bijna niets meer waard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bedrijven failliet en mensen werklo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zaken crisis z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productie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productieverlaging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ntslag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werklozen minder geld om te kop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nog minder productie en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ol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ven faill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sen werklo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sen zijn spaargeld kwij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risis slaat over naar Europa en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Nationaal-Socialisme in Duits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litieke partij = NSDAP (Naziparti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ascisme plus rassenl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staan in Duitsland na 1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ereldoorlog olv Adolf Hit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rzaken ontstaan Fascisme: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onomische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evredenheid over Vrede van Versai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Kenmerken nationaal-socialism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ional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-leiderprinc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schaffing democ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munisme = aartsvij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eld toegestaan om doel te bere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assenleer: Duitse volk is superieur aa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andere volk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tisemit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rogrammapunten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NSD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schaffing Vrede van Versai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schaffing parlementaire democratie van de Weimarrepubliek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Nazi’s willen 1 leider = Hit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tisemitisme: Joden uit Duitse maatschappij verwij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bensra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im ins Re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munisme verniet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Verklaringen voor Hitler’s groeiende popularite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loftes om economische crisis van 1929 op te lo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lofte om vernederende Vrede van Versailles af te schaf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ede sprek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2:47:51Z</dcterms:created>
  <dc:creator>OTTJ</dc:creator>
  <dc:description/>
  <dc:language>en-US</dc:language>
  <cp:lastModifiedBy>ottj</cp:lastModifiedBy>
  <cp:lastPrinted>2011-09-27T11:55:14Z</cp:lastPrinted>
  <dcterms:modified xsi:type="dcterms:W3CDTF">2013-09-18T08:47:04Z</dcterms:modified>
  <cp:revision>8</cp:revision>
  <dc:subject/>
  <dc:title>Fascisme en  Nationaal-socialisme</dc:title>
</cp:coreProperties>
</file>