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6B2-02E3-4977-9044-37BCA167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566-ACC7-425D-B5CF-CDD856EE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65B-D919-4CFA-8C19-3543A1E1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6BA-F9EF-41BE-B321-E5EDA415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87D-E9E9-4BBA-A116-79B8EC4E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76B-5B13-480E-B013-87967A8B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56A-96B8-4E90-B901-E454E689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08D-49FE-4699-A92E-276D96CA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415-4B71-436A-875A-FC3EE669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2F0-627B-4816-AC54-77B45E35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2C9-239B-4BA3-90DA-C22758E2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448-4B95-4468-9BE7-A4FAE116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0422-805A-4DBC-8CB1-9B1C67AC83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al-soci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t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wordt rijkskan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4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dood van president  Vo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denburg wordt Hitler Füh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itler460"/>
          <p:cNvPicPr/>
          <p:nvPr/>
        </p:nvPicPr>
        <p:blipFill>
          <a:blip r:embed="rId1"/>
          <a:stretch/>
        </p:blipFill>
        <p:spPr>
          <a:xfrm>
            <a:off x="1258920" y="3573360"/>
            <a:ext cx="438156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867280" y="51577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Der F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ührer (de leider): Adolf Hit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ek van 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rreur = tegenstanders met geweld te lij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(S.A. en concentratiekam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affing democra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Duitsland wordt totalitaire dict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ijkschakeling dmv indoctrinatie, censuur en propa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tisemitisme = Jodenvervol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affing van Verdrag van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voering van Lebensraum en Heim ins 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lijkscha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an Hitler in Duitsland = gelijkscha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 organisaties en media zijn in handen van de Nazi”s, zodat zij de Nazi-ideeën overal kunnen overbre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par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vak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en Nazi-jeugdbewe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s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wijs volgens Nazi-ideeën = indoctr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scisme/nationaal-socialisme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Neder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eemrechts in NL geen grote aanhang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sen hun eigen zuil trouw ble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in NL tijdens het interbellum rustig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ton%20Mussert"/>
          <p:cNvPicPr/>
          <p:nvPr/>
        </p:nvPicPr>
        <p:blipFill>
          <a:blip r:embed="rId1"/>
          <a:stretch/>
        </p:blipFill>
        <p:spPr>
          <a:xfrm>
            <a:off x="1332000" y="3860640"/>
            <a:ext cx="2952720" cy="2638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4643280" y="5300640"/>
            <a:ext cx="27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ider van de N.S.B. : Anton Mus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 e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0.000 werkloz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x per dag stemp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verschaffings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ssingspolitiek van regering Colij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zuinigingspolitiek: niet meer geld uitgeven dan 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ndrik-colijn"/>
          <p:cNvPicPr/>
          <p:nvPr/>
        </p:nvPicPr>
        <p:blipFill>
          <a:blip r:embed="rId1"/>
          <a:stretch/>
        </p:blipFill>
        <p:spPr>
          <a:xfrm>
            <a:off x="6372360" y="1413000"/>
            <a:ext cx="2590560" cy="2665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7093080" y="42926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Hendrik Colij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.S.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al Socialistische Beweging olv Anton Mussert was geen succes omdat: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na 1936 met de economie beter 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lijn als sterke leider gezien werd door het volk; dus geen behoefte aan Mus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mensen de ideeën van de NSB gevaarlijk vo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u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wil in naderende oorlog weer neutraal bl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ascisme = politieke str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in Italië na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eldoorlog olv Beni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pulair bij rijken en christelijken (anticommunist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 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ssolini premier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ssolini moet macht delen met koning en pa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solini"/>
          <p:cNvPicPr/>
          <p:nvPr/>
        </p:nvPicPr>
        <p:blipFill>
          <a:blip r:embed="rId1"/>
          <a:stretch/>
        </p:blipFill>
        <p:spPr>
          <a:xfrm>
            <a:off x="5724360" y="407664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700360" y="537372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Il Duce (de leider): Benito Mussol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sis begint in VS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elen op Wall Street bijna niets meer waa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drijven failliet en mensen werklo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crisis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producti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productieverlag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la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klozen minder geld om te kop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og minder productie 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werkl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zijn spaargeld kwi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sis slaat over naar Europa e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ationaal-Socialisme in Duit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partij = NSDAP (Naziparti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cisme plus rassen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in Duitsland na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olv Adol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enmerken nationaal-socia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leer: Duitse volk is superieur a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andere volk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pun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SD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parlementaire democratie van de Weimarrepublie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Nazi’s willen 1 leider =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: Joden uit Duitse maatschappij verwij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im ins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vernie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rklaringen voor Hitler’s groeiende popular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s om economische crisis van 1929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 om vernederende Vrede van Versailles af te sch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sp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47:51Z</dcterms:created>
  <dc:creator>OTTJ</dc:creator>
  <dc:description/>
  <dc:language>en-US</dc:language>
  <cp:lastModifiedBy>ottj</cp:lastModifiedBy>
  <cp:lastPrinted>2011-09-27T11:55:14Z</cp:lastPrinted>
  <dcterms:modified xsi:type="dcterms:W3CDTF">2013-09-18T08:47:04Z</dcterms:modified>
  <cp:revision>8</cp:revision>
  <dc:subject/>
  <dc:title>Fascisme en  Nationaal-socialisme</dc:title>
</cp:coreProperties>
</file>