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401-10CF-4849-B466-2CE01483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8E8-855A-4F2D-953F-BA418F82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BD72-5DC4-4C20-A16B-1BE2F2AE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A8E7-5C4E-461C-A6F5-BBE0228B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6C5B-415C-479E-81C4-C880CED6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589-4D6A-44A7-A2A8-A6651EFF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5B8-ADC6-40EF-8367-E25AB0E2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9F2-4582-412B-8B17-DEF7EB32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3E07-A1A2-42B7-87A1-0ADFCF54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4FA-B650-46AA-8B0C-397F126B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24EA-B1AA-45F8-93AF-F251D14D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8D0-C84C-4B87-B140-D55D6D4F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92B6-D5FF-4FAC-A745-9E8BB1D765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ionaalsoci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.3  samenv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ascisme = politieke str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in Italië na 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ereldoorlog olv Benito Mussol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ontstaan Fascisme: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pulair bij middenklasse (kleine zelfstandigen) en christelijken (anticommunisti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 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ationaal-socialisme in Duit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e partij = NSDAP (Naziparti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scisme plus rassen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taan in Duitsland na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 olv Adolf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zaken ontstaan nationaalsocialisme: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Kenmerken nationaalsocialis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leer: Duitse volk is superieur a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andere volk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punte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SD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emitisme: Joden uit Duitse maatschappij verwij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bensra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im ins 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vernie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erklaringen voor Hitler’s groeiende popular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s om economische crisis van 1929 op te 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 om vernederende Vrede van Versailles af te scha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spre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tl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tler wordt rijkskanse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4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dood van president wordt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tler Füh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lijkschak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van Hitler in Duitsland = gelijkschakeling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Alle organisaties en media zijn in handen van de Nazi”s, zodat zij de nazi-ideeën overal kunnen overbre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part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vak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zi-jeugdbewe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ensu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wijs volgens nazi-idee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08:29:44Z</dcterms:created>
  <dc:creator>OTTJ</dc:creator>
  <dc:description/>
  <dc:language>en-US</dc:language>
  <cp:lastModifiedBy>ottj</cp:lastModifiedBy>
  <dcterms:modified xsi:type="dcterms:W3CDTF">2012-09-12T11:43:46Z</dcterms:modified>
  <cp:revision>4</cp:revision>
  <dc:subject/>
  <dc:title>Fascisme en  Nationaal-socialisme</dc:title>
</cp:coreProperties>
</file>