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2F49-A51C-44CA-9D7A-E11D412D32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0117-CB2B-4408-AEB5-F73914192D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AA8-63E7-486B-9A43-9FE4F099A89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0940-2C77-46DF-B55B-2D08BC6751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309A-2DD1-4BDA-AA2C-5A55DD06A9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C756-6E45-4753-8273-67417FF3EC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3656-7F98-4961-B5F8-EE194C1572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656B-FBDF-420C-9B63-4B5FD2B7EA0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5AED-DA7D-4A75-A501-CAB58F2290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0F34-5AC4-40E5-84F2-247F370708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892-16E9-42AB-B9FA-E3FB453BA2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69E-B9D9-40FF-A1F0-C81C3E4E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6B1-1E6A-48B3-B188-B69AE98C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318-534D-4266-A0A6-74CFAC7C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E6E-663D-4945-9ACB-5F4292DC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CDE-A2D7-4AA6-9859-52B4EE23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CDC-52AD-416E-B688-3F5FE2A5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80E-BB8A-4D0A-87EF-AE5C663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AAD-D26D-414B-97B4-83FAD619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B1A-B7AD-417F-B3C7-1A1CBB3C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04A-B9F9-49BA-AB63-565F5732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C27-FF65-4788-9461-1CA1FFAA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F11-2B2D-456B-BE45-9A927C1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E28F-2CE8-48A0-B9CF-F37D9D131A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r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lin = paranoia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erdenkt vele mensen om hem te willen vermoorden, ook commun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eime politie op mensenj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zuiveringen via showprocess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lagen en arresta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afkampen in Siberië (Goelagarchi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leiders van CP en leger zijn dup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ovjet Unie verzw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miljoenen d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k heeft politiek niets te ver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standers van de Tsaar onderdru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rm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aan verliezende hand in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olutie = snelle, totale vera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Rusland in 1917  twee revol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bruari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saar  Nicolaas II treedt af, Liberalen aan de m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ktober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ommunisten olv Lenin grijpen de ma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Tsaar%20Nicolaas%20II"/>
          <p:cNvPicPr/>
          <p:nvPr/>
        </p:nvPicPr>
        <p:blipFill>
          <a:blip r:embed="rId1"/>
          <a:stretch/>
        </p:blipFill>
        <p:spPr>
          <a:xfrm>
            <a:off x="4716360" y="3068640"/>
            <a:ext cx="2686320" cy="212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76360" y="407664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Tsaar Nicolaas II en zijn gez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arbeiders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 = revolutie en geen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communistische partij bepaalt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alles in het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amer_en_sikkel"/>
          <p:cNvPicPr/>
          <p:nvPr/>
        </p:nvPicPr>
        <p:blipFill>
          <a:blip r:embed="rId1"/>
          <a:stretch/>
        </p:blipFill>
        <p:spPr>
          <a:xfrm>
            <a:off x="3564000" y="3933720"/>
            <a:ext cx="1817640" cy="1781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348000" y="5805360"/>
            <a:ext cx="23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e hamer en de sikkel staan symbool voor de arbeiders en bo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atregelen van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bedrijven en grond in handen van de staa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r is geen prive-bezit toege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andere politieke partijen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geheime poli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elige vrede met Duits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Lenin moet zich concentreren                         op burgeroorl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enin"/>
          <p:cNvPicPr/>
          <p:nvPr/>
        </p:nvPicPr>
        <p:blipFill>
          <a:blip r:embed="rId1"/>
          <a:stretch/>
        </p:blipFill>
        <p:spPr>
          <a:xfrm>
            <a:off x="6659640" y="3213000"/>
            <a:ext cx="2190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nin verandert naam in 1922 in:                   Unie van Socialistische Sovjet Republieken =  Sovjet –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= raad van en/of arbeiders en/of boeren en/of soldat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In theorie besturen zij steden, fabrieken, boerderijen en leg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In praktijk niet het volk, maar                             Communistische Partij de baa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nieuwe e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tali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otalitaire dictatu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24 Stalin volgt Leni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alitaire dictatuur = CP bepaalt leven van de burger volled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cht geheime politie (ang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sverheerlijking (grote beelden Stal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paganda voor Sta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ctr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talin"/>
          <p:cNvPicPr/>
          <p:nvPr/>
        </p:nvPicPr>
        <p:blipFill>
          <a:blip r:embed="rId1"/>
          <a:stretch/>
        </p:blipFill>
        <p:spPr>
          <a:xfrm>
            <a:off x="6300720" y="4653000"/>
            <a:ext cx="1762200" cy="1923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356000" y="595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= regering bepaalt alles op economisch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werkt met 5-jarenplann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Wat er elke 5 jaar gepresteerd moe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ovjet Unie in 10 jaar grote industrie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eiders uitgeknepen en vele gevangenen ingezet als dwangarbeider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ectiev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 gedwongen om op gemeenschappelijke boerderijen (kolchozen) of staatsboerderijen (sovchozen) te wer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hogere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verzet van boer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illen eigen stuk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tandige boeren verm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fe53ed347ca14702bf64ca7ceaaba709"/>
          <p:cNvPicPr/>
          <p:nvPr/>
        </p:nvPicPr>
        <p:blipFill>
          <a:blip r:embed="rId1"/>
          <a:stretch/>
        </p:blipFill>
        <p:spPr>
          <a:xfrm>
            <a:off x="6300720" y="3213000"/>
            <a:ext cx="142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8:31:46Z</dcterms:created>
  <dc:creator>OTTJ</dc:creator>
  <dc:description/>
  <dc:language>en-US</dc:language>
  <cp:lastModifiedBy>ottj</cp:lastModifiedBy>
  <cp:lastPrinted>2011-09-27T11:53:09Z</cp:lastPrinted>
  <dcterms:modified xsi:type="dcterms:W3CDTF">2011-09-27T11:53:58Z</dcterms:modified>
  <cp:revision>9</cp:revision>
  <dc:subject/>
  <dc:title>De Russische Revolutie</dc:title>
</cp:coreProperties>
</file>