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928-34C5-463F-89E2-1B539CC2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C14-4146-422D-90F0-3626158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150-0366-4047-99CA-D9AD6CDE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ADD-D576-4555-BF13-871B7FFF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33D-EBD8-4F79-B7AF-5B891F2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33C-3BAC-488F-B4ED-19A092D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ADD-5F46-4F1F-93BC-017F5B08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951-E239-4B47-BB0F-3C65D67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30A-8038-4628-89AC-8613CD3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7F7-A690-4AFA-B2F5-EB5704F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971-BEA2-447D-92E0-4FD66C7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E53-C8D2-4234-A536-3B2F52A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D3DA-9544-4AD6-B9ED-32647EA0CE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3  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middenklasse (kleine zelfstandigen)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nationaalsocial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word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Hitler in Duitsland = gelijkschakeling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Alle organisaties en media zijn in handen van de Nazi”s, zodat zij de nazi-ideeën overal kunnen overbr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zi-jeugd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olgens nazi-ide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29:44Z</dcterms:created>
  <dc:creator>OTTJ</dc:creator>
  <dc:description/>
  <dc:language>en-US</dc:language>
  <cp:lastModifiedBy>ottj</cp:lastModifiedBy>
  <dcterms:modified xsi:type="dcterms:W3CDTF">2012-09-12T11:43:46Z</dcterms:modified>
  <cp:revision>4</cp:revision>
  <dc:subject/>
  <dc:title>Fascisme en  Nationaal-socialisme</dc:title>
</cp:coreProperties>
</file>