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4C11E-A49F-4E7E-A876-B0768A5D5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574D6-7132-41DA-AD83-ECFF29E12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C512A-6E4B-4ECD-8394-C9DC565D4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0B165-D506-4781-B0F2-14B737E30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08022-BFEA-49DB-B702-B139EA365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DB585-9BC6-40A5-87DD-802A3B0F2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94386-E1BA-4E5D-A8DF-60ACC27FE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F94E7-1B03-4455-8EA3-9C55DAE80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BE897-D24C-4113-BF35-18D35217C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2A26C-3FFC-4165-997C-61C021A8A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EAEEE-E63D-48E4-88D7-06AEF8020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33798-B14A-41D0-B3FE-0FD5BB13A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AD354-D44C-424C-9E86-033C26E9BE4D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Fascisme en </a:t>
            </a:r>
            <a:br>
              <a:rPr sz="4400"/>
            </a:b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Nationaal-socialis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amenvatting 4.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itle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933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itler wordt rijkskansel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934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a dood van president  Von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indenburg wordt Hitler Führ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5" descr="hitler460"/>
          <p:cNvPicPr/>
          <p:nvPr/>
        </p:nvPicPr>
        <p:blipFill>
          <a:blip r:embed="rId1"/>
          <a:stretch/>
        </p:blipFill>
        <p:spPr>
          <a:xfrm>
            <a:off x="1258920" y="3573360"/>
            <a:ext cx="4381560" cy="2857680"/>
          </a:xfrm>
          <a:prstGeom prst="rect">
            <a:avLst/>
          </a:prstGeom>
          <a:ln w="0">
            <a:noFill/>
          </a:ln>
        </p:spPr>
      </p:pic>
      <p:sp>
        <p:nvSpPr>
          <p:cNvPr id="64" name="Text Box 6"/>
          <p:cNvSpPr/>
          <p:nvPr/>
        </p:nvSpPr>
        <p:spPr>
          <a:xfrm>
            <a:off x="5867280" y="5157720"/>
            <a:ext cx="252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200" spc="-1" strike="noStrike">
                <a:solidFill>
                  <a:srgbClr val="000000"/>
                </a:solidFill>
                <a:latin typeface="Arial"/>
              </a:rPr>
              <a:t>Der F</a:t>
            </a:r>
            <a:r>
              <a:rPr b="0" i="1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ührer (de leider): Adolf Hitl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Politiek van Hitl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Terreur = tegenstanders met geweld te lijf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 (S.A. en concentratiekampe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fschaffing democratie </a:t>
            </a:r>
            <a:r>
              <a:rPr b="0" lang="nl-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Duitsland wordt totalitaire dictatu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lijkschakeling dmv indoctrinatie, censuur en propagan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ntisemitisme = Jodenvervolg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fschaffing van Verdrag van Versail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Uitvoering van Lebensraum en Heim ins Rei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Gelijkschake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olitiek van Hitler in Duitsland = gelijkschakeling 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Alle organisaties en media zijn in handen van de Nazi”s, zodat zij de Nazi-ideeën overal kunnen overbreng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 parti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 vakbo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lleen Nazi-jeugdbewegin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ensuu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nderwijs volgens Nazi-ideeën = indoctrina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Fascisme/nationaal-socialisme</a:t>
            </a:r>
            <a:br>
              <a:rPr sz="4000"/>
            </a:b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in Nederla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xtreemrechts in NL geen grote aanhang omda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ensen hun eigen zuil trouw bleve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et in NL tijdens het interbellum rustig w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5" descr="Anton%20Mussert"/>
          <p:cNvPicPr/>
          <p:nvPr/>
        </p:nvPicPr>
        <p:blipFill>
          <a:blip r:embed="rId1"/>
          <a:stretch/>
        </p:blipFill>
        <p:spPr>
          <a:xfrm>
            <a:off x="1332000" y="3860640"/>
            <a:ext cx="2952720" cy="2638440"/>
          </a:xfrm>
          <a:prstGeom prst="rect">
            <a:avLst/>
          </a:prstGeom>
          <a:ln w="0">
            <a:noFill/>
          </a:ln>
        </p:spPr>
      </p:pic>
      <p:sp>
        <p:nvSpPr>
          <p:cNvPr id="72" name="Text Box 6"/>
          <p:cNvSpPr/>
          <p:nvPr/>
        </p:nvSpPr>
        <p:spPr>
          <a:xfrm>
            <a:off x="4643280" y="5300640"/>
            <a:ext cx="273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200" spc="-1" strike="noStrike">
                <a:solidFill>
                  <a:srgbClr val="000000"/>
                </a:solidFill>
                <a:latin typeface="Arial"/>
              </a:rPr>
              <a:t>Leider van de N.S.B. : Anton Muss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Nederland en de </a:t>
            </a:r>
            <a:br>
              <a:rPr sz="4000"/>
            </a:b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economische cris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935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500.000 werklozen 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2 x per dag stempe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egeringsmaatregele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erkverschaffingsprojec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anpassingspolitiek van regering Colijn 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bezuinigingspolitiek: niet meer geld uitgeven dan er 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5" descr="hendrik-colijn"/>
          <p:cNvPicPr/>
          <p:nvPr/>
        </p:nvPicPr>
        <p:blipFill>
          <a:blip r:embed="rId1"/>
          <a:stretch/>
        </p:blipFill>
        <p:spPr>
          <a:xfrm>
            <a:off x="6372360" y="1413000"/>
            <a:ext cx="2590560" cy="2665440"/>
          </a:xfrm>
          <a:prstGeom prst="rect">
            <a:avLst/>
          </a:prstGeom>
          <a:ln w="0">
            <a:noFill/>
          </a:ln>
        </p:spPr>
      </p:pic>
      <p:sp>
        <p:nvSpPr>
          <p:cNvPr id="76" name="Text Box 6"/>
          <p:cNvSpPr/>
          <p:nvPr/>
        </p:nvSpPr>
        <p:spPr>
          <a:xfrm>
            <a:off x="7093080" y="4292640"/>
            <a:ext cx="1439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200" spc="-1" strike="noStrike">
                <a:solidFill>
                  <a:srgbClr val="000000"/>
                </a:solidFill>
                <a:latin typeface="Arial"/>
              </a:rPr>
              <a:t>Hendrik Colij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N.S.B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Nationaal Socialistische Beweging olv Anton Mussert was geen succes omdat: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et na 1936 met de economie beter g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Colijn als sterke leider gezien werd door het volk; dus geen behoefte aan Musse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eel mensen de ideeën van de NSB gevaarlijk von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erzui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Nederland wil in naderende oorlog weer neutraal blijv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Fascis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Fascisme = politieke stro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tstaan in Italië na 1</a:t>
            </a:r>
            <a:r>
              <a:rPr b="0" lang="nl-NL" sz="24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Wereldoorlog olv Benito Mussoli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orzaken ontstaan Fascisme: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conomische cri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tevredenheid over Vrede van Versail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opulair bij rijken en christelijken (anticommunistisc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Kenmerken fascis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ationalis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-leiderprinci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fschaffing democra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ommunisme = aartsvij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weld toegestaan om doel te berei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Mussolin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922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ussolini premier 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fschaffing democra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ussolini moet macht delen met koning en pau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mussolini"/>
          <p:cNvPicPr/>
          <p:nvPr/>
        </p:nvPicPr>
        <p:blipFill>
          <a:blip r:embed="rId1"/>
          <a:stretch/>
        </p:blipFill>
        <p:spPr>
          <a:xfrm>
            <a:off x="5724360" y="4076640"/>
            <a:ext cx="2095560" cy="2305080"/>
          </a:xfrm>
          <a:prstGeom prst="rect">
            <a:avLst/>
          </a:prstGeom>
          <a:ln w="0">
            <a:noFill/>
          </a:ln>
        </p:spPr>
      </p:pic>
      <p:sp>
        <p:nvSpPr>
          <p:cNvPr id="50" name="Text Box 6"/>
          <p:cNvSpPr/>
          <p:nvPr/>
        </p:nvSpPr>
        <p:spPr>
          <a:xfrm>
            <a:off x="2700360" y="5373720"/>
            <a:ext cx="26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200" spc="-1" strike="noStrike">
                <a:solidFill>
                  <a:srgbClr val="000000"/>
                </a:solidFill>
                <a:latin typeface="Arial"/>
              </a:rPr>
              <a:t>Il Duce (de leider): Benito Mussolin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Economische crisis</a:t>
            </a:r>
            <a:br>
              <a:rPr sz="4000"/>
            </a:b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192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risis begint in VS </a:t>
            </a:r>
            <a:r>
              <a:rPr b="0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delen op Wall Street bijna niets meer waard </a:t>
            </a:r>
            <a:r>
              <a:rPr b="0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bedrijven failliet en mensen werklo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orzaken crisis zij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verproductie </a:t>
            </a:r>
            <a:r>
              <a:rPr b="0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productieverlaging </a:t>
            </a:r>
            <a:r>
              <a:rPr b="0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ontslagen </a:t>
            </a:r>
            <a:r>
              <a:rPr b="0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werklozen minder geld om te kopen </a:t>
            </a:r>
            <a:r>
              <a:rPr b="0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nog minder productie enz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volg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drijven failli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nsen werklo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nsen zijn spaargeld kwij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risis slaat over naar Europa en Jap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Nationaal-Socialisme in Duitsla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olitieke partij = NSDAP (Nazipartij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Fascisme plus rassenle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ntstaan in Duitsland na 1</a:t>
            </a:r>
            <a:r>
              <a:rPr b="0" lang="nl-NL" sz="32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Wereldoorlog olv Adolf Hitl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orzaken ontstaan Fascisme: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conomische cri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ntevredenheid over Vrede van Versail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Kenmerken nationaal-socialism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ationalis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-leiderprinci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fschaffing democra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ommunisme = aartsvij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weld toegestaan om doel te berei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assenleer: Duitse volk is superieur aan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      andere volke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ntisemitis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Programmapunten</a:t>
            </a:r>
            <a:br>
              <a:rPr sz="4000"/>
            </a:b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NSDA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fschaffing Vrede van Versail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fschaffing parlementaire democratie van de Weimarrepubliek 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Nazi’s willen 1 leider = Hitl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ntisemitisme: Joden uit Duitse maatschappij verwijde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ebensra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eim ins Re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ommunisme vernieti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Verklaringen voor Hitler’s groeiende popularitei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loftes om economische crisis van 1929 op te loss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lofte om vernederende Vrede van Versailles af te schaff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oede sprek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5T12:47:51Z</dcterms:created>
  <dc:creator>OTTJ</dc:creator>
  <dc:description/>
  <dc:language>en-US</dc:language>
  <cp:lastModifiedBy>ottj</cp:lastModifiedBy>
  <cp:lastPrinted>2011-09-27T11:55:14Z</cp:lastPrinted>
  <dcterms:modified xsi:type="dcterms:W3CDTF">2013-09-18T08:47:04Z</dcterms:modified>
  <cp:revision>8</cp:revision>
  <dc:subject/>
  <dc:title>Fascisme en  Nationaal-socialisme</dc:title>
</cp:coreProperties>
</file>