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53D-CA06-48B9-8994-83230D37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98D-30FD-4BCB-9D15-99EFE27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C17-DD3A-469E-A1A5-1AABBDE6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E67-ACFC-4B30-9D23-4D09A3FA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AAD-FD7D-43F2-99E7-A25148B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296-145A-4AE2-AEBF-0DC532F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89-CE04-4FC3-97D1-1F4D5F1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CBC-E1A1-48B5-8B52-C1913CD2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7D7-4D4B-4AF1-992A-DFB0B8C0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300-8FF4-445A-902F-CAE44A1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32-6929-4897-AAB3-EE13CAB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AEB-E56F-4C0F-A929-CEDF650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129-14A7-48C5-839F-79002A60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eyk</cp:lastModifiedBy>
  <dcterms:modified xsi:type="dcterms:W3CDTF">2009-04-15T14:17:44Z</dcterms:modified>
  <cp:revision>2</cp:revision>
  <dc:subject/>
  <dc:title>Kunstmeststrooien</dc:title>
</cp:coreProperties>
</file>