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png" ContentType="image/png"/>
  <Override PartName="/ppt/media/image15.jpeg" ContentType="image/jpeg"/>
  <Override PartName="/ppt/media/image14.jpeg" ContentType="image/jpeg"/>
  <Override PartName="/ppt/media/image2.png" ContentType="image/png"/>
  <Override PartName="/ppt/media/image1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B80B0-E259-4638-B43F-197E9AC64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7A579-DE96-4B6D-833F-AE53F6AB4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14E16-979A-4970-8131-BCB4F1F9E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DD23A-B27A-49E8-BA3E-74BD04F61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6CC1E-8AAE-4D15-A933-01927F264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DFBC7-113E-4207-AA6F-C1AA6851E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63239-733C-4B75-B516-79517BA9E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1E4A2-1321-4FFB-809C-556762255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17AB1-FCEB-4BD2-BEB1-F73DB4626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8FF23-A9B0-4693-986B-8EA87FDEA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6A9D4-6307-4466-8CB2-AEE6D2881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72361-F801-478E-9E7F-D9FE61F56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77AE3-CC0D-4E64-8BF5-8D91026CA7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unstmeststrooi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erkeerde afstel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042920" y="1773360"/>
            <a:ext cx="6913800" cy="44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aar opletten bij het kunstmeststrooi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Juiste toerental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Juiste snelheid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Gelijke openingen dosering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Goede aanbouwhoogt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Strooier schoon make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Let op de wind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042920" y="0"/>
            <a:ext cx="6658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m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isbemesting: hiervan is sprake als er geen gewas op het veld staa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jbemesting &gt; 55 cm.: hiervan is sprake als er een gewas op het veld staat en het mogelijk is om de strooischijven meer dan 55 cm. boven het gewas te heff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jbemesting &lt; 55 cm.: hiervan is sprake als er een gewas op het veld staat en het NIET mogelijk is om de strooischijven meer dan 55 cm. boven het gewas te heffen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draaiproe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fdraaipro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j een afdraaiproef wordt bij een vooraf ingestelde stand van de doseerschuif bekeken of de hoeveelheid kunstmest die er uitstroomt juist 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antstrooi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ant-af strooi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r wordt langs de perceelsrand gereden en is er een scherpe begrenzing van h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strooi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-Voordeel: geen kunstmest in het oppervlakte water of naast gelegen perce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-Nadeel: extra spoor in het gew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antstrooi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ant-opstrooi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r kan door de evt. spuitsporen gereden worden, maar is de begrenzing minder nauwkeuri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-Voordeel: geen extra spoor in het gew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-Nadeel: Kans dat er kunstmest in het oppervlakte water of naast gelegen perce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de zeefrangemete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ede kunstmest heef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en korrelgrootteverdeling die ligt tussen de 2.00 en 4.75 mm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763640" y="1916280"/>
            <a:ext cx="533412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908000" y="2060640"/>
            <a:ext cx="533412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ort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entrifugaalstrooi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endelstrooi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neumatische strooi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763640" y="1844640"/>
            <a:ext cx="533412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De korrelhardheidsmete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ede kunstmest kan tegen een stootje van minstens 4 kg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2484360" y="1341360"/>
            <a:ext cx="3811680" cy="50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2556000" y="1557360"/>
            <a:ext cx="3541680" cy="47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627280" y="1268280"/>
            <a:ext cx="3865680" cy="51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ndelstrooi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268360" y="1989000"/>
            <a:ext cx="4680000" cy="372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rkbreedte 2 – 15 me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ooibee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826920" y="4221000"/>
            <a:ext cx="7488360" cy="21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centrifugaalstrooier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Ratoflow strooier"/>
          <p:cNvPicPr/>
          <p:nvPr/>
        </p:nvPicPr>
        <p:blipFill>
          <a:blip r:embed="rId1"/>
          <a:stretch/>
        </p:blipFill>
        <p:spPr>
          <a:xfrm>
            <a:off x="1042920" y="1844640"/>
            <a:ext cx="6913800" cy="398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rkbreedte 6 – 45 me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ooibe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547640" y="3224160"/>
            <a:ext cx="6193080" cy="36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neumatische strooi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Pneumatisch kunstmest strooien"/>
          <p:cNvPicPr/>
          <p:nvPr/>
        </p:nvPicPr>
        <p:blipFill>
          <a:blip r:embed="rId1"/>
          <a:stretch/>
        </p:blipFill>
        <p:spPr>
          <a:xfrm>
            <a:off x="1042920" y="1341360"/>
            <a:ext cx="691200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rkbreedte tot 24 me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ooibee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042920" y="4149720"/>
            <a:ext cx="6985080" cy="21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ooibee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116000" y="1628640"/>
            <a:ext cx="7128000" cy="473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5T12:50:20Z</dcterms:created>
  <dc:creator>eyk</dc:creator>
  <dc:description/>
  <dc:language>en-US</dc:language>
  <cp:lastModifiedBy>eyk</cp:lastModifiedBy>
  <dcterms:modified xsi:type="dcterms:W3CDTF">2009-04-15T14:17:44Z</dcterms:modified>
  <cp:revision>2</cp:revision>
  <dc:subject/>
  <dc:title>Kunstmeststrooien</dc:title>
</cp:coreProperties>
</file>