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D78-F3C0-457D-865A-884D083F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BA8-9AC6-4597-AB80-7BD15306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AA07-42B0-4698-9548-CC089475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0D5-6C50-44D0-B7D0-079853D7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FEA8-E039-47E5-84C1-6E718B78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D7D6-3D80-4242-92B2-78F01A39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EEF-EFD7-4585-A0CC-AC977A4B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A480-C011-44C5-8D19-E1513767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729-D296-46D3-99A6-0A6AFB17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1DDA-7F35-49A7-A691-05CBAC0B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FF56-9E14-46EF-AEC9-6DC0EBC6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D6C1-C619-4E43-AC61-A72B04DE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118A-C5D1-45BA-8094-CF416153C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nstmeststroo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keerde afs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ar opletten bij het kunstmeststrooi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Juiste toer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Juiste snelhei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elijke openingen dose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ede aanbouwhoog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rooier schoon mak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et op de win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6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bemesting: hiervan is sprake als er geen gewas op het veld sta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bemesting &gt; 55 cm.: hiervan is sprake als er een gewas op het veld staat en het mogelijk is om de strooischijven meer dan 55 cm. boven het gewas te heff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bemesting &lt; 55 cm.: hiervan is sprake als er een gewas op het veld staat en het NIET mogelijk is om de strooischijven meer dan 55 cm. boven het gewas te heffe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draaipro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draaipro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een afdraaiproef wordt bij een vooraf ingestelde stand van de doseerschuif bekeken of de hoeveelheid kunstmest die er uitstroomt juis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ntstroo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t-af stroo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wordt langs de perceelsrand gereden en is er een scherpe begrenzing van h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stroo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Voordeel: geen kunstmest in het oppervlakte water of naast gelegen perc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Nadeel: extra spoor in het ge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ntstroo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t-opstroo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an door de evt. spuitsporen gereden worden, maar is de begrenzing minder nauwkeu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Voordeel: geen extra spoor in het ge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Nadeel: Kans dat er kunstmest in het oppervlakte water of naast gelegen perc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zeefrangeme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de kunstmest heef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korrelgrootteverdeling die ligt tussen de 2.00 en 4.75 m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ndel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e 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korrelhardheidsme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de kunstmest kan tegen een stootje van minstens 4 k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84360" y="1341360"/>
            <a:ext cx="38116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54168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8656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del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68000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breedte 2 – 1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oib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74883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entrifugaalstrooie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Ratoflow strooier"/>
          <p:cNvPicPr/>
          <p:nvPr/>
        </p:nvPicPr>
        <p:blipFill>
          <a:blip r:embed="rId1"/>
          <a:stretch/>
        </p:blipFill>
        <p:spPr>
          <a:xfrm>
            <a:off x="1042920" y="1844640"/>
            <a:ext cx="691380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breedte 6 – 4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oibe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47640" y="3224160"/>
            <a:ext cx="6193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neumatische 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Pneumatisch kunstmest strooien"/>
          <p:cNvPicPr/>
          <p:nvPr/>
        </p:nvPicPr>
        <p:blipFill>
          <a:blip r:embed="rId1"/>
          <a:stretch/>
        </p:blipFill>
        <p:spPr>
          <a:xfrm>
            <a:off x="1042920" y="13413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breedte tot 24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oib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698508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oi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128000" cy="47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2:50:20Z</dcterms:created>
  <dc:creator>eyk</dc:creator>
  <dc:description/>
  <dc:language>en-US</dc:language>
  <cp:lastModifiedBy>eyk</cp:lastModifiedBy>
  <dcterms:modified xsi:type="dcterms:W3CDTF">2009-04-15T14:17:44Z</dcterms:modified>
  <cp:revision>2</cp:revision>
  <dc:subject/>
  <dc:title>Kunstmeststrooien</dc:title>
</cp:coreProperties>
</file>