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3A25-6011-4ED8-8364-6B2098CB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3A8-DE15-4C97-834C-80D0E5AF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006-62A8-42D3-8415-941A262D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53E-6CB0-43A2-9601-0A796E3C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26D-D540-48D4-AE7B-70B0EDF1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9D4-F0FD-4858-98C5-FDCA4C13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E4D-BD6B-49B0-B8E9-12EC97C3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D4C-6964-4BFC-A3B2-654BF1CF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A8A7-CF21-4546-B25E-2DE080DD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CCA-C85F-47B0-9E66-72700433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F754-0A61-4E61-A71D-188407E6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B7B1-FEE4-4FCD-AE2F-B453D84C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3333-C0F4-4068-A1D3-FA96016CB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Afbeeldingsresultaat voor baggeren"/>
          <p:cNvPicPr/>
          <p:nvPr/>
        </p:nvPicPr>
        <p:blipFill>
          <a:blip r:embed="rId1"/>
          <a:stretch/>
        </p:blipFill>
        <p:spPr>
          <a:xfrm>
            <a:off x="1403280" y="3213000"/>
            <a:ext cx="6118200" cy="3441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Afbeeldingsresultaat voor baggeren boskalis"/>
          <p:cNvPicPr/>
          <p:nvPr/>
        </p:nvPicPr>
        <p:blipFill>
          <a:blip r:embed="rId2"/>
          <a:stretch/>
        </p:blipFill>
        <p:spPr>
          <a:xfrm>
            <a:off x="5435640" y="115920"/>
            <a:ext cx="3417840" cy="2442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Afbeeldingsresultaat voor baggeren"/>
          <p:cNvPicPr/>
          <p:nvPr/>
        </p:nvPicPr>
        <p:blipFill>
          <a:blip r:embed="rId3"/>
          <a:stretch/>
        </p:blipFill>
        <p:spPr>
          <a:xfrm>
            <a:off x="250920" y="260280"/>
            <a:ext cx="3205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doel va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voornamelijke doel van het baggeren is het afvoeren en verwijderen van nutrienten en zuren, die onstaan zijn door verschillende manieren van bemesting en verz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Afbeeldingsresultaat voor verzuring"/>
          <p:cNvPicPr/>
          <p:nvPr/>
        </p:nvPicPr>
        <p:blipFill>
          <a:blip r:embed="rId1"/>
          <a:stretch/>
        </p:blipFill>
        <p:spPr>
          <a:xfrm>
            <a:off x="2843280" y="4365720"/>
            <a:ext cx="2676600" cy="1974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Afbeeldingsresultaat voor vermesting"/>
          <p:cNvPicPr/>
          <p:nvPr/>
        </p:nvPicPr>
        <p:blipFill>
          <a:blip r:embed="rId2"/>
          <a:stretch/>
        </p:blipFill>
        <p:spPr>
          <a:xfrm>
            <a:off x="5651640" y="4149720"/>
            <a:ext cx="311760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 en nadelen baggeren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delen: Het verwijderen van nutrienten en zuren. Dit zorgt in de meeste gevallen voor een betere waterkwalit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adelen:Overlast door mechanisch equipement en transportbeweg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ns op schade aan omgeving en watergang of vijver zoals folievij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water ziet er niet uit na het baggeren en kan stin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preiding van ex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rete voorbeelden bag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werken op de Ma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schalig doormiddel van een b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geren in de polder door middel van een kr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fbeeldingsresultaat voor voorbeelden baggeren"/>
          <p:cNvPicPr/>
          <p:nvPr/>
        </p:nvPicPr>
        <p:blipFill>
          <a:blip r:embed="rId1"/>
          <a:stretch/>
        </p:blipFill>
        <p:spPr>
          <a:xfrm>
            <a:off x="6516720" y="2708280"/>
            <a:ext cx="215748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Afbeeldingsresultaat voor voorbeelden baggeren"/>
          <p:cNvPicPr/>
          <p:nvPr/>
        </p:nvPicPr>
        <p:blipFill>
          <a:blip r:embed="rId2"/>
          <a:stretch/>
        </p:blipFill>
        <p:spPr>
          <a:xfrm>
            <a:off x="4140360" y="4581360"/>
            <a:ext cx="36194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9:14:02Z</dcterms:created>
  <dc:creator>Gebruiker</dc:creator>
  <dc:description/>
  <dc:language>en-US</dc:language>
  <cp:lastModifiedBy>Gebruiker</cp:lastModifiedBy>
  <dcterms:modified xsi:type="dcterms:W3CDTF">2017-11-20T09:25:25Z</dcterms:modified>
  <cp:revision>2</cp:revision>
  <dc:subject/>
  <dc:title>Baggeren</dc:title>
</cp:coreProperties>
</file>