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76A7-F3E1-4831-BB8C-9D5CEBA28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8B16-C973-43B4-A9FC-C29938575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AC91-3B60-4474-ADD7-9B3576B4F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4111-3F7E-49A5-9570-0C8B932CD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3EDB-7FFD-4860-AAD2-8D41E0BD8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5F43-8F55-4AF6-8533-7ACA113ED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19F7-225F-4A62-91A0-D60BECD16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5AA8-E457-427D-82CA-B402F2EA0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E539-E619-473C-924B-E62EA753B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D8A5-BDE1-4301-9C86-E001D34B4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A484-774B-42B7-BDC2-1C1FE2C5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9C03-7BF4-44BC-8916-41FA9A2EF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439BC-6C2E-4607-8765-35DAC6ADB0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g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Afbeeldingsresultaat voor baggeren"/>
          <p:cNvPicPr/>
          <p:nvPr/>
        </p:nvPicPr>
        <p:blipFill>
          <a:blip r:embed="rId1"/>
          <a:stretch/>
        </p:blipFill>
        <p:spPr>
          <a:xfrm>
            <a:off x="1403280" y="3213000"/>
            <a:ext cx="6118200" cy="3441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Afbeeldingsresultaat voor baggeren boskalis"/>
          <p:cNvPicPr/>
          <p:nvPr/>
        </p:nvPicPr>
        <p:blipFill>
          <a:blip r:embed="rId2"/>
          <a:stretch/>
        </p:blipFill>
        <p:spPr>
          <a:xfrm>
            <a:off x="5435640" y="115920"/>
            <a:ext cx="3417840" cy="24429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Afbeeldingsresultaat voor baggeren"/>
          <p:cNvPicPr/>
          <p:nvPr/>
        </p:nvPicPr>
        <p:blipFill>
          <a:blip r:embed="rId3"/>
          <a:stretch/>
        </p:blipFill>
        <p:spPr>
          <a:xfrm>
            <a:off x="250920" y="260280"/>
            <a:ext cx="320508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 doel van baggeren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voornamelijke doel van het baggeren is het afvoeren en verwijderen van nutrienten en zuren, die onstaan zijn door verschillende manieren van bemesting en verzu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Afbeeldingsresultaat voor verzuring"/>
          <p:cNvPicPr/>
          <p:nvPr/>
        </p:nvPicPr>
        <p:blipFill>
          <a:blip r:embed="rId1"/>
          <a:stretch/>
        </p:blipFill>
        <p:spPr>
          <a:xfrm>
            <a:off x="2843280" y="4365720"/>
            <a:ext cx="2676600" cy="1974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Afbeeldingsresultaat voor vermesting"/>
          <p:cNvPicPr/>
          <p:nvPr/>
        </p:nvPicPr>
        <p:blipFill>
          <a:blip r:embed="rId2"/>
          <a:stretch/>
        </p:blipFill>
        <p:spPr>
          <a:xfrm>
            <a:off x="5651640" y="4149720"/>
            <a:ext cx="3117600" cy="23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or en nadelen baggeren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delen: Het verwijderen van nutrienten en zuren. Dit zorgt in de meeste gevallen voor een betere waterkwalite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delen:Overlast door mechanisch equipement en transportbeweg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ans op schade aan omgeving en watergang of vijver zoals folievij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water ziet er niet uit na het baggeren en kan stin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spreiding van exo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rete voorbeelden bag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ggerwerken op de Ma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otschalig doormiddel van een bo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ggeren in de polder door middel van een kra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Afbeeldingsresultaat voor voorbeelden baggeren"/>
          <p:cNvPicPr/>
          <p:nvPr/>
        </p:nvPicPr>
        <p:blipFill>
          <a:blip r:embed="rId1"/>
          <a:stretch/>
        </p:blipFill>
        <p:spPr>
          <a:xfrm>
            <a:off x="6516720" y="2708280"/>
            <a:ext cx="2157480" cy="1212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Afbeeldingsresultaat voor voorbeelden baggeren"/>
          <p:cNvPicPr/>
          <p:nvPr/>
        </p:nvPicPr>
        <p:blipFill>
          <a:blip r:embed="rId2"/>
          <a:stretch/>
        </p:blipFill>
        <p:spPr>
          <a:xfrm>
            <a:off x="4140360" y="4581360"/>
            <a:ext cx="361944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20T09:14:02Z</dcterms:created>
  <dc:creator>Gebruiker</dc:creator>
  <dc:description/>
  <dc:language>en-US</dc:language>
  <cp:lastModifiedBy>Gebruiker</cp:lastModifiedBy>
  <dcterms:modified xsi:type="dcterms:W3CDTF">2017-11-20T09:25:25Z</dcterms:modified>
  <cp:revision>2</cp:revision>
  <dc:subject/>
  <dc:title>Baggeren</dc:title>
</cp:coreProperties>
</file>