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189-46B2-4DEC-BA0A-75304E43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707-AC2F-45D0-9F1B-5F2D19FC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21C-B92B-4152-82BA-C9FC2D51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571-9854-4F1B-9444-635FFD49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01C-DCA2-49C8-977F-21DF63E7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8BAD-928A-4B41-88C1-ABA72326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0AC3-FAA6-438F-9C95-8D33785F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89C-2863-49A5-BCB9-1CBBD878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083-F992-4460-98A9-00C0B247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85A-2A82-4F74-8A3E-63214CCF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EFB-340D-4F2D-9F59-A28A0FA9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E42-D52D-48A4-8168-6B659382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85DF-5A9C-4EF1-9C72-4A31392AF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Afbeeldingsresultaat voor baggeren"/>
          <p:cNvPicPr/>
          <p:nvPr/>
        </p:nvPicPr>
        <p:blipFill>
          <a:blip r:embed="rId1"/>
          <a:stretch/>
        </p:blipFill>
        <p:spPr>
          <a:xfrm>
            <a:off x="1403280" y="3213000"/>
            <a:ext cx="6118200" cy="344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Afbeeldingsresultaat voor baggeren boskalis"/>
          <p:cNvPicPr/>
          <p:nvPr/>
        </p:nvPicPr>
        <p:blipFill>
          <a:blip r:embed="rId2"/>
          <a:stretch/>
        </p:blipFill>
        <p:spPr>
          <a:xfrm>
            <a:off x="5435640" y="115920"/>
            <a:ext cx="3417840" cy="244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fbeeldingsresultaat voor baggeren"/>
          <p:cNvPicPr/>
          <p:nvPr/>
        </p:nvPicPr>
        <p:blipFill>
          <a:blip r:embed="rId3"/>
          <a:stretch/>
        </p:blipFill>
        <p:spPr>
          <a:xfrm>
            <a:off x="250920" y="260280"/>
            <a:ext cx="32050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doel va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voornamelijke doel van het baggeren is het afvoeren en verwijderen van nutrienten en zuren, die onstaan zijn door verschillende manieren van bemesting en verz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fbeeldingsresultaat voor verzuring"/>
          <p:cNvPicPr/>
          <p:nvPr/>
        </p:nvPicPr>
        <p:blipFill>
          <a:blip r:embed="rId1"/>
          <a:stretch/>
        </p:blipFill>
        <p:spPr>
          <a:xfrm>
            <a:off x="2843280" y="4365720"/>
            <a:ext cx="2676600" cy="197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Afbeeldingsresultaat voor vermesting"/>
          <p:cNvPicPr/>
          <p:nvPr/>
        </p:nvPicPr>
        <p:blipFill>
          <a:blip r:embed="rId2"/>
          <a:stretch/>
        </p:blipFill>
        <p:spPr>
          <a:xfrm>
            <a:off x="5651640" y="4149720"/>
            <a:ext cx="31176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 en nadele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delen: Het verwijderen van nutrienten en zuren. Dit zorgt in de meeste gevallen voor een betere waterkwalit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delen:Overlast door mechanisch equipement en transport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ns op schade aan omgeving en watergang of vijver zoals folievij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water ziet er niet uit na het baggeren en kan sti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preiding van ex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rete voorbeelden 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werken op de Ma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schalig doormiddel van een b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en in de polder door middel van een kr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fbeeldingsresultaat voor voorbeelden baggeren"/>
          <p:cNvPicPr/>
          <p:nvPr/>
        </p:nvPicPr>
        <p:blipFill>
          <a:blip r:embed="rId1"/>
          <a:stretch/>
        </p:blipFill>
        <p:spPr>
          <a:xfrm>
            <a:off x="6516720" y="2708280"/>
            <a:ext cx="215748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Afbeeldingsresultaat voor voorbeelden baggeren"/>
          <p:cNvPicPr/>
          <p:nvPr/>
        </p:nvPicPr>
        <p:blipFill>
          <a:blip r:embed="rId2"/>
          <a:stretch/>
        </p:blipFill>
        <p:spPr>
          <a:xfrm>
            <a:off x="4140360" y="458136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9:14:02Z</dcterms:created>
  <dc:creator>Gebruiker</dc:creator>
  <dc:description/>
  <dc:language>en-US</dc:language>
  <cp:lastModifiedBy>Gebruiker</cp:lastModifiedBy>
  <dcterms:modified xsi:type="dcterms:W3CDTF">2017-11-20T09:25:25Z</dcterms:modified>
  <cp:revision>2</cp:revision>
  <dc:subject/>
  <dc:title>Baggeren</dc:title>
</cp:coreProperties>
</file>