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574-2553-430B-9113-0C008E3B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03C-8E23-42E8-8041-8226A489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17D-C946-4612-B932-8884DA3C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069-C288-49CC-9419-43F5E090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9B30-1D8C-4448-907B-7A8BB02D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DD3-7F03-4113-A047-8F1896DD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87B-AFB9-4E3D-A6A2-BB99A217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2C3-D677-4694-A376-2F522C60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391-AFE3-423F-9BEC-E6B32B30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392-5B41-42C8-8723-291D6EC1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DFC-CB0F-4264-9D0F-CE747FF0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EB1-91C4-43DF-BE88-18748235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3988-AE2E-4677-859F-BD45CE588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Afbeeldingsresultaat voor baggeren"/>
          <p:cNvPicPr/>
          <p:nvPr/>
        </p:nvPicPr>
        <p:blipFill>
          <a:blip r:embed="rId1"/>
          <a:stretch/>
        </p:blipFill>
        <p:spPr>
          <a:xfrm>
            <a:off x="1403280" y="3213000"/>
            <a:ext cx="6118200" cy="344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Afbeeldingsresultaat voor baggeren boskalis"/>
          <p:cNvPicPr/>
          <p:nvPr/>
        </p:nvPicPr>
        <p:blipFill>
          <a:blip r:embed="rId2"/>
          <a:stretch/>
        </p:blipFill>
        <p:spPr>
          <a:xfrm>
            <a:off x="5435640" y="115920"/>
            <a:ext cx="3417840" cy="244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fbeeldingsresultaat voor baggeren"/>
          <p:cNvPicPr/>
          <p:nvPr/>
        </p:nvPicPr>
        <p:blipFill>
          <a:blip r:embed="rId3"/>
          <a:stretch/>
        </p:blipFill>
        <p:spPr>
          <a:xfrm>
            <a:off x="250920" y="260280"/>
            <a:ext cx="32050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doel va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voornamelijke doel van het baggeren is het afvoeren en verwijderen van nutrienten en zuren, die onstaan zijn door verschillende manieren van bemesting en verz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fbeeldingsresultaat voor verzuring"/>
          <p:cNvPicPr/>
          <p:nvPr/>
        </p:nvPicPr>
        <p:blipFill>
          <a:blip r:embed="rId1"/>
          <a:stretch/>
        </p:blipFill>
        <p:spPr>
          <a:xfrm>
            <a:off x="2843280" y="4365720"/>
            <a:ext cx="2676600" cy="197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Afbeeldingsresultaat voor vermesting"/>
          <p:cNvPicPr/>
          <p:nvPr/>
        </p:nvPicPr>
        <p:blipFill>
          <a:blip r:embed="rId2"/>
          <a:stretch/>
        </p:blipFill>
        <p:spPr>
          <a:xfrm>
            <a:off x="5651640" y="4149720"/>
            <a:ext cx="31176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 en nadele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delen: Het verwijderen van nutrienten en zuren. Dit zorgt in de meeste gevallen voor een betere waterkwalit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delen:Overlast door mechanisch equipement en transport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ns op schade aan omgeving en watergang of vijver zoals folievij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water ziet er niet uit na het baggeren en kan sti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preiding van ex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rete voorbeelden 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werken op de Ma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schalig doormiddel van een b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en in de polder door middel van een kr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fbeeldingsresultaat voor voorbeelden baggeren"/>
          <p:cNvPicPr/>
          <p:nvPr/>
        </p:nvPicPr>
        <p:blipFill>
          <a:blip r:embed="rId1"/>
          <a:stretch/>
        </p:blipFill>
        <p:spPr>
          <a:xfrm>
            <a:off x="6516720" y="2708280"/>
            <a:ext cx="215748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Afbeeldingsresultaat voor voorbeelden baggeren"/>
          <p:cNvPicPr/>
          <p:nvPr/>
        </p:nvPicPr>
        <p:blipFill>
          <a:blip r:embed="rId2"/>
          <a:stretch/>
        </p:blipFill>
        <p:spPr>
          <a:xfrm>
            <a:off x="4140360" y="458136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9:14:02Z</dcterms:created>
  <dc:creator>Gebruiker</dc:creator>
  <dc:description/>
  <dc:language>en-US</dc:language>
  <cp:lastModifiedBy>Gebruiker</cp:lastModifiedBy>
  <dcterms:modified xsi:type="dcterms:W3CDTF">2017-11-20T09:25:25Z</dcterms:modified>
  <cp:revision>2</cp:revision>
  <dc:subject/>
  <dc:title>Baggeren</dc:title>
</cp:coreProperties>
</file>